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1206671-5891-426E-98ED-5AAB5336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0C9F312-E8B8-4E68-9D7F-05F7697D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48EABBC-AD66-4225-83CF-F09491FF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492A7A2-4817-42B0-9850-FCBA028F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7A2-7558-44D3-A1FF-3A706A65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F27-043A-4F02-B771-1CCA3BE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308-34AD-4BD1-ADC4-130853CB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842-E9CA-4970-B12A-98BF8FF9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D2E-2759-471E-8DC5-0777CEA4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4BB-D7F6-4C13-8068-6B3252FE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369-91A4-4299-9FB3-BD66621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4E9-7CEE-48FC-9B77-FF3A2BA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06B-09F9-4999-906B-D24B33C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4B7-0049-4C88-B6E1-29EAE94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399-08CE-44A0-A672-69B1E40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1E2-C18C-47B7-AEE7-68CD96F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B0D-0A77-4613-8C42-72FF7A1C1E42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BF2-99CA-4F81-84E6-51A871CA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580-55BA-468D-8BF2-BCEBC5522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6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7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8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9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10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119-0EE8-4D73-A064-469AB5A0C9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1"/>
          <p:cNvSpPr/>
          <p:nvPr/>
        </p:nvSpPr>
        <p:spPr>
          <a:xfrm>
            <a:off x="6232680" y="836640"/>
            <a:ext cx="2911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1] CNS 29191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2] CNS 29100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4A7-48C7-4F19-B22F-FB707518CE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54B-F6B4-43AC-84E7-07F470AD8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2" name="Picture 4" descr="box_reflex3"/>
            <p:cNvPicPr/>
            <p:nvPr/>
          </p:nvPicPr>
          <p:blipFill>
            <a:blip r:embed="rId1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5" name="Picture 8" descr="box_reflex3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8" name="Picture 11" descr="box_reflex3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9D3-7341-4D06-9727-7899D7F07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0D00-8A68-4256-8F0A-73CDAA574C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A52-B563-4507-B543-0F3DC394FD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661-42B6-4BED-A92B-9D76E83FE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8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9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2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4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6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8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圆角矩形 7"/>
            <p:cNvGrpSpPr/>
            <p:nvPr/>
          </p:nvGrpSpPr>
          <p:grpSpPr>
            <a:xfrm>
              <a:off x="1585080" y="1536120"/>
              <a:ext cx="1999440" cy="371520"/>
              <a:chOff x="1585080" y="1536120"/>
              <a:chExt cx="1999440" cy="371520"/>
            </a:xfrm>
          </p:grpSpPr>
          <p:pic>
            <p:nvPicPr>
              <p:cNvPr id="280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5080" y="153612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160128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1760-C081-41BB-91B3-6C421561D8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5DF-8A68-453C-8D5D-523E5E693E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2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3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6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8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300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2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4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9DC-106F-4EB3-B235-1DD683FB67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F6A4-F269-4DE2-884D-20214FAF6A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85F-0FD2-43E5-8DC4-B95F97BDE3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C6A-AA47-486A-9A53-97064E4F63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2206-CBB9-4473-8526-DE88453144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CFB1-25E9-4690-95D2-17F251387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65E-171B-4F8C-819E-22CEBFE3AB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6" name="Rectangle 134" descr=""/>
            <p:cNvPicPr/>
            <p:nvPr/>
          </p:nvPicPr>
          <p:blipFill>
            <a:blip r:embed="rId1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ounded Rectangle 103" descr=""/>
          <p:cNvPicPr/>
          <p:nvPr/>
        </p:nvPicPr>
        <p:blipFill>
          <a:blip r:embed="rId2"/>
          <a:stretch/>
        </p:blipFill>
        <p:spPr>
          <a:xfrm>
            <a:off x="542880" y="4572000"/>
            <a:ext cx="801540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4705200" y="1127160"/>
            <a:ext cx="3445200" cy="446040"/>
            <a:chOff x="4705200" y="1127160"/>
            <a:chExt cx="3445200" cy="446040"/>
          </a:xfrm>
        </p:grpSpPr>
        <p:pic>
          <p:nvPicPr>
            <p:cNvPr id="343" name="AutoShape 4" descr=""/>
            <p:cNvPicPr/>
            <p:nvPr/>
          </p:nvPicPr>
          <p:blipFill>
            <a:blip r:embed="rId3"/>
            <a:stretch/>
          </p:blipFill>
          <p:spPr>
            <a:xfrm>
              <a:off x="4705200" y="1127160"/>
              <a:ext cx="34452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784760" y="1203480"/>
              <a:ext cx="32907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Oval 106"/>
          <p:cNvGrpSpPr/>
          <p:nvPr/>
        </p:nvGrpSpPr>
        <p:grpSpPr>
          <a:xfrm>
            <a:off x="4853160" y="1494000"/>
            <a:ext cx="268200" cy="261720"/>
            <a:chOff x="4853160" y="1494000"/>
            <a:chExt cx="268200" cy="261720"/>
          </a:xfrm>
        </p:grpSpPr>
        <p:pic>
          <p:nvPicPr>
            <p:cNvPr id="346" name="Oval 106" descr=""/>
            <p:cNvPicPr/>
            <p:nvPr/>
          </p:nvPicPr>
          <p:blipFill>
            <a:blip r:embed="rId4"/>
            <a:stretch/>
          </p:blipFill>
          <p:spPr>
            <a:xfrm>
              <a:off x="4853160" y="1494000"/>
              <a:ext cx="2682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929120" y="1547640"/>
              <a:ext cx="1144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2"/>
          <p:cNvGrpSpPr/>
          <p:nvPr/>
        </p:nvGrpSpPr>
        <p:grpSpPr>
          <a:xfrm>
            <a:off x="1298520" y="1511280"/>
            <a:ext cx="2908080" cy="1670040"/>
            <a:chOff x="1298520" y="1511280"/>
            <a:chExt cx="2908080" cy="1670040"/>
          </a:xfrm>
        </p:grpSpPr>
        <p:pic>
          <p:nvPicPr>
            <p:cNvPr id="350" name="Rectangle 2" descr=""/>
            <p:cNvPicPr/>
            <p:nvPr/>
          </p:nvPicPr>
          <p:blipFill>
            <a:blip r:embed="rId5"/>
            <a:stretch/>
          </p:blipFill>
          <p:spPr>
            <a:xfrm>
              <a:off x="1298520" y="1511280"/>
              <a:ext cx="2907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299960" y="1514520"/>
              <a:ext cx="29066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AutoShape 4"/>
          <p:cNvGrpSpPr/>
          <p:nvPr/>
        </p:nvGrpSpPr>
        <p:grpSpPr>
          <a:xfrm>
            <a:off x="1146240" y="1127160"/>
            <a:ext cx="3365280" cy="446040"/>
            <a:chOff x="1146240" y="1127160"/>
            <a:chExt cx="3365280" cy="446040"/>
          </a:xfrm>
        </p:grpSpPr>
        <p:pic>
          <p:nvPicPr>
            <p:cNvPr id="353" name="AutoShape 4" descr=""/>
            <p:cNvPicPr/>
            <p:nvPr/>
          </p:nvPicPr>
          <p:blipFill>
            <a:blip r:embed="rId6"/>
            <a:stretch/>
          </p:blipFill>
          <p:spPr>
            <a:xfrm>
              <a:off x="1146240" y="1127160"/>
              <a:ext cx="3365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22200" y="1201680"/>
              <a:ext cx="32166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Oval 110"/>
          <p:cNvGrpSpPr/>
          <p:nvPr/>
        </p:nvGrpSpPr>
        <p:grpSpPr>
          <a:xfrm>
            <a:off x="1225440" y="1517760"/>
            <a:ext cx="268560" cy="261720"/>
            <a:chOff x="1225440" y="1517760"/>
            <a:chExt cx="268560" cy="261720"/>
          </a:xfrm>
        </p:grpSpPr>
        <p:pic>
          <p:nvPicPr>
            <p:cNvPr id="356" name="Oval 110" descr=""/>
            <p:cNvPicPr/>
            <p:nvPr/>
          </p:nvPicPr>
          <p:blipFill>
            <a:blip r:embed="rId7"/>
            <a:stretch/>
          </p:blipFill>
          <p:spPr>
            <a:xfrm>
              <a:off x="1225440" y="1517760"/>
              <a:ext cx="2685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3200" y="1569960"/>
              <a:ext cx="1126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Oval 113" descr=""/>
          <p:cNvPicPr/>
          <p:nvPr/>
        </p:nvPicPr>
        <p:blipFill>
          <a:blip r:embed="rId8"/>
          <a:stretch/>
        </p:blipFill>
        <p:spPr>
          <a:xfrm>
            <a:off x="4973760" y="3365640"/>
            <a:ext cx="232884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1" name="Oval 116" descr=""/>
            <p:cNvPicPr/>
            <p:nvPr/>
          </p:nvPicPr>
          <p:blipFill>
            <a:blip r:embed="rId9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Rectangle 117" descr=""/>
            <p:cNvPicPr/>
            <p:nvPr/>
          </p:nvPicPr>
          <p:blipFill>
            <a:blip r:embed="rId10"/>
            <a:stretch/>
          </p:blipFill>
          <p:spPr>
            <a:xfrm>
              <a:off x="2268360" y="3523320"/>
              <a:ext cx="141480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Rectangle 117" descr=""/>
          <p:cNvPicPr/>
          <p:nvPr/>
        </p:nvPicPr>
        <p:blipFill>
          <a:blip r:embed="rId11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43" descr=""/>
          <p:cNvPicPr/>
          <p:nvPr/>
        </p:nvPicPr>
        <p:blipFill>
          <a:blip r:embed="rId12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5" name="Freeform 53" descr=""/>
          <p:cNvPicPr/>
          <p:nvPr/>
        </p:nvPicPr>
        <p:blipFill>
          <a:blip r:embed="rId13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E921-E762-4D34-8DB7-B81B8FF575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694-2BEE-4857-A681-0D8DC3CA6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p_10"/>
          <p:cNvPicPr/>
          <p:nvPr/>
        </p:nvPicPr>
        <p:blipFill>
          <a:blip r:embed="rId1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085-73FA-435C-8C3B-32784B1C8F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FF6-A8EC-4F4F-9306-2BBB358673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6891-0F34-4D2B-8BE2-13D1721533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7D1-4925-45A5-90EA-F7E39EAD10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C541-91DA-4A55-B3E6-A2D0A8F579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771A-9AA6-44F1-9E68-C328A945D4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E4C-0779-4B76-B651-9DDD20A5C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2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3FF-8BFD-4457-8470-60CBC07B97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F48-CF06-4EB4-A9C7-F1AEFD148A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3EB-B77B-46DB-9857-A80A4CEBE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1000" y="1484280"/>
              <a:ext cx="3987720" cy="4845240"/>
            </a:xfrm>
            <a:custGeom>
              <a:avLst/>
              <a:gdLst>
                <a:gd name="textAreaLeft" fmla="*/ 103320 w 3987720"/>
                <a:gd name="textAreaRight" fmla="*/ 3884400 w 398772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4">
                  <a:moveTo>
                    <a:pt x="1913" y="0"/>
                  </a:moveTo>
                  <a:arcTo wR="1913" hR="1913" stAng="16200000" swAng="-5400000"/>
                  <a:lnTo>
                    <a:pt x="0" y="24331"/>
                  </a:lnTo>
                  <a:arcTo wR="1913" hR="1913" stAng="10800000" swAng="-5400000"/>
                  <a:lnTo>
                    <a:pt x="19687" y="26244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824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8080" y="1268280"/>
            <a:ext cx="1998360" cy="371520"/>
            <a:chOff x="1378080" y="1268280"/>
            <a:chExt cx="199836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378080" y="1268280"/>
              <a:ext cx="1998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2120" y="1285920"/>
              <a:ext cx="1967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30840" y="1279440"/>
            <a:ext cx="1992240" cy="378000"/>
            <a:chOff x="5730840" y="1279440"/>
            <a:chExt cx="1992240" cy="378000"/>
          </a:xfrm>
        </p:grpSpPr>
        <p:pic>
          <p:nvPicPr>
            <p:cNvPr id="137" name="圆角矩形 7" descr=""/>
            <p:cNvPicPr/>
            <p:nvPr/>
          </p:nvPicPr>
          <p:blipFill>
            <a:blip r:embed="rId2"/>
            <a:stretch/>
          </p:blipFill>
          <p:spPr>
            <a:xfrm>
              <a:off x="5730840" y="1279440"/>
              <a:ext cx="19922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5240" y="1297080"/>
              <a:ext cx="1965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2CC-B974-428A-8D05-26072C5DD0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2A46-0C34-47AB-A074-BAEACC4C6F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051-52EF-4F70-AFDF-106A6B5D94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劉蕙</cp:lastModifiedBy>
  <dcterms:modified xsi:type="dcterms:W3CDTF">2015-10-15T00:26:53Z</dcterms:modified>
  <cp:revision>1822</cp:revision>
  <dc:subject/>
  <dc:title>投影片 1</dc:title>
</cp:coreProperties>
</file>