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29.png" ContentType="image/png"/>
  <Override PartName="/ppt/media/image1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40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E797CE7-EAB4-4095-B928-D7561AB54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DF929E6C-BC96-48E7-9125-6AA9F61F7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14A114F-D2C0-41A2-9F3B-9BC8DC0A1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投影片編號版面配置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8C93389-EDDA-4B5C-B32B-A7F9BD65C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26B-2C1D-4BE7-AEB6-00C8C2C0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224-4986-40F6-B392-F9980B49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CA2-A3C2-437E-B1BE-F6835E3E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F9C-E2BE-4AF1-BE06-87AF3BCE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023-F64D-4011-8C84-3FFB758D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602-F345-4FCE-86D8-1ECC920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B49-8C33-48BA-9EDD-7F6080D4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276-5D87-4549-AEED-33479ED2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1280" y="0"/>
            <a:ext cx="81723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11DB-8AF6-4040-8EB7-EA63FF1C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A9D-ED1E-4549-8794-C8E276B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ED4-CED9-4B24-8D90-E2A71BE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740-7EF4-4111-B796-39ECF9B7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CE0-762E-43EB-95F6-84EA245699AB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67480"/>
            <a:ext cx="289584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36F-5523-42C4-99E9-DE0C46F2E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經濟部"/>
          <p:cNvPicPr/>
          <p:nvPr/>
        </p:nvPicPr>
        <p:blipFill>
          <a:blip r:embed="rId10"/>
          <a:srcRect l="8736" t="38366" r="0" b="-4245"/>
          <a:stretch/>
        </p:blipFill>
        <p:spPr>
          <a:xfrm>
            <a:off x="0" y="0"/>
            <a:ext cx="26290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680" y="2293920"/>
            <a:ext cx="835344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「個人資料去識別化」驗證標準規範</a:t>
            </a:r>
            <a:br>
              <a:rPr sz="4000"/>
            </a:br>
            <a:r>
              <a:rPr b="1" lang="zh-TW" sz="4000" spc="-1" strike="noStrike">
                <a:solidFill>
                  <a:srgbClr val="000066"/>
                </a:solidFill>
                <a:latin typeface="Arial"/>
              </a:rPr>
              <a:t>   擬定及推廣情形</a:t>
            </a:r>
            <a:br>
              <a:rPr sz="3600"/>
            </a:b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403280" y="47242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標準檢驗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10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年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9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月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標楷體"/>
              </a:rPr>
              <a:t>24</a:t>
            </a:r>
            <a:r>
              <a:rPr b="0" lang="zh-TW" sz="2800" spc="-1" strike="noStrike">
                <a:solidFill>
                  <a:srgbClr val="333399"/>
                </a:solidFill>
                <a:latin typeface="Arial"/>
                <a:ea typeface="標楷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8DE1-2E45-448A-B44D-AED06B6F34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655640" y="-2700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15800" y="754200"/>
            <a:ext cx="87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91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部分匿名及部分去連結鑑別之要求事項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鑑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框架，並建立其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要求事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於某些具正當理由之情況下，可後續啟動重新識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適用大數據運用需重新識別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各應用系統具有自身之要求事項</a:t>
            </a:r>
            <a:r>
              <a:rPr b="0" lang="zh-TW" sz="2400" spc="-1" strike="noStrike">
                <a:solidFill>
                  <a:srgbClr val="000099"/>
                </a:solidFill>
                <a:latin typeface="Arial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故特定實作可能與標準所述流程有所差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〝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部分匿名及部分去連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意謂可指定開啟者，且僅該指定開啟者，可識別該鑑別之個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圖片 2" descr=""/>
          <p:cNvPicPr/>
          <p:nvPr/>
        </p:nvPicPr>
        <p:blipFill>
          <a:blip r:embed="rId3"/>
          <a:stretch/>
        </p:blipFill>
        <p:spPr>
          <a:xfrm>
            <a:off x="1960560" y="5457960"/>
            <a:ext cx="1641600" cy="1071360"/>
          </a:xfrm>
          <a:prstGeom prst="rect">
            <a:avLst/>
          </a:prstGeom>
          <a:ln w="0">
            <a:noFill/>
          </a:ln>
        </p:spPr>
      </p:pic>
      <p:pic>
        <p:nvPicPr>
          <p:cNvPr id="178" name="圖片 3" descr=""/>
          <p:cNvPicPr/>
          <p:nvPr/>
        </p:nvPicPr>
        <p:blipFill>
          <a:blip r:embed="rId4"/>
          <a:stretch/>
        </p:blipFill>
        <p:spPr>
          <a:xfrm>
            <a:off x="3727440" y="546264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11" descr=""/>
          <p:cNvPicPr/>
          <p:nvPr/>
        </p:nvPicPr>
        <p:blipFill>
          <a:blip r:embed="rId5"/>
          <a:stretch/>
        </p:blipFill>
        <p:spPr>
          <a:xfrm>
            <a:off x="201600" y="5442120"/>
            <a:ext cx="1641600" cy="1063440"/>
          </a:xfrm>
          <a:prstGeom prst="rect">
            <a:avLst/>
          </a:prstGeom>
          <a:ln w="0">
            <a:noFill/>
          </a:ln>
        </p:spPr>
      </p:pic>
      <p:pic>
        <p:nvPicPr>
          <p:cNvPr id="180" name="圖片 12" descr=""/>
          <p:cNvPicPr/>
          <p:nvPr/>
        </p:nvPicPr>
        <p:blipFill>
          <a:blip r:embed="rId6"/>
          <a:stretch/>
        </p:blipFill>
        <p:spPr>
          <a:xfrm>
            <a:off x="7308720" y="5445000"/>
            <a:ext cx="1641600" cy="1063800"/>
          </a:xfrm>
          <a:prstGeom prst="rect">
            <a:avLst/>
          </a:prstGeom>
          <a:ln w="0">
            <a:noFill/>
          </a:ln>
        </p:spPr>
      </p:pic>
      <p:pic>
        <p:nvPicPr>
          <p:cNvPr id="181" name="圖片 14" descr=""/>
          <p:cNvPicPr/>
          <p:nvPr/>
        </p:nvPicPr>
        <p:blipFill>
          <a:blip r:embed="rId7"/>
          <a:stretch/>
        </p:blipFill>
        <p:spPr>
          <a:xfrm>
            <a:off x="5526000" y="5450040"/>
            <a:ext cx="163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50B-73CF-43CE-A63A-D625D29F10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492360" y="3070080"/>
            <a:ext cx="2409840" cy="3527640"/>
          </a:xfrm>
          <a:custGeom>
            <a:avLst/>
            <a:gdLst>
              <a:gd name="textAreaLeft" fmla="*/ 117360 w 2409840"/>
              <a:gd name="textAreaRight" fmla="*/ 2292480 w 2409840"/>
              <a:gd name="textAreaTop" fmla="*/ 117360 h 3527640"/>
              <a:gd name="textAreaBottom" fmla="*/ 3410280 h 3527640"/>
            </a:gdLst>
            <a:ahLst/>
            <a:rect l="textAreaLeft" t="textAreaTop" r="textAreaRight" b="textAreaBottom"/>
            <a:pathLst>
              <a:path w="21600" h="31618">
                <a:moveTo>
                  <a:pt x="3600" y="0"/>
                </a:moveTo>
                <a:arcTo wR="3600" hR="3600" stAng="16200000" swAng="-5400000"/>
                <a:lnTo>
                  <a:pt x="0" y="28018"/>
                </a:lnTo>
                <a:arcTo wR="3600" hR="3600" stAng="10800000" swAng="-5400000"/>
                <a:lnTo>
                  <a:pt x="18000" y="3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係由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內產、官、學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專家代表研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制定，已凝聚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界共識，且無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議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0000"/>
                </a:solidFill>
                <a:latin typeface="標楷體"/>
                <a:ea typeface="標楷體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95280" y="3070080"/>
            <a:ext cx="2881440" cy="3527640"/>
          </a:xfrm>
          <a:custGeom>
            <a:avLst/>
            <a:gdLst>
              <a:gd name="textAreaLeft" fmla="*/ 140400 w 2881440"/>
              <a:gd name="textAreaRight" fmla="*/ 2741040 w 2881440"/>
              <a:gd name="textAreaTop" fmla="*/ 140400 h 3527640"/>
              <a:gd name="textAreaBottom" fmla="*/ 3387240 h 3527640"/>
            </a:gdLst>
            <a:ahLst/>
            <a:rect l="textAreaLeft" t="textAreaTop" r="textAreaRight" b="textAreaBottom"/>
            <a:pathLst>
              <a:path w="21600" h="26443">
                <a:moveTo>
                  <a:pt x="3600" y="0"/>
                </a:moveTo>
                <a:arcTo wR="3600" hR="3600" stAng="16200000" swAng="-5400000"/>
                <a:lnTo>
                  <a:pt x="0" y="22843"/>
                </a:lnTo>
                <a:arcTo wR="3600" hR="3600" stAng="10800000" swAng="-5400000"/>
                <a:lnTo>
                  <a:pt x="18000" y="264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先求有，再求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目前國際上並無個人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料去識別化驗證標準及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證作法可資遵循，考量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過研析並整合相關的國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或準則訂定我國驗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標準，恐曠日費時，在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期內不易完成，亦無法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應國內之迫切需求。爰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階段採用我國與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(ISO)</a:t>
            </a:r>
            <a:r>
              <a:rPr b="1" lang="zh-TW" sz="1800" spc="-1" strike="noStrike">
                <a:solidFill>
                  <a:srgbClr val="0070c0"/>
                </a:solidFill>
                <a:latin typeface="Times New Roman"/>
                <a:ea typeface="標楷體"/>
              </a:rPr>
              <a:t>調和之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774880" y="1341360"/>
            <a:ext cx="3597120" cy="933120"/>
            <a:chOff x="2774880" y="1341360"/>
            <a:chExt cx="3597120" cy="933120"/>
          </a:xfrm>
        </p:grpSpPr>
        <p:sp>
          <p:nvSpPr>
            <p:cNvPr id="186" name="Oval 6"/>
            <p:cNvSpPr/>
            <p:nvPr/>
          </p:nvSpPr>
          <p:spPr>
            <a:xfrm>
              <a:off x="2814120" y="1370880"/>
              <a:ext cx="3557880" cy="903600"/>
            </a:xfrm>
            <a:prstGeom prst="ellipse">
              <a:avLst/>
            </a:prstGeom>
            <a:gradFill rotWithShape="0">
              <a:gsLst>
                <a:gs pos="0">
                  <a:srgbClr val="778e90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2774880" y="1341360"/>
              <a:ext cx="3557880" cy="903240"/>
            </a:xfrm>
            <a:prstGeom prst="ellipse">
              <a:avLst/>
            </a:prstGeom>
            <a:gradFill rotWithShape="0">
              <a:gsLst>
                <a:gs pos="0">
                  <a:srgbClr val="e1f1f3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2847960" y="1052640"/>
            <a:ext cx="3384360" cy="1079280"/>
            <a:chOff x="2847960" y="1052640"/>
            <a:chExt cx="3384360" cy="1079280"/>
          </a:xfrm>
        </p:grpSpPr>
        <p:sp>
          <p:nvSpPr>
            <p:cNvPr id="189" name="Oval 9"/>
            <p:cNvSpPr/>
            <p:nvPr/>
          </p:nvSpPr>
          <p:spPr>
            <a:xfrm>
              <a:off x="2847960" y="1052640"/>
              <a:ext cx="3384360" cy="1079280"/>
            </a:xfrm>
            <a:prstGeom prst="ellipse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2890800" y="1057680"/>
              <a:ext cx="3303360" cy="105516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dbed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1"/>
            <p:cNvSpPr/>
            <p:nvPr/>
          </p:nvSpPr>
          <p:spPr>
            <a:xfrm>
              <a:off x="2926080" y="1067760"/>
              <a:ext cx="3141000" cy="984600"/>
            </a:xfrm>
            <a:prstGeom prst="ellipse">
              <a:avLst/>
            </a:prstGeom>
            <a:gradFill rotWithShape="0">
              <a:gsLst>
                <a:gs pos="0">
                  <a:srgbClr val="79a200"/>
                </a:gs>
                <a:gs pos="100000">
                  <a:srgbClr val="99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2"/>
            <p:cNvSpPr/>
            <p:nvPr/>
          </p:nvSpPr>
          <p:spPr>
            <a:xfrm>
              <a:off x="3110040" y="1069560"/>
              <a:ext cx="2792160" cy="988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 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採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00</a:t>
              </a: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及</a:t>
              </a:r>
              <a:r>
                <a:rPr b="1" lang="pt-BR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CNS 291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說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3"/>
          <p:cNvSpPr/>
          <p:nvPr/>
        </p:nvSpPr>
        <p:spPr>
          <a:xfrm>
            <a:off x="6067440" y="3070080"/>
            <a:ext cx="2897280" cy="3527640"/>
          </a:xfrm>
          <a:custGeom>
            <a:avLst/>
            <a:gdLst>
              <a:gd name="textAreaLeft" fmla="*/ 141120 w 2897280"/>
              <a:gd name="textAreaRight" fmla="*/ 2756160 w 2897280"/>
              <a:gd name="textAreaTop" fmla="*/ 141120 h 3527640"/>
              <a:gd name="textAreaBottom" fmla="*/ 3386520 h 3527640"/>
            </a:gdLst>
            <a:ahLst/>
            <a:rect l="textAreaLeft" t="textAreaTop" r="textAreaRight" b="textAreaBottom"/>
            <a:pathLst>
              <a:path w="21600" h="26299">
                <a:moveTo>
                  <a:pt x="3600" y="0"/>
                </a:moveTo>
                <a:arcTo wR="3600" hR="3600" stAng="16200000" swAng="-5400000"/>
                <a:lnTo>
                  <a:pt x="0" y="22699"/>
                </a:lnTo>
                <a:arcTo wR="3600" hR="3600" stAng="10800000" swAng="-5400000"/>
                <a:lnTo>
                  <a:pt x="18000" y="262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家標準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pt-BR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CNS 29191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範疇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涵蓋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open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big data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等個人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料去識別化之應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4"/>
          <p:cNvSpPr/>
          <p:nvPr/>
        </p:nvSpPr>
        <p:spPr>
          <a:xfrm flipH="1" rot="6229800">
            <a:off x="1910520" y="1772640"/>
            <a:ext cx="790560" cy="1079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e9f5f6"/>
              </a:gs>
            </a:gsLst>
            <a:lin ang="62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5"/>
          <p:cNvSpPr/>
          <p:nvPr/>
        </p:nvSpPr>
        <p:spPr>
          <a:xfrm flipH="1" flipV="1" rot="3382800">
            <a:off x="6316920" y="1861920"/>
            <a:ext cx="1131840" cy="871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d7d7d7"/>
              </a:gs>
            </a:gsLst>
            <a:lin ang="182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4359240" y="227808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45b5b5">
                  <a:alpha val="40000"/>
                </a:srgbClr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4"/>
          <p:cNvSpPr/>
          <p:nvPr/>
        </p:nvSpPr>
        <p:spPr>
          <a:xfrm>
            <a:off x="0" y="1025640"/>
            <a:ext cx="2925720" cy="1249200"/>
          </a:xfrm>
          <a:prstGeom prst="rightArrowCallout">
            <a:avLst>
              <a:gd name="adj1" fmla="val 25002"/>
              <a:gd name="adj2" fmla="val 25000"/>
              <a:gd name="adj3" fmla="val 3571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他相關國際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亦在制定中，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調和相關國際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準列入中長期目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698400" y="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標楷體"/>
                <a:ea typeface="標楷體"/>
              </a:rPr>
              <a:t>採用說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2742-EDA0-4268-99D4-74ED0D7AAC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120" y="1125360"/>
            <a:ext cx="8713800" cy="5600880"/>
          </a:xfrm>
          <a:prstGeom prst="roundRect">
            <a:avLst>
              <a:gd name="adj" fmla="val 4079"/>
            </a:avLst>
          </a:prstGeom>
          <a:noFill/>
          <a:ln w="76320">
            <a:solidFill>
              <a:srgbClr val="0099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222120" y="1125360"/>
            <a:ext cx="8713800" cy="5472360"/>
          </a:xfrm>
          <a:prstGeom prst="roundRect">
            <a:avLst>
              <a:gd name="adj" fmla="val 4079"/>
            </a:avLst>
          </a:prstGeom>
          <a:noFill/>
          <a:ln w="381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2"/>
          <p:cNvSpPr/>
          <p:nvPr/>
        </p:nvSpPr>
        <p:spPr>
          <a:xfrm>
            <a:off x="1187280" y="3773520"/>
            <a:ext cx="2389320" cy="649080"/>
          </a:xfrm>
          <a:custGeom>
            <a:avLst/>
            <a:gdLst>
              <a:gd name="textAreaLeft" fmla="*/ 0 w 2389320"/>
              <a:gd name="textAreaRight" fmla="*/ 2389680 w 238932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412" h="406">
                <a:moveTo>
                  <a:pt x="0" y="262"/>
                </a:moveTo>
                <a:lnTo>
                  <a:pt x="650" y="0"/>
                </a:lnTo>
                <a:lnTo>
                  <a:pt x="1412" y="182"/>
                </a:lnTo>
                <a:lnTo>
                  <a:pt x="880" y="40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3"/>
          <p:cNvSpPr/>
          <p:nvPr/>
        </p:nvSpPr>
        <p:spPr>
          <a:xfrm>
            <a:off x="750960" y="4489560"/>
            <a:ext cx="3271680" cy="998280"/>
          </a:xfrm>
          <a:custGeom>
            <a:avLst/>
            <a:gdLst>
              <a:gd name="textAreaLeft" fmla="*/ 0 w 3271680"/>
              <a:gd name="textAreaRight" fmla="*/ 3272040 w 327168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2022" h="632">
                <a:moveTo>
                  <a:pt x="0" y="381"/>
                </a:moveTo>
                <a:lnTo>
                  <a:pt x="669" y="0"/>
                </a:lnTo>
                <a:lnTo>
                  <a:pt x="2022" y="247"/>
                </a:lnTo>
                <a:lnTo>
                  <a:pt x="1279" y="632"/>
                </a:lnTo>
                <a:lnTo>
                  <a:pt x="0" y="381"/>
                </a:lnTo>
                <a:close/>
              </a:path>
            </a:pathLst>
          </a:custGeom>
          <a:gradFill rotWithShape="0">
            <a:gsLst>
              <a:gs pos="0">
                <a:srgbClr val="359bc8"/>
              </a:gs>
              <a:gs pos="100000">
                <a:srgbClr val="6ab5d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1190520" y="2405160"/>
            <a:ext cx="1481400" cy="180000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646" h="886">
                <a:moveTo>
                  <a:pt x="518" y="0"/>
                </a:moveTo>
                <a:lnTo>
                  <a:pt x="0" y="776"/>
                </a:lnTo>
                <a:lnTo>
                  <a:pt x="646" y="886"/>
                </a:lnTo>
                <a:lnTo>
                  <a:pt x="51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2413080"/>
            <a:ext cx="1182600" cy="1792080"/>
          </a:xfrm>
          <a:custGeom>
            <a:avLst/>
            <a:gdLst>
              <a:gd name="textAreaLeft" fmla="*/ 0 w 1182600"/>
              <a:gd name="textAreaRight" fmla="*/ 1182960 w 118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514" h="882">
                <a:moveTo>
                  <a:pt x="0" y="0"/>
                </a:moveTo>
                <a:lnTo>
                  <a:pt x="514" y="716"/>
                </a:lnTo>
                <a:lnTo>
                  <a:pt x="126" y="8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4"/>
          <p:cNvSpPr/>
          <p:nvPr/>
        </p:nvSpPr>
        <p:spPr>
          <a:xfrm>
            <a:off x="736560" y="4184640"/>
            <a:ext cx="2063880" cy="102240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1024" h="520">
                <a:moveTo>
                  <a:pt x="228" y="0"/>
                </a:moveTo>
                <a:lnTo>
                  <a:pt x="968" y="116"/>
                </a:lnTo>
                <a:lnTo>
                  <a:pt x="1024" y="520"/>
                </a:lnTo>
                <a:lnTo>
                  <a:pt x="0" y="332"/>
                </a:lnTo>
                <a:lnTo>
                  <a:pt x="228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"/>
          <p:cNvSpPr/>
          <p:nvPr/>
        </p:nvSpPr>
        <p:spPr>
          <a:xfrm>
            <a:off x="289080" y="5084640"/>
            <a:ext cx="2654280" cy="1200240"/>
          </a:xfrm>
          <a:custGeom>
            <a:avLst/>
            <a:gdLst>
              <a:gd name="textAreaLeft" fmla="*/ 0 w 2654280"/>
              <a:gd name="textAreaRight" fmla="*/ 2654640 w 26542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1639" h="759">
                <a:moveTo>
                  <a:pt x="284" y="0"/>
                </a:moveTo>
                <a:lnTo>
                  <a:pt x="1560" y="244"/>
                </a:lnTo>
                <a:lnTo>
                  <a:pt x="1639" y="759"/>
                </a:lnTo>
                <a:lnTo>
                  <a:pt x="0" y="394"/>
                </a:lnTo>
                <a:lnTo>
                  <a:pt x="284" y="0"/>
                </a:lnTo>
                <a:close/>
              </a:path>
            </a:pathLst>
          </a:custGeom>
          <a:gradFill rotWithShape="0">
            <a:gsLst>
              <a:gs pos="0">
                <a:srgbClr val="ccebff"/>
              </a:gs>
              <a:gs pos="100000">
                <a:srgbClr val="d2e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0"/>
          <p:cNvSpPr/>
          <p:nvPr/>
        </p:nvSpPr>
        <p:spPr>
          <a:xfrm>
            <a:off x="2809800" y="4869000"/>
            <a:ext cx="1636920" cy="142380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1012" h="899">
                <a:moveTo>
                  <a:pt x="0" y="383"/>
                </a:moveTo>
                <a:lnTo>
                  <a:pt x="745" y="0"/>
                </a:lnTo>
                <a:lnTo>
                  <a:pt x="1012" y="346"/>
                </a:lnTo>
                <a:lnTo>
                  <a:pt x="78" y="899"/>
                </a:lnTo>
                <a:lnTo>
                  <a:pt x="0" y="383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1"/>
          <p:cNvSpPr/>
          <p:nvPr/>
        </p:nvSpPr>
        <p:spPr>
          <a:xfrm>
            <a:off x="2671920" y="4060800"/>
            <a:ext cx="1304640" cy="11527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648" h="588">
                <a:moveTo>
                  <a:pt x="0" y="176"/>
                </a:moveTo>
                <a:lnTo>
                  <a:pt x="444" y="0"/>
                </a:lnTo>
                <a:lnTo>
                  <a:pt x="648" y="296"/>
                </a:lnTo>
                <a:lnTo>
                  <a:pt x="56" y="588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88cde6"/>
              </a:gs>
              <a:gs pos="100000">
                <a:srgbClr val="74c5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8"/>
          <p:cNvSpPr/>
          <p:nvPr/>
        </p:nvSpPr>
        <p:spPr>
          <a:xfrm>
            <a:off x="3492360" y="5373720"/>
            <a:ext cx="21780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9"/>
          <p:cNvSpPr/>
          <p:nvPr/>
        </p:nvSpPr>
        <p:spPr>
          <a:xfrm>
            <a:off x="3179880" y="445932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40"/>
          <p:cNvSpPr/>
          <p:nvPr/>
        </p:nvSpPr>
        <p:spPr>
          <a:xfrm>
            <a:off x="2843280" y="3564000"/>
            <a:ext cx="217440" cy="209520"/>
          </a:xfrm>
          <a:prstGeom prst="ellipse">
            <a:avLst/>
          </a:prstGeom>
          <a:solidFill>
            <a:srgbClr val="23468b"/>
          </a:solidFill>
          <a:ln w="7632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1"/>
          <p:cNvSpPr/>
          <p:nvPr/>
        </p:nvSpPr>
        <p:spPr>
          <a:xfrm>
            <a:off x="4788000" y="1957320"/>
            <a:ext cx="3930480" cy="144000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2"/>
          <p:cNvSpPr/>
          <p:nvPr/>
        </p:nvSpPr>
        <p:spPr>
          <a:xfrm>
            <a:off x="4788000" y="3629160"/>
            <a:ext cx="3930480" cy="143964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3"/>
          <p:cNvSpPr/>
          <p:nvPr/>
        </p:nvSpPr>
        <p:spPr>
          <a:xfrm>
            <a:off x="4788000" y="5229360"/>
            <a:ext cx="3930480" cy="129528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6"/>
          <p:cNvSpPr/>
          <p:nvPr/>
        </p:nvSpPr>
        <p:spPr>
          <a:xfrm>
            <a:off x="3301920" y="4365720"/>
            <a:ext cx="1486080" cy="1951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936" h="123">
                <a:moveTo>
                  <a:pt x="0" y="123"/>
                </a:moveTo>
                <a:lnTo>
                  <a:pt x="256" y="0"/>
                </a:lnTo>
                <a:lnTo>
                  <a:pt x="936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8"/>
          <p:cNvSpPr/>
          <p:nvPr/>
        </p:nvSpPr>
        <p:spPr>
          <a:xfrm>
            <a:off x="2987640" y="2754360"/>
            <a:ext cx="1809720" cy="89064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1140" h="561">
                <a:moveTo>
                  <a:pt x="0" y="561"/>
                </a:moveTo>
                <a:lnTo>
                  <a:pt x="362" y="0"/>
                </a:lnTo>
                <a:lnTo>
                  <a:pt x="1140" y="0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0"/>
          <p:cNvSpPr/>
          <p:nvPr/>
        </p:nvSpPr>
        <p:spPr>
          <a:xfrm>
            <a:off x="3622680" y="5533920"/>
            <a:ext cx="1163520" cy="49860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733" h="314">
                <a:moveTo>
                  <a:pt x="0" y="0"/>
                </a:moveTo>
                <a:lnTo>
                  <a:pt x="239" y="314"/>
                </a:lnTo>
                <a:lnTo>
                  <a:pt x="733" y="314"/>
                </a:lnTo>
              </a:path>
            </a:pathLst>
          </a:custGeom>
          <a:noFill/>
          <a:ln w="19080">
            <a:solidFill>
              <a:srgbClr val="2346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 rot="584400">
            <a:off x="1007640" y="3408480"/>
            <a:ext cx="2160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原則要求</a:t>
            </a:r>
            <a:r>
              <a:rPr b="1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 rot="535800">
            <a:off x="841320" y="4414320"/>
            <a:ext cx="215892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相關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具體要求</a:t>
            </a:r>
            <a:r>
              <a:rPr b="1" lang="en-US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 rot="728400">
            <a:off x="622080" y="5295960"/>
            <a:ext cx="2158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標楷體"/>
                <a:ea typeface="標楷體"/>
              </a:rPr>
              <a:t>執行之作業程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4788000" y="1955880"/>
            <a:ext cx="4000320" cy="13939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調和之國家標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之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得被重新識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9"/>
          <p:cNvSpPr/>
          <p:nvPr/>
        </p:nvSpPr>
        <p:spPr>
          <a:xfrm>
            <a:off x="4788000" y="3668760"/>
            <a:ext cx="3898800" cy="1415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參照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要求及控制措施」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0"/>
          <p:cNvSpPr/>
          <p:nvPr/>
        </p:nvSpPr>
        <p:spPr>
          <a:xfrm>
            <a:off x="4826160" y="5122800"/>
            <a:ext cx="4000320" cy="15130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受驗證組織考量本身資料型態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標準要求及相關控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措施，自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置作業程序，以符合標準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971640" y="0"/>
            <a:ext cx="8424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制定控制措施，因應驗證作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"/>
          <p:cNvSpPr/>
          <p:nvPr/>
        </p:nvSpPr>
        <p:spPr>
          <a:xfrm>
            <a:off x="1077840" y="1312920"/>
            <a:ext cx="7056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驗證標準規範文件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投影片編號版面配置區 1"/>
          <p:cNvSpPr/>
          <p:nvPr/>
        </p:nvSpPr>
        <p:spPr>
          <a:xfrm>
            <a:off x="7010280" y="638172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685B-EA09-4250-BE4A-2AB6041910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3"/>
          <p:cNvSpPr/>
          <p:nvPr/>
        </p:nvSpPr>
        <p:spPr>
          <a:xfrm>
            <a:off x="7047000" y="5972040"/>
            <a:ext cx="213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 rot="1800000">
            <a:off x="871560" y="2617920"/>
            <a:ext cx="5400720" cy="1085760"/>
          </a:xfrm>
          <a:prstGeom prst="rightArrow">
            <a:avLst>
              <a:gd name="adj1" fmla="val 39694"/>
              <a:gd name="adj2" fmla="val 105908"/>
            </a:avLst>
          </a:prstGeom>
          <a:gradFill rotWithShape="0">
            <a:gsLst>
              <a:gs pos="0">
                <a:srgbClr val="ffffff">
                  <a:alpha val="15294"/>
                </a:srgbClr>
              </a:gs>
              <a:gs pos="100000">
                <a:srgbClr val="bbe0e3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1116000" y="1146240"/>
            <a:ext cx="1008000" cy="930240"/>
            <a:chOff x="1116000" y="1146240"/>
            <a:chExt cx="1008000" cy="930240"/>
          </a:xfrm>
        </p:grpSpPr>
        <p:pic>
          <p:nvPicPr>
            <p:cNvPr id="231" name="Picture 4" descr="box_reflex3"/>
            <p:cNvPicPr/>
            <p:nvPr/>
          </p:nvPicPr>
          <p:blipFill>
            <a:blip r:embed="rId2"/>
            <a:stretch/>
          </p:blipFill>
          <p:spPr>
            <a:xfrm>
              <a:off x="1116000" y="1146240"/>
              <a:ext cx="100800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5"/>
            <p:cNvSpPr/>
            <p:nvPr/>
          </p:nvSpPr>
          <p:spPr>
            <a:xfrm>
              <a:off x="1116000" y="1146240"/>
              <a:ext cx="10080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驗證標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標楷體"/>
                </a:rPr>
                <a:t>CNS 291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5651640" y="2874960"/>
            <a:ext cx="2736360" cy="2658600"/>
            <a:chOff x="5651640" y="2874960"/>
            <a:chExt cx="2736360" cy="2658600"/>
          </a:xfrm>
        </p:grpSpPr>
        <p:pic>
          <p:nvPicPr>
            <p:cNvPr id="234" name="Picture 8" descr="box_reflex3"/>
            <p:cNvPicPr/>
            <p:nvPr/>
          </p:nvPicPr>
          <p:blipFill>
            <a:blip r:embed="rId3">
              <a:lum contrast="24000"/>
            </a:blip>
            <a:stretch/>
          </p:blipFill>
          <p:spPr>
            <a:xfrm>
              <a:off x="5651640" y="2874960"/>
              <a:ext cx="2736360" cy="26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9"/>
            <p:cNvSpPr/>
            <p:nvPr/>
          </p:nvSpPr>
          <p:spPr>
            <a:xfrm>
              <a:off x="5651640" y="2874960"/>
              <a:ext cx="2736360" cy="26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實際執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之作業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(</a:t>
              </a: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可諮詢工研院巨資中心、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資策會科法所、或學界之</a:t>
              </a:r>
              <a:br>
                <a:rPr sz="1800"/>
              </a:br>
              <a:r>
                <a:rPr b="1" lang="zh-TW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經驗與相關技術文件</a:t>
              </a:r>
              <a:r>
                <a:rPr b="1" lang="en-US" sz="1800" spc="-1" strike="noStrike">
                  <a:solidFill>
                    <a:srgbClr val="cc3300"/>
                  </a:solidFill>
                  <a:latin typeface="標楷體"/>
                  <a:ea typeface="標楷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0"/>
          <p:cNvGrpSpPr/>
          <p:nvPr/>
        </p:nvGrpSpPr>
        <p:grpSpPr>
          <a:xfrm>
            <a:off x="2768760" y="1938240"/>
            <a:ext cx="1731960" cy="1763640"/>
            <a:chOff x="2768760" y="1938240"/>
            <a:chExt cx="1731960" cy="1763640"/>
          </a:xfrm>
        </p:grpSpPr>
        <p:pic>
          <p:nvPicPr>
            <p:cNvPr id="237" name="Picture 11" descr="box_reflex3"/>
            <p:cNvPicPr/>
            <p:nvPr/>
          </p:nvPicPr>
          <p:blipFill>
            <a:blip r:embed="rId4">
              <a:lum contrast="18000"/>
            </a:blip>
            <a:stretch/>
          </p:blipFill>
          <p:spPr>
            <a:xfrm>
              <a:off x="2768760" y="1938240"/>
              <a:ext cx="1731960" cy="17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12"/>
            <p:cNvSpPr/>
            <p:nvPr/>
          </p:nvSpPr>
          <p:spPr>
            <a:xfrm>
              <a:off x="2768760" y="1938240"/>
              <a:ext cx="173196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相關控制措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ISO 29101</a:t>
              </a: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等相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規範之控制措施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可參照「個人資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去識別化過程驗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要求及控制措施」</a:t>
              </a: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41"/>
          <p:cNvSpPr/>
          <p:nvPr/>
        </p:nvSpPr>
        <p:spPr>
          <a:xfrm>
            <a:off x="4529160" y="787320"/>
            <a:ext cx="4519440" cy="1913040"/>
          </a:xfrm>
          <a:prstGeom prst="roundRect">
            <a:avLst>
              <a:gd name="adj" fmla="val 13616"/>
            </a:avLst>
          </a:prstGeom>
          <a:solidFill>
            <a:srgbClr val="ffff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受驗證組織考量本身資料型態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標準要求及相關控制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措施，自行建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作業程序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通常由輔導機構協助建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驗證機構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確認受驗證組織之作業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及程序文件符合標準及控制措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2"/>
          <p:cNvSpPr/>
          <p:nvPr/>
        </p:nvSpPr>
        <p:spPr>
          <a:xfrm>
            <a:off x="50760" y="3708360"/>
            <a:ext cx="3124080" cy="2952720"/>
          </a:xfrm>
          <a:prstGeom prst="roundRect">
            <a:avLst>
              <a:gd name="adj" fmla="val 13616"/>
            </a:avLst>
          </a:prstGeom>
          <a:solidFill>
            <a:srgbClr val="ccecff"/>
          </a:solidFill>
          <a:ln w="31680">
            <a:solidFill>
              <a:srgbClr val="bad9ec"/>
            </a:solidFill>
            <a:miter/>
          </a:ln>
          <a:effectLst>
            <a:outerShdw dist="81185" dir="3078030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建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驗證標準採用國家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00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S 29191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措施採用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 29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等相關規範之控制措施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參照「個人資料去識別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過程驗證要求及控制措施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執行之作業程序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可諮詢</a:t>
            </a:r>
            <a:br>
              <a:rPr sz="1800"/>
            </a:b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工研院、資策會、或學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之經驗與相關技術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366920" y="-1260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文件之展開及驗證運用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9EF3-31A5-42D7-A30A-CE56AABF01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內容版面配置區 2"/>
          <p:cNvSpPr/>
          <p:nvPr/>
        </p:nvSpPr>
        <p:spPr>
          <a:xfrm>
            <a:off x="177840" y="658800"/>
            <a:ext cx="902808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據驗證標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及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基於驗證個人資料去識別化過程之目的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，參酌相關國際規範</a:t>
            </a:r>
            <a:r>
              <a:rPr b="1" lang="zh-TW" sz="2200" spc="-1" strike="noStrike">
                <a:solidFill>
                  <a:srgbClr val="000000"/>
                </a:solidFill>
                <a:latin typeface="Arial"/>
                <a:ea typeface="標楷體"/>
              </a:rPr>
              <a:t>，</a:t>
            </a: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訂定要求事項及控制措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參考之國際規範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1] CNS 29191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部分匿名及部分去連結鑑別之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2] CNS 29100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資訊技術－安全技術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-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隱私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3] CNS 27001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資訊技術－安全技術－資訊安全管理系統－要求事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4] ISO/IEC 27018:2014 Information technolog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Security techniques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 of practi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for protection of personally identifiable information (PII) in public clouds acting as PII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process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5] ISO/IEC 29101:2013 Information technology </a:t>
            </a:r>
            <a:r>
              <a:rPr b="0" lang="zh-TW" sz="1600" spc="-1" strike="noStrike">
                <a:solidFill>
                  <a:srgbClr val="ff0000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Security techniques -- Priva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architecture frame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6] ISO/TS 25237:2008 - Health informatics – Pseudonym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7] Simson L. Garfinkel, De-Identification of Personally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able Information,  DRAF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NISTIR 8053 1,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標楷體"/>
              </a:rPr>
              <a:t>[8] Anonymisation: managing data protection risk code of practice, ico, UK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https://ico.org.uk/media/1061/anonymisation </a:t>
            </a:r>
            <a:r>
              <a:rPr b="0" lang="zh-TW" sz="1600" spc="-1" strike="noStrike">
                <a:solidFill>
                  <a:srgbClr val="000099"/>
                </a:solidFill>
                <a:latin typeface="Arial"/>
                <a:ea typeface="標楷體"/>
              </a:rPr>
              <a:t>－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code.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9] IHE IT Infrastructure Technical Committee, IHE IT Infrastructure Handbook: D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Identification, 2014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[10] Bradley Malin, A De-identification Strategy Used for Sharing One Data Provider’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  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標楷體"/>
              </a:rPr>
              <a:t>Oncology Trials Data through the Project Data Sphere® Repository, 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230480" y="0"/>
            <a:ext cx="8424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控制措施參酌之國際規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EFEE-7B32-485C-9662-CCB2A9E9C9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4"/>
          <p:cNvSpPr/>
          <p:nvPr/>
        </p:nvSpPr>
        <p:spPr>
          <a:xfrm>
            <a:off x="3645000" y="1096920"/>
            <a:ext cx="1989000" cy="2928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265522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5"/>
          <p:cNvSpPr/>
          <p:nvPr/>
        </p:nvSpPr>
        <p:spPr>
          <a:xfrm rot="574800">
            <a:off x="1560600" y="2368440"/>
            <a:ext cx="3450960" cy="16178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9900"/>
              </a:gs>
            </a:gsLst>
            <a:lin ang="21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6"/>
          <p:cNvSpPr/>
          <p:nvPr/>
        </p:nvSpPr>
        <p:spPr>
          <a:xfrm rot="21118800">
            <a:off x="1552320" y="3939840"/>
            <a:ext cx="3473280" cy="1620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bc61cb"/>
              </a:gs>
              <a:gs pos="100000">
                <a:srgbClr val="572d5e"/>
              </a:gs>
            </a:gsLst>
            <a:lin ang="4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8"/>
          <p:cNvSpPr/>
          <p:nvPr/>
        </p:nvSpPr>
        <p:spPr>
          <a:xfrm rot="521400">
            <a:off x="4300200" y="4035600"/>
            <a:ext cx="3314520" cy="15127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763a1c"/>
              </a:gs>
              <a:gs pos="100000">
                <a:srgbClr val="ff7e3d"/>
              </a:gs>
            </a:gsLst>
            <a:lin ang="217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"/>
          <p:cNvSpPr/>
          <p:nvPr/>
        </p:nvSpPr>
        <p:spPr>
          <a:xfrm>
            <a:off x="3635280" y="3936960"/>
            <a:ext cx="1893960" cy="283212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solidFill>
            <a:srgbClr val="ff5b9d"/>
          </a:soli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"/>
          <p:cNvSpPr/>
          <p:nvPr/>
        </p:nvSpPr>
        <p:spPr>
          <a:xfrm rot="21130800">
            <a:off x="4402080" y="2452680"/>
            <a:ext cx="3409920" cy="15955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00b0f0"/>
              </a:gs>
              <a:gs pos="100000">
                <a:srgbClr val="00b0f0"/>
              </a:gs>
            </a:gsLst>
            <a:lin ang="193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450"/>
          <p:cNvSpPr/>
          <p:nvPr/>
        </p:nvSpPr>
        <p:spPr>
          <a:xfrm>
            <a:off x="2187720" y="2622600"/>
            <a:ext cx="1784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去識別化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1"/>
          <p:cNvSpPr/>
          <p:nvPr/>
        </p:nvSpPr>
        <p:spPr>
          <a:xfrm>
            <a:off x="2068560" y="4233960"/>
            <a:ext cx="163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重新識別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要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2"/>
          <p:cNvSpPr/>
          <p:nvPr/>
        </p:nvSpPr>
        <p:spPr>
          <a:xfrm>
            <a:off x="5276880" y="2719440"/>
            <a:ext cx="187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風險管理過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3708360" y="5253120"/>
            <a:ext cx="17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PII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之隱私權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50"/>
          <p:cNvSpPr/>
          <p:nvPr/>
        </p:nvSpPr>
        <p:spPr>
          <a:xfrm>
            <a:off x="3751200" y="1652760"/>
            <a:ext cx="1882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用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及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450"/>
          <p:cNvSpPr/>
          <p:nvPr/>
        </p:nvSpPr>
        <p:spPr>
          <a:xfrm>
            <a:off x="5484960" y="4449600"/>
            <a:ext cx="169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隱私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1"/>
          <p:cNvSpPr/>
          <p:nvPr/>
        </p:nvSpPr>
        <p:spPr>
          <a:xfrm>
            <a:off x="69840" y="1363680"/>
            <a:ext cx="176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「個人資料去識別化過程驗證要求及控制措施」基於驗證個人資料去識別化過程之目的，內容包括右列項目，並訂定相關要求事項及控制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3780000" y="3284640"/>
            <a:ext cx="1525320" cy="1344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8"/>
          <p:cNvSpPr/>
          <p:nvPr/>
        </p:nvSpPr>
        <p:spPr>
          <a:xfrm>
            <a:off x="3914640" y="3362400"/>
            <a:ext cx="14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過程驗證要求及控制措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950760" y="11160"/>
            <a:ext cx="8425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「個人資料去識別化過程驗證要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</a:t>
            </a: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及控制措施」架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928A-AC0E-4964-A491-261ECB1865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939A-FC82-4010-BDC7-0FBF247F3C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密集召開會議，研訂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群組 4"/>
          <p:cNvGrpSpPr/>
          <p:nvPr/>
        </p:nvGrpSpPr>
        <p:grpSpPr>
          <a:xfrm>
            <a:off x="611280" y="1052640"/>
            <a:ext cx="8334360" cy="5560920"/>
            <a:chOff x="611280" y="1052640"/>
            <a:chExt cx="8334360" cy="5560920"/>
          </a:xfrm>
        </p:grpSpPr>
        <p:grpSp>
          <p:nvGrpSpPr>
            <p:cNvPr id="267" name="群組 5"/>
            <p:cNvGrpSpPr/>
            <p:nvPr/>
          </p:nvGrpSpPr>
          <p:grpSpPr>
            <a:xfrm>
              <a:off x="611280" y="1052640"/>
              <a:ext cx="8334360" cy="5560920"/>
              <a:chOff x="611280" y="1052640"/>
              <a:chExt cx="8334360" cy="5560920"/>
            </a:xfrm>
          </p:grpSpPr>
          <p:sp>
            <p:nvSpPr>
              <p:cNvPr id="268" name="AutoShape 4"/>
              <p:cNvSpPr/>
              <p:nvPr/>
            </p:nvSpPr>
            <p:spPr>
              <a:xfrm>
                <a:off x="4965840" y="1770120"/>
                <a:ext cx="3852720" cy="484344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440"/>
                  <a:gd name="textAreaBottom" fmla="*/ 4743720 h 4843440"/>
                </a:gdLst>
                <a:ahLst/>
                <a:rect l="textAreaLeft" t="textAreaTop" r="textAreaRight" b="textAreaBottom"/>
                <a:pathLst>
                  <a:path w="21600" h="27154">
                    <a:moveTo>
                      <a:pt x="1913" y="0"/>
                    </a:moveTo>
                    <a:arcTo wR="1913" hR="1913" stAng="16200000" swAng="-5400000"/>
                    <a:lnTo>
                      <a:pt x="0" y="25241"/>
                    </a:lnTo>
                    <a:arcTo wR="1913" hR="1913" stAng="10800000" swAng="-5400000"/>
                    <a:lnTo>
                      <a:pt x="19687" y="27154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5"/>
              <p:cNvSpPr/>
              <p:nvPr/>
            </p:nvSpPr>
            <p:spPr>
              <a:xfrm flipV="1" rot="16200000">
                <a:off x="4278600" y="322416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" name="Group 6"/>
              <p:cNvGrpSpPr/>
              <p:nvPr/>
            </p:nvGrpSpPr>
            <p:grpSpPr>
              <a:xfrm>
                <a:off x="611280" y="1052640"/>
                <a:ext cx="8334360" cy="609480"/>
                <a:chOff x="611280" y="1052640"/>
                <a:chExt cx="8334360" cy="609480"/>
              </a:xfrm>
            </p:grpSpPr>
            <p:sp>
              <p:nvSpPr>
                <p:cNvPr id="271" name="AutoShape 7"/>
                <p:cNvSpPr/>
                <p:nvPr/>
              </p:nvSpPr>
              <p:spPr>
                <a:xfrm>
                  <a:off x="923760" y="1062000"/>
                  <a:ext cx="802188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8"/>
                <p:cNvGrpSpPr/>
                <p:nvPr/>
              </p:nvGrpSpPr>
              <p:grpSpPr>
                <a:xfrm>
                  <a:off x="611280" y="1052640"/>
                  <a:ext cx="603000" cy="609480"/>
                  <a:chOff x="611280" y="1052640"/>
                  <a:chExt cx="603000" cy="609480"/>
                </a:xfrm>
              </p:grpSpPr>
              <p:sp>
                <p:nvSpPr>
                  <p:cNvPr id="273" name="Oval 9"/>
                  <p:cNvSpPr/>
                  <p:nvPr/>
                </p:nvSpPr>
                <p:spPr>
                  <a:xfrm>
                    <a:off x="611280" y="1083600"/>
                    <a:ext cx="58896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617400" y="1052640"/>
                    <a:ext cx="596880" cy="586440"/>
                    <a:chOff x="617400" y="1052640"/>
                    <a:chExt cx="596880" cy="586440"/>
                  </a:xfrm>
                </p:grpSpPr>
                <p:sp>
                  <p:nvSpPr>
                    <p:cNvPr id="275" name="AutoShape 11"/>
                    <p:cNvSpPr/>
                    <p:nvPr/>
                  </p:nvSpPr>
                  <p:spPr>
                    <a:xfrm>
                      <a:off x="617400" y="105264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Oval 12"/>
                    <p:cNvSpPr/>
                    <p:nvPr/>
                  </p:nvSpPr>
                  <p:spPr>
                    <a:xfrm>
                      <a:off x="741240" y="1177200"/>
                      <a:ext cx="336600" cy="33192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7" name="Rectangle 13"/>
              <p:cNvSpPr/>
              <p:nvPr/>
            </p:nvSpPr>
            <p:spPr>
              <a:xfrm>
                <a:off x="1077840" y="111132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 </a:t>
                </a: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邀請相關政府機關、法人機構研訂驗證規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圆角矩形 7"/>
            <p:cNvGrpSpPr/>
            <p:nvPr/>
          </p:nvGrpSpPr>
          <p:grpSpPr>
            <a:xfrm>
              <a:off x="1587240" y="1535760"/>
              <a:ext cx="1999440" cy="371520"/>
              <a:chOff x="1587240" y="1535760"/>
              <a:chExt cx="1999440" cy="371520"/>
            </a:xfrm>
          </p:grpSpPr>
          <p:pic>
            <p:nvPicPr>
              <p:cNvPr id="279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7240" y="1535760"/>
                <a:ext cx="1999440" cy="37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1600920" y="1551240"/>
                <a:ext cx="19677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相關會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282" name="圆角矩形 7" descr=""/>
            <p:cNvPicPr/>
            <p:nvPr/>
          </p:nvPicPr>
          <p:blipFill>
            <a:blip r:embed="rId5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主要成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矩形 19"/>
          <p:cNvSpPr/>
          <p:nvPr/>
        </p:nvSpPr>
        <p:spPr>
          <a:xfrm>
            <a:off x="871560" y="1882800"/>
            <a:ext cx="3497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本局經與法人機構多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討論後，於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邀請行政院副院長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公室、蔡政委辦公室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法務部等相關政府機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及驗證機構召開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「研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個人資料去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別化之適用標準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」會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研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相關法人機構召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研議個資去識別化驗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證標準之要求事項及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制措施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以確定驗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具體要求事項及控制措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0"/>
          <p:cNvSpPr/>
          <p:nvPr/>
        </p:nvSpPr>
        <p:spPr>
          <a:xfrm>
            <a:off x="5203800" y="2124000"/>
            <a:ext cx="3660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取得相關政府機關共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: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現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段以我國與國際標準調和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國家標準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00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及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9191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作為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，並附加要求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機關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pen data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之個資不得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重新識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1"/>
          <p:cNvSpPr/>
          <p:nvPr/>
        </p:nvSpPr>
        <p:spPr>
          <a:xfrm>
            <a:off x="5203800" y="4395960"/>
            <a:ext cx="361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擬訂「個人資料去識別化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程驗證要求及控制措施」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範，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以作為個資去識別化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具體要求事項及控制措施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9489-99BE-417C-8EE2-DDFF5CCECF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D933-F72F-4B55-A359-D3D89AF0AE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917640" y="1689120"/>
            <a:ext cx="3286080" cy="493092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920"/>
              <a:gd name="textAreaBottom" fmla="*/ 4845960 h 4930920"/>
            </a:gdLst>
            <a:ahLst/>
            <a:rect l="textAreaLeft" t="textAreaTop" r="textAreaRight" b="textAreaBottom"/>
            <a:pathLst>
              <a:path w="21600" h="32411">
                <a:moveTo>
                  <a:pt x="1913" y="0"/>
                </a:moveTo>
                <a:arcTo wR="1913" hR="1913" stAng="16200000" swAng="-5400000"/>
                <a:lnTo>
                  <a:pt x="0" y="30498"/>
                </a:lnTo>
                <a:arcTo wR="1913" hR="1913" stAng="10800000" swAng="-5400000"/>
                <a:lnTo>
                  <a:pt x="19687" y="32411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群組 4"/>
          <p:cNvGrpSpPr/>
          <p:nvPr/>
        </p:nvGrpSpPr>
        <p:grpSpPr>
          <a:xfrm>
            <a:off x="619200" y="1058760"/>
            <a:ext cx="8341920" cy="5561280"/>
            <a:chOff x="619200" y="1058760"/>
            <a:chExt cx="8341920" cy="5561280"/>
          </a:xfrm>
        </p:grpSpPr>
        <p:grpSp>
          <p:nvGrpSpPr>
            <p:cNvPr id="291" name="群組 5"/>
            <p:cNvGrpSpPr/>
            <p:nvPr/>
          </p:nvGrpSpPr>
          <p:grpSpPr>
            <a:xfrm>
              <a:off x="619200" y="1058760"/>
              <a:ext cx="8341920" cy="5561280"/>
              <a:chOff x="619200" y="1058760"/>
              <a:chExt cx="8341920" cy="5561280"/>
            </a:xfrm>
          </p:grpSpPr>
          <p:sp>
            <p:nvSpPr>
              <p:cNvPr id="292" name="AutoShape 4"/>
              <p:cNvSpPr/>
              <p:nvPr/>
            </p:nvSpPr>
            <p:spPr>
              <a:xfrm>
                <a:off x="4981680" y="1776240"/>
                <a:ext cx="3852720" cy="4843800"/>
              </a:xfrm>
              <a:custGeom>
                <a:avLst/>
                <a:gdLst>
                  <a:gd name="textAreaLeft" fmla="*/ 99720 w 3852720"/>
                  <a:gd name="textAreaRight" fmla="*/ 3753000 w 3852720"/>
                  <a:gd name="textAreaTop" fmla="*/ 99720 h 4843800"/>
                  <a:gd name="textAreaBottom" fmla="*/ 4744080 h 4843800"/>
                </a:gdLst>
                <a:ahLst/>
                <a:rect l="textAreaLeft" t="textAreaTop" r="textAreaRight" b="textAreaBottom"/>
                <a:pathLst>
                  <a:path w="21600" h="27156">
                    <a:moveTo>
                      <a:pt x="1913" y="0"/>
                    </a:moveTo>
                    <a:arcTo wR="1913" hR="1913" stAng="16200000" swAng="-5400000"/>
                    <a:lnTo>
                      <a:pt x="0" y="25243"/>
                    </a:lnTo>
                    <a:arcTo wR="1913" hR="1913" stAng="10800000" swAng="-5400000"/>
                    <a:lnTo>
                      <a:pt x="19687" y="27156"/>
                    </a:lnTo>
                    <a:arcTo wR="1913" hR="1913" stAng="5400000" swAng="-5400000"/>
                    <a:lnTo>
                      <a:pt x="21600" y="1913"/>
                    </a:lnTo>
                    <a:arcTo wR="1913" hR="1913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5"/>
              <p:cNvSpPr/>
              <p:nvPr/>
            </p:nvSpPr>
            <p:spPr>
              <a:xfrm flipV="1" rot="16200000">
                <a:off x="4294440" y="3230280"/>
                <a:ext cx="673560" cy="639720"/>
              </a:xfrm>
              <a:prstGeom prst="upArrow">
                <a:avLst>
                  <a:gd name="adj1" fmla="val 50000"/>
                  <a:gd name="adj2" fmla="val 4924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Group 6"/>
              <p:cNvGrpSpPr/>
              <p:nvPr/>
            </p:nvGrpSpPr>
            <p:grpSpPr>
              <a:xfrm>
                <a:off x="619200" y="1058760"/>
                <a:ext cx="8341920" cy="609480"/>
                <a:chOff x="619200" y="1058760"/>
                <a:chExt cx="8341920" cy="609480"/>
              </a:xfrm>
            </p:grpSpPr>
            <p:sp>
              <p:nvSpPr>
                <p:cNvPr id="295" name="AutoShape 7"/>
                <p:cNvSpPr/>
                <p:nvPr/>
              </p:nvSpPr>
              <p:spPr>
                <a:xfrm>
                  <a:off x="939600" y="1068120"/>
                  <a:ext cx="8021520" cy="406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" name="Group 8"/>
                <p:cNvGrpSpPr/>
                <p:nvPr/>
              </p:nvGrpSpPr>
              <p:grpSpPr>
                <a:xfrm>
                  <a:off x="619200" y="1058760"/>
                  <a:ext cx="596880" cy="609480"/>
                  <a:chOff x="619200" y="1058760"/>
                  <a:chExt cx="596880" cy="609480"/>
                </a:xfrm>
              </p:grpSpPr>
              <p:sp>
                <p:nvSpPr>
                  <p:cNvPr id="297" name="Oval 9"/>
                  <p:cNvSpPr/>
                  <p:nvPr/>
                </p:nvSpPr>
                <p:spPr>
                  <a:xfrm>
                    <a:off x="627120" y="1089720"/>
                    <a:ext cx="588600" cy="578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8" name="Group 10"/>
                  <p:cNvGrpSpPr/>
                  <p:nvPr/>
                </p:nvGrpSpPr>
                <p:grpSpPr>
                  <a:xfrm>
                    <a:off x="619200" y="1058760"/>
                    <a:ext cx="596880" cy="586440"/>
                    <a:chOff x="619200" y="1058760"/>
                    <a:chExt cx="596880" cy="586440"/>
                  </a:xfrm>
                </p:grpSpPr>
                <p:sp>
                  <p:nvSpPr>
                    <p:cNvPr id="299" name="AutoShape 11"/>
                    <p:cNvSpPr/>
                    <p:nvPr/>
                  </p:nvSpPr>
                  <p:spPr>
                    <a:xfrm>
                      <a:off x="619200" y="1058760"/>
                      <a:ext cx="596880" cy="586440"/>
                    </a:xfrm>
                    <a:custGeom>
                      <a:avLst/>
                      <a:gdLst>
                        <a:gd name="textAreaLeft" fmla="*/ 87120 w 596880"/>
                        <a:gd name="textAreaRight" fmla="*/ 509760 w 596880"/>
                        <a:gd name="textAreaTop" fmla="*/ 85680 h 586440"/>
                        <a:gd name="textAreaBottom" fmla="*/ 500760 h 5864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blipFill rotWithShape="0">
                      <a:blip r:embed="rId2"/>
                      <a:srcRect/>
                      <a:stretch/>
                    </a:blipFill>
                    <a:ln w="0">
                      <a:noFill/>
                    </a:ln>
                    <a:effectLst>
                      <a:outerShdw dist="25560" dir="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Oval 12"/>
                    <p:cNvSpPr/>
                    <p:nvPr/>
                  </p:nvSpPr>
                  <p:spPr>
                    <a:xfrm>
                      <a:off x="757080" y="1183320"/>
                      <a:ext cx="336240" cy="331920"/>
                    </a:xfrm>
                    <a:prstGeom prst="ellipse">
                      <a:avLst/>
                    </a:prstGeom>
                    <a:blipFill rotWithShape="0">
                      <a:blip r:embed="rId3"/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01" name="Rectangle 13"/>
              <p:cNvSpPr/>
              <p:nvPr/>
            </p:nvSpPr>
            <p:spPr>
              <a:xfrm>
                <a:off x="1093680" y="1117440"/>
                <a:ext cx="7740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6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ffffff"/>
                    </a:solidFill>
                    <a:latin typeface="標楷體"/>
                    <a:ea typeface="標楷體"/>
                  </a:rPr>
                  <a:t>「研商個人資料去識別化驗證標準規範（草案）」會議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圆角矩形 7"/>
            <p:cNvGrpSpPr/>
            <p:nvPr/>
          </p:nvGrpSpPr>
          <p:grpSpPr>
            <a:xfrm>
              <a:off x="1603080" y="1542240"/>
              <a:ext cx="1999440" cy="371880"/>
              <a:chOff x="1603080" y="1542240"/>
              <a:chExt cx="1999440" cy="371880"/>
            </a:xfrm>
          </p:grpSpPr>
          <p:pic>
            <p:nvPicPr>
              <p:cNvPr id="303" name="圆角矩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603080" y="1542240"/>
                <a:ext cx="19994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1616760" y="1557720"/>
                <a:ext cx="196776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49680" bIns="496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225"/>
                  </a:spcAft>
                  <a:tabLst>
                    <a:tab algn="l" pos="0"/>
                    <a:tab algn="l" pos="1733400"/>
                    <a:tab algn="l" pos="3467160"/>
                    <a:tab algn="l" pos="5200560"/>
                    <a:tab algn="l" pos="6934320"/>
                    <a:tab algn="l" pos="8667720"/>
                    <a:tab algn="l" pos="10401480"/>
                  </a:tabLst>
                </a:pPr>
                <a:r>
                  <a:rPr b="0" lang="zh-TW" sz="2800" spc="-1" strike="noStrike">
                    <a:solidFill>
                      <a:srgbClr val="ffffff"/>
                    </a:solidFill>
                    <a:latin typeface="Arial"/>
                    <a:ea typeface="標楷體"/>
                  </a:rPr>
                  <a:t>會議報告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圆角矩形 7"/>
          <p:cNvGrpSpPr/>
          <p:nvPr/>
        </p:nvGrpSpPr>
        <p:grpSpPr>
          <a:xfrm>
            <a:off x="5962680" y="1554120"/>
            <a:ext cx="1998720" cy="378000"/>
            <a:chOff x="5962680" y="1554120"/>
            <a:chExt cx="1998720" cy="378000"/>
          </a:xfrm>
        </p:grpSpPr>
        <p:pic>
          <p:nvPicPr>
            <p:cNvPr id="306" name="圆角矩形 7" descr=""/>
            <p:cNvPicPr/>
            <p:nvPr/>
          </p:nvPicPr>
          <p:blipFill>
            <a:blip r:embed="rId5"/>
            <a:stretch/>
          </p:blipFill>
          <p:spPr>
            <a:xfrm>
              <a:off x="5962680" y="1554120"/>
              <a:ext cx="199872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977080" y="1569960"/>
              <a:ext cx="19684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21"/>
          <p:cNvSpPr/>
          <p:nvPr/>
        </p:nvSpPr>
        <p:spPr>
          <a:xfrm>
            <a:off x="1074600" y="2097000"/>
            <a:ext cx="31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18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日由行政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蔡政務委員玉玲於主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報告「個人資料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識別化驗證標準規範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推廣規劃」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2"/>
          <p:cNvSpPr/>
          <p:nvPr/>
        </p:nvSpPr>
        <p:spPr>
          <a:xfrm>
            <a:off x="5203800" y="1990800"/>
            <a:ext cx="361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所提個人資料去識別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標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C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，可作為我國現階段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動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open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或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之個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資料去識別化驗證標準，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本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局參酌相關國際規範，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訂「個人資料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驗證要求及控制措施」，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作為個人資料去識別化具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要求及控制措施之參考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3"/>
          <p:cNvSpPr/>
          <p:nvPr/>
        </p:nvSpPr>
        <p:spPr>
          <a:xfrm>
            <a:off x="5219640" y="5162400"/>
            <a:ext cx="36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財政資訊中心、凱擘公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中華電信公司，於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完成驗證，並訂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討論驗證成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647640" y="14400"/>
            <a:ext cx="842508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確定驗證規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2389-3DDC-4911-8479-570AA56E7B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14AC-4A7C-497C-BFE4-55FC5B312D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54D9-5E67-417A-9054-7FF7E50738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页脚占位符 3"/>
          <p:cNvSpPr/>
          <p:nvPr/>
        </p:nvSpPr>
        <p:spPr>
          <a:xfrm>
            <a:off x="7188120" y="63817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54"/>
          <p:cNvSpPr/>
          <p:nvPr/>
        </p:nvSpPr>
        <p:spPr>
          <a:xfrm>
            <a:off x="392040" y="765000"/>
            <a:ext cx="2233800" cy="181008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51"/>
          <p:cNvSpPr/>
          <p:nvPr/>
        </p:nvSpPr>
        <p:spPr>
          <a:xfrm rot="21411000">
            <a:off x="689040" y="590724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52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c5fa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53"/>
          <p:cNvSpPr/>
          <p:nvPr/>
        </p:nvSpPr>
        <p:spPr>
          <a:xfrm>
            <a:off x="126828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55"/>
          <p:cNvSpPr/>
          <p:nvPr/>
        </p:nvSpPr>
        <p:spPr>
          <a:xfrm rot="188400">
            <a:off x="4336920" y="5925600"/>
            <a:ext cx="4010040" cy="255600"/>
          </a:xfrm>
          <a:prstGeom prst="ellipse">
            <a:avLst/>
          </a:prstGeom>
          <a:gradFill rotWithShape="0">
            <a:gsLst>
              <a:gs pos="0">
                <a:srgbClr val="000000">
                  <a:alpha val="47058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56"/>
          <p:cNvSpPr/>
          <p:nvPr/>
        </p:nvSpPr>
        <p:spPr>
          <a:xfrm>
            <a:off x="4643280" y="134136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57"/>
          <p:cNvSpPr/>
          <p:nvPr/>
        </p:nvSpPr>
        <p:spPr>
          <a:xfrm>
            <a:off x="4648320" y="1324080"/>
            <a:ext cx="3340080" cy="4583160"/>
          </a:xfrm>
          <a:custGeom>
            <a:avLst/>
            <a:gdLst>
              <a:gd name="textAreaLeft" fmla="*/ 29880 w 3340080"/>
              <a:gd name="textAreaRight" fmla="*/ 3310200 w 3340080"/>
              <a:gd name="textAreaTop" fmla="*/ 29880 h 4583160"/>
              <a:gd name="textAreaBottom" fmla="*/ 4553280 h 4583160"/>
            </a:gdLst>
            <a:ahLst/>
            <a:rect l="textAreaLeft" t="textAreaTop" r="textAreaRight" b="textAreaBottom"/>
            <a:pathLst>
              <a:path w="21600" h="29638">
                <a:moveTo>
                  <a:pt x="663" y="0"/>
                </a:moveTo>
                <a:arcTo wR="663" hR="663" stAng="16200000" swAng="-5400000"/>
                <a:lnTo>
                  <a:pt x="0" y="28975"/>
                </a:lnTo>
                <a:arcTo wR="663" hR="663" stAng="10800000" swAng="-5400000"/>
                <a:lnTo>
                  <a:pt x="20937" y="29638"/>
                </a:lnTo>
                <a:arcTo wR="663" hR="663" stAng="5400000" swAng="-5400000"/>
                <a:lnTo>
                  <a:pt x="21600" y="663"/>
                </a:lnTo>
                <a:arcTo wR="663" hR="663" stAng="0" swAng="-5400000"/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58"/>
          <p:cNvSpPr/>
          <p:nvPr/>
        </p:nvSpPr>
        <p:spPr>
          <a:xfrm>
            <a:off x="7234200" y="5084640"/>
            <a:ext cx="1271520" cy="1033560"/>
          </a:xfrm>
          <a:prstGeom prst="irregularSeal2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5"/>
          <p:cNvSpPr/>
          <p:nvPr/>
        </p:nvSpPr>
        <p:spPr>
          <a:xfrm>
            <a:off x="1692360" y="2133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本局業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與國家發展委員會及行政院國家資通安全辦公室研議規劃籌備「個人資料去識別化適用標準」推廣說明會事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6"/>
          <p:cNvSpPr/>
          <p:nvPr/>
        </p:nvSpPr>
        <p:spPr>
          <a:xfrm>
            <a:off x="5219640" y="2276640"/>
            <a:ext cx="266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內容將針對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資料去識別化標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29100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CN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29191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進行標準內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介紹及去識別化過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驗證要求事項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措施進行說明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說明會辦理對象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政府機關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民間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   </a:t>
            </a:r>
            <a:r>
              <a:rPr b="1" lang="zh-TW" sz="2000" spc="-1" strike="noStrike">
                <a:solidFill>
                  <a:srgbClr val="0000cc"/>
                </a:solidFill>
                <a:latin typeface="Times New Roman"/>
                <a:ea typeface="標楷體"/>
              </a:rPr>
              <a:t>業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辦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2084760" y="165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研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8"/>
          <p:cNvSpPr/>
          <p:nvPr/>
        </p:nvSpPr>
        <p:spPr>
          <a:xfrm>
            <a:off x="6078960" y="1747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會議決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4"/>
          <p:cNvSpPr/>
          <p:nvPr/>
        </p:nvSpPr>
        <p:spPr>
          <a:xfrm>
            <a:off x="0" y="685800"/>
            <a:ext cx="47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標楷體"/>
                <a:ea typeface="標楷體"/>
              </a:rPr>
              <a:t>推廣說明會籌備會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1343160" y="-1440"/>
            <a:ext cx="78008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1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四、驗證標準規範之推廣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60AD-4F49-40A1-A89C-94CE444307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81F6-DC3B-4E5F-A3D5-CDBA5969B7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AAB-6FDF-4ADF-B1F9-F818308C9A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62A1-07D3-42E3-9E26-CB64EE9DE9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Rectangle 134"/>
          <p:cNvGrpSpPr/>
          <p:nvPr/>
        </p:nvGrpSpPr>
        <p:grpSpPr>
          <a:xfrm>
            <a:off x="0" y="3790800"/>
            <a:ext cx="9144000" cy="993960"/>
            <a:chOff x="0" y="3790800"/>
            <a:chExt cx="9144000" cy="993960"/>
          </a:xfrm>
        </p:grpSpPr>
        <p:pic>
          <p:nvPicPr>
            <p:cNvPr id="335" name="Rectangle 134" descr=""/>
            <p:cNvPicPr/>
            <p:nvPr/>
          </p:nvPicPr>
          <p:blipFill>
            <a:blip r:embed="rId2"/>
            <a:stretch/>
          </p:blipFill>
          <p:spPr>
            <a:xfrm>
              <a:off x="0" y="3790800"/>
              <a:ext cx="9144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0" y="3792600"/>
              <a:ext cx="91440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45"/>
          <p:cNvSpPr/>
          <p:nvPr/>
        </p:nvSpPr>
        <p:spPr>
          <a:xfrm>
            <a:off x="1116000" y="23760"/>
            <a:ext cx="770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2411280" y="-12600"/>
            <a:ext cx="6732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zh-TW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推廣說明會</a:t>
            </a:r>
            <a:r>
              <a:rPr b="1" lang="zh-TW" sz="3600" spc="-1" strike="noStrike">
                <a:solidFill>
                  <a:srgbClr val="c00000"/>
                </a:solidFill>
                <a:latin typeface="Arial"/>
                <a:ea typeface="標楷體"/>
              </a:rPr>
              <a:t>規劃及辦理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Rounded Rectangle 103" descr=""/>
          <p:cNvPicPr/>
          <p:nvPr/>
        </p:nvPicPr>
        <p:blipFill>
          <a:blip r:embed="rId3"/>
          <a:stretch/>
        </p:blipFill>
        <p:spPr>
          <a:xfrm>
            <a:off x="542880" y="4572000"/>
            <a:ext cx="8013600" cy="13287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4859280" y="1557360"/>
            <a:ext cx="3168720" cy="1762200"/>
          </a:xfrm>
          <a:prstGeom prst="rect">
            <a:avLst/>
          </a:prstGeom>
          <a:gradFill rotWithShape="0">
            <a:gsLst>
              <a:gs pos="0">
                <a:srgbClr val="01af01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AutoShape 4"/>
          <p:cNvGrpSpPr/>
          <p:nvPr/>
        </p:nvGrpSpPr>
        <p:grpSpPr>
          <a:xfrm>
            <a:off x="4707000" y="1125360"/>
            <a:ext cx="3446280" cy="444600"/>
            <a:chOff x="4707000" y="1125360"/>
            <a:chExt cx="3446280" cy="444600"/>
          </a:xfrm>
        </p:grpSpPr>
        <p:pic>
          <p:nvPicPr>
            <p:cNvPr id="342" name="AutoShape 4" descr=""/>
            <p:cNvPicPr/>
            <p:nvPr/>
          </p:nvPicPr>
          <p:blipFill>
            <a:blip r:embed="rId4"/>
            <a:stretch/>
          </p:blipFill>
          <p:spPr>
            <a:xfrm>
              <a:off x="4707000" y="1125360"/>
              <a:ext cx="34462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4784400" y="1203480"/>
              <a:ext cx="329112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Oval 106"/>
          <p:cNvGrpSpPr/>
          <p:nvPr/>
        </p:nvGrpSpPr>
        <p:grpSpPr>
          <a:xfrm>
            <a:off x="4853160" y="1494000"/>
            <a:ext cx="269640" cy="261720"/>
            <a:chOff x="4853160" y="1494000"/>
            <a:chExt cx="269640" cy="261720"/>
          </a:xfrm>
        </p:grpSpPr>
        <p:pic>
          <p:nvPicPr>
            <p:cNvPr id="345" name="Oval 106" descr=""/>
            <p:cNvPicPr/>
            <p:nvPr/>
          </p:nvPicPr>
          <p:blipFill>
            <a:blip r:embed="rId5"/>
            <a:stretch/>
          </p:blipFill>
          <p:spPr>
            <a:xfrm>
              <a:off x="4853160" y="1494000"/>
              <a:ext cx="2696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929480" y="1548000"/>
              <a:ext cx="1130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7"/>
          <p:cNvSpPr/>
          <p:nvPr/>
        </p:nvSpPr>
        <p:spPr>
          <a:xfrm>
            <a:off x="4876920" y="1565280"/>
            <a:ext cx="33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持有具應用價值個資之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產業</a:t>
            </a:r>
            <a:r>
              <a:rPr b="1" lang="en-US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如金融、電信、有線電視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刻正徵詢其主管機關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金管會、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NCC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、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文化部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等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並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視調查結果舉辦業界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Rectangle 2"/>
          <p:cNvGrpSpPr/>
          <p:nvPr/>
        </p:nvGrpSpPr>
        <p:grpSpPr>
          <a:xfrm>
            <a:off x="1298520" y="1511280"/>
            <a:ext cx="2908440" cy="1665360"/>
            <a:chOff x="1298520" y="1511280"/>
            <a:chExt cx="2908440" cy="1665360"/>
          </a:xfrm>
        </p:grpSpPr>
        <p:pic>
          <p:nvPicPr>
            <p:cNvPr id="349" name="Rectangle 2" descr=""/>
            <p:cNvPicPr/>
            <p:nvPr/>
          </p:nvPicPr>
          <p:blipFill>
            <a:blip r:embed="rId6"/>
            <a:stretch/>
          </p:blipFill>
          <p:spPr>
            <a:xfrm>
              <a:off x="1298520" y="1511280"/>
              <a:ext cx="2907000" cy="16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1300680" y="1513800"/>
              <a:ext cx="2906280" cy="16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AutoShape 4"/>
          <p:cNvGrpSpPr/>
          <p:nvPr/>
        </p:nvGrpSpPr>
        <p:grpSpPr>
          <a:xfrm>
            <a:off x="1146240" y="1127160"/>
            <a:ext cx="3367080" cy="439560"/>
            <a:chOff x="1146240" y="1127160"/>
            <a:chExt cx="3367080" cy="439560"/>
          </a:xfrm>
        </p:grpSpPr>
        <p:pic>
          <p:nvPicPr>
            <p:cNvPr id="352" name="AutoShape 4" descr=""/>
            <p:cNvPicPr/>
            <p:nvPr/>
          </p:nvPicPr>
          <p:blipFill>
            <a:blip r:embed="rId7"/>
            <a:stretch/>
          </p:blipFill>
          <p:spPr>
            <a:xfrm>
              <a:off x="1146240" y="1127160"/>
              <a:ext cx="3367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1223280" y="1202400"/>
              <a:ext cx="3215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7760" indent="-3477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Oval 110"/>
          <p:cNvGrpSpPr/>
          <p:nvPr/>
        </p:nvGrpSpPr>
        <p:grpSpPr>
          <a:xfrm>
            <a:off x="1225440" y="1517760"/>
            <a:ext cx="270000" cy="261720"/>
            <a:chOff x="1225440" y="1517760"/>
            <a:chExt cx="270000" cy="261720"/>
          </a:xfrm>
        </p:grpSpPr>
        <p:pic>
          <p:nvPicPr>
            <p:cNvPr id="355" name="Oval 110" descr=""/>
            <p:cNvPicPr/>
            <p:nvPr/>
          </p:nvPicPr>
          <p:blipFill>
            <a:blip r:embed="rId8"/>
            <a:stretch/>
          </p:blipFill>
          <p:spPr>
            <a:xfrm>
              <a:off x="1225440" y="1517760"/>
              <a:ext cx="27000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302480" y="1569960"/>
              <a:ext cx="1134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Rectangle 7"/>
          <p:cNvSpPr/>
          <p:nvPr/>
        </p:nvSpPr>
        <p:spPr>
          <a:xfrm>
            <a:off x="1360440" y="15462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驗證標準規範確定後，由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國發會及資通安全辦公室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辦理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政府機關說明會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r>
              <a:rPr b="1" lang="zh-TW" sz="1800" spc="-1" strike="noStrike">
                <a:solidFill>
                  <a:srgbClr val="ff0000"/>
                </a:solidFill>
                <a:latin typeface="標楷體"/>
                <a:ea typeface="標楷體"/>
              </a:rPr>
              <a:t>本局配合說明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標準內容、控制措施、要求事項等項目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，預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10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月中下旬辦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Oval 113" descr=""/>
          <p:cNvPicPr/>
          <p:nvPr/>
        </p:nvPicPr>
        <p:blipFill>
          <a:blip r:embed="rId9"/>
          <a:stretch/>
        </p:blipFill>
        <p:spPr>
          <a:xfrm>
            <a:off x="4973760" y="3365640"/>
            <a:ext cx="23382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44"/>
          <p:cNvGrpSpPr/>
          <p:nvPr/>
        </p:nvGrpSpPr>
        <p:grpSpPr>
          <a:xfrm>
            <a:off x="2244600" y="3379680"/>
            <a:ext cx="1836720" cy="1830600"/>
            <a:chOff x="2244600" y="3379680"/>
            <a:chExt cx="1836720" cy="1830600"/>
          </a:xfrm>
        </p:grpSpPr>
        <p:pic>
          <p:nvPicPr>
            <p:cNvPr id="360" name="Oval 116" descr=""/>
            <p:cNvPicPr/>
            <p:nvPr/>
          </p:nvPicPr>
          <p:blipFill>
            <a:blip r:embed="rId10"/>
            <a:stretch/>
          </p:blipFill>
          <p:spPr>
            <a:xfrm>
              <a:off x="2244600" y="3379680"/>
              <a:ext cx="183672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Rectangle 117" descr=""/>
            <p:cNvPicPr/>
            <p:nvPr/>
          </p:nvPicPr>
          <p:blipFill>
            <a:blip r:embed="rId11"/>
            <a:stretch/>
          </p:blipFill>
          <p:spPr>
            <a:xfrm>
              <a:off x="2268360" y="3523320"/>
              <a:ext cx="1413720" cy="15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Rectangle 117" descr=""/>
          <p:cNvPicPr/>
          <p:nvPr/>
        </p:nvPicPr>
        <p:blipFill>
          <a:blip r:embed="rId12"/>
          <a:stretch/>
        </p:blipFill>
        <p:spPr>
          <a:xfrm>
            <a:off x="4986360" y="3560760"/>
            <a:ext cx="1792440" cy="1633680"/>
          </a:xfrm>
          <a:prstGeom prst="rect">
            <a:avLst/>
          </a:prstGeom>
          <a:ln w="0">
            <a:noFill/>
          </a:ln>
        </p:spPr>
      </p:pic>
      <p:pic>
        <p:nvPicPr>
          <p:cNvPr id="363" name="Freeform 43" descr=""/>
          <p:cNvPicPr/>
          <p:nvPr/>
        </p:nvPicPr>
        <p:blipFill>
          <a:blip r:embed="rId13"/>
          <a:stretch/>
        </p:blipFill>
        <p:spPr>
          <a:xfrm>
            <a:off x="0" y="1828800"/>
            <a:ext cx="1311120" cy="5029200"/>
          </a:xfrm>
          <a:prstGeom prst="rect">
            <a:avLst/>
          </a:prstGeom>
          <a:ln w="0">
            <a:noFill/>
          </a:ln>
        </p:spPr>
      </p:pic>
      <p:pic>
        <p:nvPicPr>
          <p:cNvPr id="364" name="Freeform 53" descr=""/>
          <p:cNvPicPr/>
          <p:nvPr/>
        </p:nvPicPr>
        <p:blipFill>
          <a:blip r:embed="rId14"/>
          <a:stretch/>
        </p:blipFill>
        <p:spPr>
          <a:xfrm>
            <a:off x="7943760" y="1914480"/>
            <a:ext cx="919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7A82-A45A-4A9C-9DD5-336A52390B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4AC5-016B-430B-A499-122EDABC93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"/>
          <p:cNvGrpSpPr/>
          <p:nvPr/>
        </p:nvGrpSpPr>
        <p:grpSpPr>
          <a:xfrm>
            <a:off x="1324080" y="1887480"/>
            <a:ext cx="6343200" cy="873000"/>
            <a:chOff x="1324080" y="1887480"/>
            <a:chExt cx="6343200" cy="873000"/>
          </a:xfrm>
        </p:grpSpPr>
        <p:sp>
          <p:nvSpPr>
            <p:cNvPr id="55" name="AutoShape 4"/>
            <p:cNvSpPr/>
            <p:nvPr/>
          </p:nvSpPr>
          <p:spPr>
            <a:xfrm>
              <a:off x="1835280" y="203868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eff9"/>
                </a:gs>
                <a:gs pos="100000">
                  <a:srgbClr val="21b3e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5"/>
            <p:cNvSpPr/>
            <p:nvPr/>
          </p:nvSpPr>
          <p:spPr>
            <a:xfrm>
              <a:off x="1324080" y="188748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0f5368"/>
                </a:gs>
                <a:gs pos="100000">
                  <a:srgbClr val="21b3e1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2142360" y="2072880"/>
              <a:ext cx="542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緣  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1500480" y="2012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1324080" y="2649600"/>
            <a:ext cx="6343200" cy="872640"/>
            <a:chOff x="1324080" y="2649600"/>
            <a:chExt cx="6343200" cy="872640"/>
          </a:xfrm>
        </p:grpSpPr>
        <p:sp>
          <p:nvSpPr>
            <p:cNvPr id="60" name="AutoShape 9"/>
            <p:cNvSpPr/>
            <p:nvPr/>
          </p:nvSpPr>
          <p:spPr>
            <a:xfrm>
              <a:off x="1835280" y="2801160"/>
              <a:ext cx="5832000" cy="58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f4c9"/>
                </a:gs>
                <a:gs pos="100000">
                  <a:srgbClr val="99cc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0"/>
            <p:cNvSpPr/>
            <p:nvPr/>
          </p:nvSpPr>
          <p:spPr>
            <a:xfrm>
              <a:off x="1324080" y="2649600"/>
              <a:ext cx="920520" cy="872640"/>
            </a:xfrm>
            <a:prstGeom prst="diamond">
              <a:avLst/>
            </a:pr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2279160" y="2847240"/>
              <a:ext cx="528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行政院指示辦理事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1571400" y="2774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1324080" y="3411360"/>
            <a:ext cx="6343200" cy="873000"/>
            <a:chOff x="1324080" y="3411360"/>
            <a:chExt cx="6343200" cy="873000"/>
          </a:xfrm>
        </p:grpSpPr>
        <p:sp>
          <p:nvSpPr>
            <p:cNvPr id="65" name="AutoShape 14"/>
            <p:cNvSpPr/>
            <p:nvPr/>
          </p:nvSpPr>
          <p:spPr>
            <a:xfrm>
              <a:off x="1835280" y="356292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5"/>
            <p:cNvSpPr/>
            <p:nvPr/>
          </p:nvSpPr>
          <p:spPr>
            <a:xfrm>
              <a:off x="1324080" y="341136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764718"/>
                </a:gs>
                <a:gs pos="100000">
                  <a:srgbClr val="ff9933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2344680" y="3609360"/>
              <a:ext cx="52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研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1571400" y="353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8"/>
          <p:cNvGrpSpPr/>
          <p:nvPr/>
        </p:nvGrpSpPr>
        <p:grpSpPr>
          <a:xfrm>
            <a:off x="1332000" y="4221000"/>
            <a:ext cx="6343200" cy="873000"/>
            <a:chOff x="1332000" y="4221000"/>
            <a:chExt cx="6343200" cy="873000"/>
          </a:xfrm>
        </p:grpSpPr>
        <p:sp>
          <p:nvSpPr>
            <p:cNvPr id="70" name="AutoShape 19"/>
            <p:cNvSpPr/>
            <p:nvPr/>
          </p:nvSpPr>
          <p:spPr>
            <a:xfrm>
              <a:off x="18432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>
              <a:off x="1332000" y="4221000"/>
              <a:ext cx="92052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2361600" y="4406760"/>
              <a:ext cx="460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結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15793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2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  <a:ea typeface="標楷體"/>
              </a:rPr>
              <a:t>大  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8"/>
          <p:cNvGrpSpPr/>
          <p:nvPr/>
        </p:nvGrpSpPr>
        <p:grpSpPr>
          <a:xfrm>
            <a:off x="1357200" y="4221000"/>
            <a:ext cx="6343200" cy="873000"/>
            <a:chOff x="1357200" y="4221000"/>
            <a:chExt cx="6343200" cy="873000"/>
          </a:xfrm>
        </p:grpSpPr>
        <p:sp>
          <p:nvSpPr>
            <p:cNvPr id="76" name="AutoShape 19"/>
            <p:cNvSpPr/>
            <p:nvPr/>
          </p:nvSpPr>
          <p:spPr>
            <a:xfrm>
              <a:off x="1868400" y="4372560"/>
              <a:ext cx="5832000" cy="58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dff4"/>
                </a:gs>
                <a:gs pos="100000">
                  <a:srgbClr val="e46acd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20"/>
            <p:cNvSpPr/>
            <p:nvPr/>
          </p:nvSpPr>
          <p:spPr>
            <a:xfrm>
              <a:off x="1357200" y="4221000"/>
              <a:ext cx="920880" cy="873000"/>
            </a:xfrm>
            <a:prstGeom prst="diamond">
              <a:avLst/>
            </a:prstGeom>
            <a:gradFill rotWithShape="0">
              <a:gsLst>
                <a:gs pos="0">
                  <a:srgbClr val="6a315f"/>
                </a:gs>
                <a:gs pos="100000">
                  <a:srgbClr val="e46acd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2386800" y="4406760"/>
              <a:ext cx="517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驗證標準規範之推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1604520" y="4346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3284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99"/>
                </a:solidFill>
                <a:latin typeface="Arial"/>
              </a:rPr>
              <a:t>敬請裁示與指教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fp_10"/>
          <p:cNvPicPr/>
          <p:nvPr/>
        </p:nvPicPr>
        <p:blipFill>
          <a:blip r:embed="rId2"/>
          <a:stretch/>
        </p:blipFill>
        <p:spPr>
          <a:xfrm>
            <a:off x="747720" y="3557520"/>
            <a:ext cx="764856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1C0-2EED-447F-8EF4-53D5B90CE2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投影片編號版面配置區 3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CD91-7B70-4301-ADE7-E72F35311F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289080" y="2192400"/>
            <a:ext cx="84247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標楷體"/>
              </a:rPr>
              <a:t>附 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「個人資料去識別化過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      </a:t>
            </a:r>
            <a:r>
              <a:rPr b="0" lang="zh-TW" sz="3600" spc="-1" strike="noStrike">
                <a:solidFill>
                  <a:srgbClr val="000066"/>
                </a:solidFill>
                <a:latin typeface="Arial"/>
                <a:ea typeface="標楷體"/>
              </a:rPr>
              <a:t>驗證要求及控制措施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88FE-E818-41ED-8E0C-A71849A9A5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FFDE-7CFF-455C-B69B-62CAAB840F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CAE7-3F1B-4A2E-9130-843F3B14D4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2DFA-BAE1-4DB4-B896-AE97C50B9A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22440" y="-28440"/>
            <a:ext cx="6659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Arial"/>
                <a:ea typeface="標楷體"/>
              </a:rPr>
              <a:t>                   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標楷體"/>
              </a:rPr>
              <a:t>一、緣 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826920" y="9381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個人資料去識別化機制建立之迫切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3"/>
          <p:cNvSpPr/>
          <p:nvPr/>
        </p:nvSpPr>
        <p:spPr>
          <a:xfrm>
            <a:off x="1684440" y="1844640"/>
            <a:ext cx="5468760" cy="3889440"/>
          </a:xfrm>
          <a:custGeom>
            <a:avLst/>
            <a:gdLst>
              <a:gd name="textAreaLeft" fmla="*/ 0 w 5468760"/>
              <a:gd name="textAreaRight" fmla="*/ 5469120 w 546876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672" h="2180">
                <a:moveTo>
                  <a:pt x="1345" y="0"/>
                </a:moveTo>
                <a:lnTo>
                  <a:pt x="0" y="673"/>
                </a:lnTo>
                <a:lnTo>
                  <a:pt x="589" y="673"/>
                </a:lnTo>
                <a:lnTo>
                  <a:pt x="415" y="2180"/>
                </a:lnTo>
                <a:lnTo>
                  <a:pt x="2277" y="2180"/>
                </a:lnTo>
                <a:lnTo>
                  <a:pt x="2110" y="673"/>
                </a:lnTo>
                <a:lnTo>
                  <a:pt x="2672" y="673"/>
                </a:lnTo>
                <a:lnTo>
                  <a:pt x="1345" y="0"/>
                </a:lnTo>
                <a:close/>
              </a:path>
            </a:pathLst>
          </a:custGeom>
          <a:gradFill rotWithShape="0">
            <a:gsLst>
              <a:gs pos="0">
                <a:srgbClr val="bdaf5b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0"/>
          <p:cNvSpPr/>
          <p:nvPr/>
        </p:nvSpPr>
        <p:spPr>
          <a:xfrm>
            <a:off x="3584520" y="2781360"/>
            <a:ext cx="1719360" cy="1650960"/>
          </a:xfrm>
          <a:prstGeom prst="ellipse">
            <a:avLst/>
          </a:prstGeom>
          <a:solidFill>
            <a:srgbClr val="d57253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49"/>
          <p:cNvSpPr/>
          <p:nvPr/>
        </p:nvSpPr>
        <p:spPr>
          <a:xfrm>
            <a:off x="3544920" y="3044880"/>
            <a:ext cx="178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個人資料去識別化機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253044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4"/>
          <p:cNvSpPr/>
          <p:nvPr/>
        </p:nvSpPr>
        <p:spPr>
          <a:xfrm flipH="1" rot="3343200">
            <a:off x="4914720" y="4531680"/>
            <a:ext cx="755640" cy="438480"/>
          </a:xfrm>
          <a:prstGeom prst="rightArrow">
            <a:avLst>
              <a:gd name="adj1" fmla="val 50000"/>
              <a:gd name="adj2" fmla="val 4481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5"/>
          <p:cNvSpPr/>
          <p:nvPr/>
        </p:nvSpPr>
        <p:spPr>
          <a:xfrm rot="18256800">
            <a:off x="3379680" y="4527000"/>
            <a:ext cx="763560" cy="439920"/>
          </a:xfrm>
          <a:prstGeom prst="rightArrow">
            <a:avLst>
              <a:gd name="adj1" fmla="val 50000"/>
              <a:gd name="adj2" fmla="val 45135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6"/>
          <p:cNvSpPr/>
          <p:nvPr/>
        </p:nvSpPr>
        <p:spPr>
          <a:xfrm>
            <a:off x="1332000" y="33465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7"/>
          <p:cNvSpPr/>
          <p:nvPr/>
        </p:nvSpPr>
        <p:spPr>
          <a:xfrm>
            <a:off x="2703600" y="492912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38"/>
          <p:cNvSpPr/>
          <p:nvPr/>
        </p:nvSpPr>
        <p:spPr>
          <a:xfrm>
            <a:off x="5114880" y="4919760"/>
            <a:ext cx="1235160" cy="118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49"/>
          <p:cNvSpPr/>
          <p:nvPr/>
        </p:nvSpPr>
        <p:spPr>
          <a:xfrm>
            <a:off x="5191200" y="494028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49"/>
          <p:cNvSpPr/>
          <p:nvPr/>
        </p:nvSpPr>
        <p:spPr>
          <a:xfrm>
            <a:off x="2793960" y="4994280"/>
            <a:ext cx="103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BIG DATA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之運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4"/>
          <p:cNvSpPr/>
          <p:nvPr/>
        </p:nvSpPr>
        <p:spPr>
          <a:xfrm flipH="1">
            <a:off x="5614920" y="3708360"/>
            <a:ext cx="719280" cy="471600"/>
          </a:xfrm>
          <a:prstGeom prst="rightArrow">
            <a:avLst>
              <a:gd name="adj1" fmla="val 50000"/>
              <a:gd name="adj2" fmla="val 36654"/>
            </a:avLst>
          </a:prstGeom>
          <a:solidFill>
            <a:srgbClr val="d79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5"/>
          <p:cNvSpPr/>
          <p:nvPr/>
        </p:nvSpPr>
        <p:spPr>
          <a:xfrm>
            <a:off x="6292800" y="3379680"/>
            <a:ext cx="1235160" cy="118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d79349"/>
            </a:solidFill>
            <a:miter/>
          </a:ln>
          <a:effectLst>
            <a:outerShdw dist="38160" dir="54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新商業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推動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9"/>
          <p:cNvSpPr/>
          <p:nvPr/>
        </p:nvSpPr>
        <p:spPr>
          <a:xfrm>
            <a:off x="1339920" y="3573360"/>
            <a:ext cx="13507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個資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爭議解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E6E0-309A-4C41-8C6E-3DA51BC17B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5920" y="7048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行政訴訟案經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圖片 12" descr=""/>
          <p:cNvPicPr/>
          <p:nvPr/>
        </p:nvPicPr>
        <p:blipFill>
          <a:blip r:embed="rId3"/>
          <a:stretch/>
        </p:blipFill>
        <p:spPr>
          <a:xfrm>
            <a:off x="7142040" y="4322880"/>
            <a:ext cx="1870200" cy="1439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250920" y="1326960"/>
            <a:ext cx="9145440" cy="484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媒體報導行政院擬打造「醫療雲」計畫，人權團體關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七個民間團體召開記者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衛生署駁回訴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02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月其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人向高等行政法院提起行政訴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駁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原告不服向最高行政法院上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最高行政法院發回高等行政法院更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高等法院召開準備程序，迄今尚在準備程序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130480" y="2104920"/>
            <a:ext cx="698508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質疑健保局釋出健保資料給國衛院建置「全民健康保險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究資料庫」及衛福部建置「健康資料加值應用協作中心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與分中心作為學術或商業利用之法令授權依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後續健保局接獲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26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封存證信函，拒絕將個人健保資料供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  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保業務外利用，其中</a:t>
            </a:r>
            <a:r>
              <a:rPr b="0" lang="en-US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cc"/>
                </a:solidFill>
                <a:latin typeface="標楷體"/>
                <a:ea typeface="標楷體"/>
              </a:rPr>
              <a:t>人不服，提起訴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47CD-05BA-4F5F-BC9A-1ABA81EA5C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15920" y="6508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2060"/>
                </a:solidFill>
                <a:latin typeface="標楷體"/>
                <a:ea typeface="標楷體"/>
              </a:rPr>
              <a:t>健保資料應用之爭議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tent Placeholder 1"/>
          <p:cNvSpPr/>
          <p:nvPr/>
        </p:nvSpPr>
        <p:spPr>
          <a:xfrm>
            <a:off x="457200" y="1249200"/>
            <a:ext cx="412128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本案的爭議點之一，就是提供研究的健保資料的去識別化是否已達到「無從識別特定當事人」的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人權團體蔡○○等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8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員主張健保署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原健保局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、衛服部、國衛院所謂經去識別化的資料還是有直接或間接識別的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  <a:ea typeface="標楷體"/>
              </a:rPr>
              <a:t>健保署、衛服部、國衛院則辯稱資料已經去識別化，依法務部函釋意旨，並非個資法上的個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6"/>
          <a:stretch/>
        </p:blipFill>
        <p:spPr>
          <a:xfrm>
            <a:off x="4643280" y="1341360"/>
            <a:ext cx="3187800" cy="5004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"/>
          <p:cNvSpPr/>
          <p:nvPr/>
        </p:nvSpPr>
        <p:spPr>
          <a:xfrm>
            <a:off x="2049480" y="0"/>
            <a:ext cx="6659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個資利用爭議解決之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91E6-2B25-4AC3-B9E2-D1F6642510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29"/>
          <p:cNvSpPr/>
          <p:nvPr/>
        </p:nvSpPr>
        <p:spPr>
          <a:xfrm>
            <a:off x="6418440" y="6191280"/>
            <a:ext cx="19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群組 78"/>
          <p:cNvGrpSpPr/>
          <p:nvPr/>
        </p:nvGrpSpPr>
        <p:grpSpPr>
          <a:xfrm>
            <a:off x="539640" y="1353960"/>
            <a:ext cx="8280360" cy="5033160"/>
            <a:chOff x="539640" y="1353960"/>
            <a:chExt cx="8280360" cy="5033160"/>
          </a:xfrm>
        </p:grpSpPr>
        <p:sp>
          <p:nvSpPr>
            <p:cNvPr id="114" name="Rectangle 890"/>
            <p:cNvSpPr/>
            <p:nvPr/>
          </p:nvSpPr>
          <p:spPr>
            <a:xfrm>
              <a:off x="53964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89"/>
            <p:cNvSpPr/>
            <p:nvPr/>
          </p:nvSpPr>
          <p:spPr>
            <a:xfrm>
              <a:off x="53964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91"/>
            <p:cNvSpPr/>
            <p:nvPr/>
          </p:nvSpPr>
          <p:spPr>
            <a:xfrm>
              <a:off x="342072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006000"/>
                </a:gs>
                <a:gs pos="100000">
                  <a:srgbClr val="00d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93"/>
            <p:cNvSpPr/>
            <p:nvPr/>
          </p:nvSpPr>
          <p:spPr>
            <a:xfrm>
              <a:off x="6300000" y="1353960"/>
              <a:ext cx="2520000" cy="1283760"/>
            </a:xfrm>
            <a:prstGeom prst="rect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97"/>
            <p:cNvSpPr/>
            <p:nvPr/>
          </p:nvSpPr>
          <p:spPr>
            <a:xfrm>
              <a:off x="342072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98"/>
            <p:cNvSpPr/>
            <p:nvPr/>
          </p:nvSpPr>
          <p:spPr>
            <a:xfrm>
              <a:off x="6300000" y="2735640"/>
              <a:ext cx="2520000" cy="3651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de5c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99"/>
            <p:cNvSpPr/>
            <p:nvPr/>
          </p:nvSpPr>
          <p:spPr>
            <a:xfrm>
              <a:off x="753840" y="1387080"/>
              <a:ext cx="2090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行政院國家資通安全會報第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7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次委員會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04"/>
            <p:cNvSpPr/>
            <p:nvPr/>
          </p:nvSpPr>
          <p:spPr>
            <a:xfrm>
              <a:off x="582480" y="2742840"/>
              <a:ext cx="251928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月召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本局規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4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年參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 29191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制定之「資訊技術－安全技術－部分匿名及部分去連結鑑別之要求事項」國家標準，似可應用於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g Data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之個人資料去識別化，請儘速完成制定，期有助於巨量資料應用所遇瓶頸之突破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標楷體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"/>
          <p:cNvSpPr/>
          <p:nvPr/>
        </p:nvSpPr>
        <p:spPr>
          <a:xfrm>
            <a:off x="1762200" y="-76320"/>
            <a:ext cx="75610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、行政院指示辦理事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99"/>
          <p:cNvSpPr/>
          <p:nvPr/>
        </p:nvSpPr>
        <p:spPr>
          <a:xfrm>
            <a:off x="3537000" y="13413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「研議因應大數據潮流個人資料去識別化機制分工事宜」會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99"/>
          <p:cNvSpPr/>
          <p:nvPr/>
        </p:nvSpPr>
        <p:spPr>
          <a:xfrm>
            <a:off x="6559560" y="1411200"/>
            <a:ext cx="20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行政院國家資通安全會報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次委員會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04"/>
          <p:cNvSpPr/>
          <p:nvPr/>
        </p:nvSpPr>
        <p:spPr>
          <a:xfrm>
            <a:off x="3348000" y="2768760"/>
            <a:ext cx="26640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組織設計的角度而言，經濟部所轄標準檢驗局可研訂資訊安全相關國家標準，工研院具技術能力，資策會同時間兼具技術及法規審視研定能力，爰請經濟部負責與本案有關之準則訂定、認證程序、爭議處理之運作機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04"/>
          <p:cNvSpPr/>
          <p:nvPr/>
        </p:nvSpPr>
        <p:spPr>
          <a:xfrm>
            <a:off x="6227640" y="2720880"/>
            <a:ext cx="270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制定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2919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國家標準，可供各部會推動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應用時，作為判斷所涉個人資料是否釋出及如何釋出之準則。俟本局完成驗證標準及相關文件後，請國發會、資通安全辦公室及本局辦理政府機關及相關民間企業說明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68F-F321-44B1-A498-798B354D03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38480" y="-50760"/>
            <a:ext cx="66592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「研商因應大數據潮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標楷體"/>
                <a:ea typeface="標楷體"/>
              </a:rPr>
              <a:t>個人資料去識別化可行機制」會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4360" y="1417680"/>
            <a:ext cx="3286080" cy="4930560"/>
          </a:xfrm>
          <a:custGeom>
            <a:avLst/>
            <a:gdLst>
              <a:gd name="textAreaLeft" fmla="*/ 84960 w 3286080"/>
              <a:gd name="textAreaRight" fmla="*/ 3201120 w 3286080"/>
              <a:gd name="textAreaTop" fmla="*/ 84960 h 4930560"/>
              <a:gd name="textAreaBottom" fmla="*/ 4845600 h 4930560"/>
            </a:gdLst>
            <a:ahLst/>
            <a:rect l="textAreaLeft" t="textAreaTop" r="textAreaRight" b="textAreaBottom"/>
            <a:pathLst>
              <a:path w="21600" h="32408">
                <a:moveTo>
                  <a:pt x="1913" y="0"/>
                </a:moveTo>
                <a:arcTo wR="1913" hR="1913" stAng="16200000" swAng="-5400000"/>
                <a:lnTo>
                  <a:pt x="0" y="30495"/>
                </a:lnTo>
                <a:arcTo wR="1913" hR="1913" stAng="10800000" swAng="-5400000"/>
                <a:lnTo>
                  <a:pt x="19687" y="32408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群組 32"/>
          <p:cNvGrpSpPr/>
          <p:nvPr/>
        </p:nvGrpSpPr>
        <p:grpSpPr>
          <a:xfrm>
            <a:off x="4066920" y="1484280"/>
            <a:ext cx="4681800" cy="4845240"/>
            <a:chOff x="4066920" y="1484280"/>
            <a:chExt cx="4681800" cy="4845240"/>
          </a:xfrm>
        </p:grpSpPr>
        <p:sp>
          <p:nvSpPr>
            <p:cNvPr id="131" name="AutoShape 4"/>
            <p:cNvSpPr/>
            <p:nvPr/>
          </p:nvSpPr>
          <p:spPr>
            <a:xfrm>
              <a:off x="4760640" y="1484280"/>
              <a:ext cx="3988080" cy="4845240"/>
            </a:xfrm>
            <a:custGeom>
              <a:avLst/>
              <a:gdLst>
                <a:gd name="textAreaLeft" fmla="*/ 103320 w 3988080"/>
                <a:gd name="textAreaRight" fmla="*/ 3884760 w 3988080"/>
                <a:gd name="textAreaTop" fmla="*/ 103320 h 4845240"/>
                <a:gd name="textAreaBottom" fmla="*/ 4741920 h 4845240"/>
              </a:gdLst>
              <a:ahLst/>
              <a:rect l="textAreaLeft" t="textAreaTop" r="textAreaRight" b="textAreaBottom"/>
              <a:pathLst>
                <a:path w="21600" h="26242">
                  <a:moveTo>
                    <a:pt x="1913" y="0"/>
                  </a:moveTo>
                  <a:arcTo wR="1913" hR="1913" stAng="16200000" swAng="-5400000"/>
                  <a:lnTo>
                    <a:pt x="0" y="24329"/>
                  </a:lnTo>
                  <a:arcTo wR="1913" hR="1913" stAng="10800000" swAng="-5400000"/>
                  <a:lnTo>
                    <a:pt x="19687" y="26242"/>
                  </a:lnTo>
                  <a:arcTo wR="1913" hR="1913" stAng="5400000" swAng="-5400000"/>
                  <a:lnTo>
                    <a:pt x="21600" y="1913"/>
                  </a:lnTo>
                  <a:arcTo wR="1913" hR="191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 flipV="1" rot="16200000">
              <a:off x="4060800" y="2927880"/>
              <a:ext cx="673920" cy="662040"/>
            </a:xfrm>
            <a:prstGeom prst="upArrow">
              <a:avLst>
                <a:gd name="adj1" fmla="val 50000"/>
                <a:gd name="adj2" fmla="val 492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圆角矩形 7"/>
          <p:cNvGrpSpPr/>
          <p:nvPr/>
        </p:nvGrpSpPr>
        <p:grpSpPr>
          <a:xfrm>
            <a:off x="1376280" y="1268280"/>
            <a:ext cx="1998720" cy="371520"/>
            <a:chOff x="1376280" y="1268280"/>
            <a:chExt cx="1998720" cy="371520"/>
          </a:xfrm>
        </p:grpSpPr>
        <p:pic>
          <p:nvPicPr>
            <p:cNvPr id="134" name="圆角矩形 7" descr=""/>
            <p:cNvPicPr/>
            <p:nvPr/>
          </p:nvPicPr>
          <p:blipFill>
            <a:blip r:embed="rId2"/>
            <a:stretch/>
          </p:blipFill>
          <p:spPr>
            <a:xfrm>
              <a:off x="1376280" y="1268280"/>
              <a:ext cx="199872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391760" y="1284840"/>
              <a:ext cx="196704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報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圆角矩形 7"/>
          <p:cNvGrpSpPr/>
          <p:nvPr/>
        </p:nvGrpSpPr>
        <p:grpSpPr>
          <a:xfrm>
            <a:off x="5729400" y="1281240"/>
            <a:ext cx="1998720" cy="377640"/>
            <a:chOff x="5729400" y="1281240"/>
            <a:chExt cx="1998720" cy="377640"/>
          </a:xfrm>
        </p:grpSpPr>
        <p:pic>
          <p:nvPicPr>
            <p:cNvPr id="137" name="圆角矩形 7" descr=""/>
            <p:cNvPicPr/>
            <p:nvPr/>
          </p:nvPicPr>
          <p:blipFill>
            <a:blip r:embed="rId3"/>
            <a:stretch/>
          </p:blipFill>
          <p:spPr>
            <a:xfrm>
              <a:off x="5729400" y="1281240"/>
              <a:ext cx="199872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44160" y="1297440"/>
              <a:ext cx="1967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49680" bIns="496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733400"/>
                  <a:tab algn="l" pos="3467160"/>
                  <a:tab algn="l" pos="5200560"/>
                  <a:tab algn="l" pos="6934320"/>
                  <a:tab algn="l" pos="8667720"/>
                  <a:tab algn="l" pos="10401480"/>
                </a:tabLst>
              </a:pPr>
              <a:r>
                <a:rPr b="0" lang="zh-TW" sz="2800" spc="-1" strike="noStrike">
                  <a:solidFill>
                    <a:srgbClr val="ffffff"/>
                  </a:solidFill>
                  <a:latin typeface="Arial"/>
                  <a:ea typeface="標楷體"/>
                </a:rPr>
                <a:t>會議決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矩形 28"/>
          <p:cNvSpPr/>
          <p:nvPr/>
        </p:nvSpPr>
        <p:spPr>
          <a:xfrm>
            <a:off x="895320" y="1865160"/>
            <a:ext cx="313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日由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院蔡政務委員玉玲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TW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持會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本局報告「個人資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運作機制」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4826160" y="17398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data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個人資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去識別化之應用，透過中立的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第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方驗證機制，提供專家意見書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助我國大數據開發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4795920" y="2992320"/>
            <a:ext cx="439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請本局就目前相關標準規範（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NS 2919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相關國家標準）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進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研析，並邀請法務部等相關政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機關及驗證機構開會討論，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於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月內確定「個人資料去識別化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驗證標準規範，以供政府機關採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4782960" y="47466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驗證標準規範確定後，請財政資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心、凱擘公司或中華電信公司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自行選擇驗證機構</a:t>
            </a:r>
            <a:r>
              <a:rPr b="0" lang="zh-TW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，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率先進行驗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233360" y="-31680"/>
            <a:ext cx="84250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、驗證標準規範之研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群組 40"/>
          <p:cNvGrpSpPr/>
          <p:nvPr/>
        </p:nvGrpSpPr>
        <p:grpSpPr>
          <a:xfrm>
            <a:off x="-1440" y="1341360"/>
            <a:ext cx="9145440" cy="5329440"/>
            <a:chOff x="-1440" y="1341360"/>
            <a:chExt cx="9145440" cy="5329440"/>
          </a:xfrm>
        </p:grpSpPr>
        <p:sp>
          <p:nvSpPr>
            <p:cNvPr id="145" name="Rectangle 164"/>
            <p:cNvSpPr/>
            <p:nvPr/>
          </p:nvSpPr>
          <p:spPr>
            <a:xfrm>
              <a:off x="7452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efd7a7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5"/>
            <p:cNvSpPr/>
            <p:nvPr/>
          </p:nvSpPr>
          <p:spPr>
            <a:xfrm>
              <a:off x="74520" y="1341360"/>
              <a:ext cx="4425840" cy="736560"/>
            </a:xfrm>
            <a:prstGeom prst="rect">
              <a:avLst/>
            </a:prstGeom>
            <a:solidFill>
              <a:srgbClr val="c69024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0"/>
            <p:cNvSpPr/>
            <p:nvPr/>
          </p:nvSpPr>
          <p:spPr>
            <a:xfrm>
              <a:off x="260280" y="142992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ISO</a:t>
              </a: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－正在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7"/>
            <p:cNvSpPr/>
            <p:nvPr/>
          </p:nvSpPr>
          <p:spPr>
            <a:xfrm>
              <a:off x="4586400" y="203976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dee9a5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8"/>
            <p:cNvSpPr/>
            <p:nvPr/>
          </p:nvSpPr>
          <p:spPr>
            <a:xfrm>
              <a:off x="4573800" y="1341360"/>
              <a:ext cx="4425840" cy="736560"/>
            </a:xfrm>
            <a:prstGeom prst="rect">
              <a:avLst/>
            </a:prstGeom>
            <a:solidFill>
              <a:srgbClr val="8ea32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60"/>
            <p:cNvSpPr/>
            <p:nvPr/>
          </p:nvSpPr>
          <p:spPr>
            <a:xfrm>
              <a:off x="4765680" y="142992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美國</a:t>
              </a:r>
              <a:r>
                <a:rPr b="1" lang="zh-TW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－法令眀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70"/>
            <p:cNvSpPr/>
            <p:nvPr/>
          </p:nvSpPr>
          <p:spPr>
            <a:xfrm>
              <a:off x="7452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2bde5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1"/>
            <p:cNvSpPr/>
            <p:nvPr/>
          </p:nvSpPr>
          <p:spPr>
            <a:xfrm>
              <a:off x="74520" y="5934240"/>
              <a:ext cx="4425840" cy="736560"/>
            </a:xfrm>
            <a:prstGeom prst="rect">
              <a:avLst/>
            </a:prstGeom>
            <a:solidFill>
              <a:srgbClr val="7c72c8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0"/>
            <p:cNvSpPr/>
            <p:nvPr/>
          </p:nvSpPr>
          <p:spPr>
            <a:xfrm>
              <a:off x="260280" y="6023160"/>
              <a:ext cx="40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歐盟－提供參考指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3"/>
            <p:cNvSpPr/>
            <p:nvPr/>
          </p:nvSpPr>
          <p:spPr>
            <a:xfrm>
              <a:off x="4586400" y="4037040"/>
              <a:ext cx="4413240" cy="189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e5e6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4"/>
            <p:cNvSpPr/>
            <p:nvPr/>
          </p:nvSpPr>
          <p:spPr>
            <a:xfrm>
              <a:off x="4573800" y="5934240"/>
              <a:ext cx="4425840" cy="736560"/>
            </a:xfrm>
            <a:prstGeom prst="rect">
              <a:avLst/>
            </a:prstGeom>
            <a:solidFill>
              <a:srgbClr val="3fa5a7"/>
            </a:solidFill>
            <a:ln w="28440">
              <a:solidFill>
                <a:srgbClr val="f8f8f8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0"/>
            <p:cNvSpPr/>
            <p:nvPr/>
          </p:nvSpPr>
          <p:spPr>
            <a:xfrm>
              <a:off x="4765680" y="6023160"/>
              <a:ext cx="40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ff"/>
                  </a:solidFill>
                  <a:latin typeface="標楷體"/>
                  <a:ea typeface="標楷體"/>
                </a:rPr>
                <a:t>日本－納入修法方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6"/>
            <p:cNvSpPr/>
            <p:nvPr/>
          </p:nvSpPr>
          <p:spPr>
            <a:xfrm>
              <a:off x="3735360" y="3141720"/>
              <a:ext cx="1447560" cy="13860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  <a:effectLst>
              <a:outerShdw dist="12600" dir="54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5"/>
            <p:cNvSpPr/>
            <p:nvPr/>
          </p:nvSpPr>
          <p:spPr>
            <a:xfrm>
              <a:off x="3495600" y="3430440"/>
              <a:ext cx="193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國際發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趨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5"/>
            <p:cNvSpPr/>
            <p:nvPr/>
          </p:nvSpPr>
          <p:spPr>
            <a:xfrm>
              <a:off x="-1440" y="2114280"/>
              <a:ext cx="437184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/IEC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正在發展「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 technology –  Security techniques – Privacy enhancing data de-identification techniques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」有關隱私相關資料去識別化技術之國際標準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已公布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O 29191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「資訊技術－安全技術－部分匿名及部分去連結鑑別之要求事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55"/>
            <p:cNvSpPr/>
            <p:nvPr/>
          </p:nvSpPr>
          <p:spPr>
            <a:xfrm>
              <a:off x="-1440" y="4049640"/>
              <a:ext cx="43480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由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icle 29 Working Party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提出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P 216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針對去識別化之不同機制進行個案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，看各機制是否滿足下列三項要求，作為判定是否完成「去識別化」之參考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識別當事人？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與其他個人資料相連結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執行後是否仍可能推論出與特定人相關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55"/>
            <p:cNvSpPr/>
            <p:nvPr/>
          </p:nvSpPr>
          <p:spPr>
            <a:xfrm>
              <a:off x="4591080" y="2114280"/>
              <a:ext cx="4408560" cy="11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美國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Rule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明文允許可回復之「去識別化」資料之加值利用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SzPct val="80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以法令明定「去識別化」之標準或方式，以個人醫療資訊為例，係於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IPAA Privac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ule, 45 CFR 164.514(b)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中，明訂以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專家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判斷法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或</a:t>
              </a:r>
              <a:r>
                <a:rPr b="0" lang="zh-TW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安全港準則</a:t>
              </a:r>
              <a:r>
                <a:rPr b="0" lang="zh-TW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來判定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55"/>
            <p:cNvSpPr/>
            <p:nvPr/>
          </p:nvSpPr>
          <p:spPr>
            <a:xfrm>
              <a:off x="4408560" y="4149720"/>
              <a:ext cx="47354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15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            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日本個人情報保護法，尚未明白說明去識別化之相關判斷標準。但日本內閣官房已在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2014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年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12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月公布個人情報保護法預定修法方向：其一、將在修正草案中增訂「匿名化處理資料」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(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匿名加工情報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)</a:t>
              </a:r>
              <a:r>
                <a:rPr b="0" lang="zh-TW" sz="15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概念；其二，將增訂「個人資料保護委員會」此一個資專責機關，未來並由該單位負責「匿名化處理資料」之監督管理與相關配套規範之訂定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31"/>
          <p:cNvSpPr/>
          <p:nvPr/>
        </p:nvSpPr>
        <p:spPr>
          <a:xfrm>
            <a:off x="807120" y="776160"/>
            <a:ext cx="2771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3300"/>
                </a:solidFill>
                <a:latin typeface="Times New Roman"/>
                <a:ea typeface="標楷體"/>
              </a:rPr>
              <a:t>國際標準規範正發展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投影片編號版面配置區 27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04F0-4322-43E7-9A87-44A9D53112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5D7F-1071-4990-838D-1BFD02257D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1"/>
          <p:cNvSpPr/>
          <p:nvPr/>
        </p:nvSpPr>
        <p:spPr>
          <a:xfrm>
            <a:off x="7010280" y="6559560"/>
            <a:ext cx="21337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8059-05CA-4CC2-8B65-E4869B3FB5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55640" y="-65160"/>
            <a:ext cx="7504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現有相關國家標準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內容版面配置區 2"/>
          <p:cNvSpPr/>
          <p:nvPr/>
        </p:nvSpPr>
        <p:spPr>
          <a:xfrm>
            <a:off x="0" y="57780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「資訊技術－安全技術－隱私權框架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公布，提供資通訊系統內保護個人可識別資訊之高階框架，可應用於組織、技術及程序中各層面之整體個人隱私權保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0" y="2149560"/>
            <a:ext cx="924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NS 29100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適用政府機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pen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g data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應用之情境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物件 10"/>
          <p:cNvGraphicFramePr/>
          <p:nvPr/>
        </p:nvGraphicFramePr>
        <p:xfrm>
          <a:off x="755640" y="4076640"/>
          <a:ext cx="7954920" cy="36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物件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076640"/>
                    <a:ext cx="79549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矩形 11"/>
          <p:cNvSpPr/>
          <p:nvPr/>
        </p:nvSpPr>
        <p:spPr>
          <a:xfrm>
            <a:off x="209520" y="3006720"/>
            <a:ext cx="908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g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控制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情境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h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政府機關或政府委託機構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處理者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提供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II (open data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、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g data)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給第三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43200" y="6443640"/>
            <a:ext cx="712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 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備註： 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PII</a:t>
            </a:r>
            <a:r>
              <a:rPr b="0" lang="zh-TW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為個人可識別資訊</a:t>
            </a:r>
            <a:r>
              <a:rPr b="0" lang="en-US" sz="2200" spc="-1" strike="noStrike">
                <a:solidFill>
                  <a:srgbClr val="002060"/>
                </a:solidFill>
                <a:latin typeface="Times New Roman"/>
                <a:ea typeface="標楷體"/>
              </a:rPr>
              <a:t>(personally identifiable informatio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5:13:07Z</dcterms:created>
  <dc:creator>USER</dc:creator>
  <dc:description/>
  <dc:language>en-US</dc:language>
  <cp:lastModifiedBy>ly.yang</cp:lastModifiedBy>
  <dcterms:modified xsi:type="dcterms:W3CDTF">2015-09-22T00:59:01Z</dcterms:modified>
  <cp:revision>1821</cp:revision>
  <dc:subject/>
  <dc:title>投影片 1</dc:title>
</cp:coreProperties>
</file>