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3.png" ContentType="image/png"/>
  <Override PartName="/ppt/media/image8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548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523544-D3D0-46DD-B32E-3FF84A0D1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投影片編號版面配置區 3"/>
          <p:cNvSpPr/>
          <p:nvPr/>
        </p:nvSpPr>
        <p:spPr>
          <a:xfrm>
            <a:off x="3816360" y="937584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BFB64C-5F5F-4BB0-9525-3BC92421E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投影片編號版面配置區 3"/>
          <p:cNvSpPr/>
          <p:nvPr/>
        </p:nvSpPr>
        <p:spPr>
          <a:xfrm>
            <a:off x="3816360" y="937584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314DE3-432D-4433-BD1F-C318B0D14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7D3-AC88-40B5-8113-8350846F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105-341A-4166-BC4B-09E6CA27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C4F-D3A0-4E6A-95A8-834CD36C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6249-C097-4723-9A0C-F66C398C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03E9-F4DC-4B06-9AA4-5A2058E1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EA5B-378C-4684-AD9D-23EAFD3B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B79-4797-491F-B58B-DF2602E1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EDA-1D42-4601-9974-9488FD8F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ADE-656A-4412-9C76-67E118F9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DE7-38CA-4339-B286-1EB67B29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815-4C6C-467C-B573-A64461E3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F34E-69F3-4A6E-9864-FB643023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3546-30C2-4344-A1F8-9A4EBAC26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44360" y="765000"/>
            <a:ext cx="8839080" cy="3081240"/>
            <a:chOff x="144360" y="765000"/>
            <a:chExt cx="8839080" cy="3081240"/>
          </a:xfrm>
        </p:grpSpPr>
        <p:sp>
          <p:nvSpPr>
            <p:cNvPr id="49" name="Rectangle 3"/>
            <p:cNvSpPr/>
            <p:nvPr/>
          </p:nvSpPr>
          <p:spPr>
            <a:xfrm>
              <a:off x="144360" y="787680"/>
              <a:ext cx="8839080" cy="3058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196560" y="3073320"/>
              <a:ext cx="596520" cy="772920"/>
            </a:xfrm>
            <a:prstGeom prst="rect">
              <a:avLst/>
            </a:prstGeom>
            <a:gradFill rotWithShape="0">
              <a:gsLst>
                <a:gs pos="0">
                  <a:srgbClr val="e0de9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1379880" y="791280"/>
              <a:ext cx="594360" cy="775080"/>
            </a:xfrm>
            <a:prstGeom prst="rect">
              <a:avLst/>
            </a:prstGeom>
            <a:gradFill rotWithShape="0">
              <a:gsLst>
                <a:gs pos="0">
                  <a:srgbClr val="32be67">
                    <a:alpha val="53333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196560" y="765000"/>
              <a:ext cx="605880" cy="765000"/>
            </a:xfrm>
            <a:prstGeom prst="rect">
              <a:avLst/>
            </a:prstGeom>
            <a:gradFill rotWithShape="0">
              <a:gsLst>
                <a:gs pos="0">
                  <a:srgbClr val="32be67">
                    <a:alpha val="53333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785160" y="3073320"/>
              <a:ext cx="605880" cy="772920"/>
            </a:xfrm>
            <a:prstGeom prst="rect">
              <a:avLst/>
            </a:prstGeom>
            <a:gradFill rotWithShape="0">
              <a:gsLst>
                <a:gs pos="0">
                  <a:srgbClr val="02884b">
                    <a:alpha val="53333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4" name="Rectangle 8"/>
            <p:cNvSpPr/>
            <p:nvPr/>
          </p:nvSpPr>
          <p:spPr>
            <a:xfrm>
              <a:off x="1964520" y="791280"/>
              <a:ext cx="608040" cy="775080"/>
            </a:xfrm>
            <a:prstGeom prst="rect">
              <a:avLst/>
            </a:prstGeom>
            <a:gradFill rotWithShape="0">
              <a:gsLst>
                <a:gs pos="0">
                  <a:srgbClr val="e0de9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5" name="Rectangle 9"/>
            <p:cNvSpPr/>
            <p:nvPr/>
          </p:nvSpPr>
          <p:spPr>
            <a:xfrm>
              <a:off x="785160" y="1555200"/>
              <a:ext cx="605880" cy="763200"/>
            </a:xfrm>
            <a:prstGeom prst="rect">
              <a:avLst/>
            </a:prstGeom>
            <a:gradFill rotWithShape="0">
              <a:gsLst>
                <a:gs pos="0">
                  <a:srgbClr val="32be67">
                    <a:alpha val="53333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1379880" y="1555200"/>
              <a:ext cx="594360" cy="763200"/>
            </a:xfrm>
            <a:prstGeom prst="rect">
              <a:avLst/>
            </a:prstGeom>
            <a:gradFill rotWithShape="0">
              <a:gsLst>
                <a:gs pos="0">
                  <a:srgbClr val="e0de9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>
              <a:off x="196560" y="2307600"/>
              <a:ext cx="596520" cy="776880"/>
            </a:xfrm>
            <a:prstGeom prst="rect">
              <a:avLst/>
            </a:prstGeom>
            <a:gradFill rotWithShape="0">
              <a:gsLst>
                <a:gs pos="0">
                  <a:srgbClr val="32be67">
                    <a:alpha val="53333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>
              <a:off x="785160" y="2307600"/>
              <a:ext cx="605880" cy="776880"/>
            </a:xfrm>
            <a:prstGeom prst="rect">
              <a:avLst/>
            </a:prstGeom>
            <a:gradFill rotWithShape="0">
              <a:gsLst>
                <a:gs pos="0">
                  <a:srgbClr val="e0de9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1616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988640"/>
            <a:ext cx="8064360" cy="15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990000"/>
                </a:solidFill>
                <a:latin typeface="微軟正黑體"/>
                <a:ea typeface="微軟正黑體"/>
              </a:rPr>
              <a:t>經濟部研究發展委員會</a:t>
            </a:r>
            <a:br>
              <a:rPr sz="6000"/>
            </a:br>
            <a:r>
              <a:rPr b="1" lang="zh-TW" sz="6000" spc="-1" strike="noStrike">
                <a:solidFill>
                  <a:srgbClr val="990000"/>
                </a:solidFill>
                <a:latin typeface="微軟正黑體"/>
                <a:ea typeface="微軟正黑體"/>
              </a:rPr>
              <a:t>開放資料推動情形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341280" y="4797360"/>
            <a:ext cx="861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16165d"/>
                </a:solidFill>
                <a:latin typeface="標楷體"/>
                <a:ea typeface="標楷體"/>
              </a:rPr>
              <a:t>      </a:t>
            </a:r>
            <a:r>
              <a:rPr b="1" lang="zh-TW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報告人</a:t>
            </a:r>
            <a:r>
              <a:rPr b="1" lang="en-US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:</a:t>
            </a:r>
            <a:r>
              <a:rPr b="1" lang="zh-TW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張副執行秘書美惠</a:t>
            </a:r>
            <a:endParaRPr b="1" lang="en-US" sz="3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       </a:t>
            </a:r>
            <a:r>
              <a:rPr b="1" lang="en-US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106</a:t>
            </a:r>
            <a:r>
              <a:rPr b="1" lang="zh-TW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年</a:t>
            </a:r>
            <a:r>
              <a:rPr b="1" lang="en-US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4</a:t>
            </a:r>
            <a:r>
              <a:rPr b="1" lang="zh-TW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月</a:t>
            </a:r>
            <a:r>
              <a:rPr b="1" lang="en-US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27</a:t>
            </a:r>
            <a:r>
              <a:rPr b="1" lang="zh-TW" sz="3800" spc="-1" strike="noStrike">
                <a:solidFill>
                  <a:srgbClr val="16165d"/>
                </a:solidFill>
                <a:latin typeface="微軟正黑體"/>
                <a:ea typeface="微軟正黑體"/>
              </a:rPr>
              <a:t>日 </a:t>
            </a:r>
            <a:endParaRPr b="1" lang="en-US" sz="3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1" name="圖片 1" descr=""/>
          <p:cNvPicPr/>
          <p:nvPr/>
        </p:nvPicPr>
        <p:blipFill>
          <a:blip r:embed="rId1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466B-CA02-4B16-B342-71867C887EAD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簡報大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資料庫圖表 1" descr=""/>
          <p:cNvPicPr/>
          <p:nvPr/>
        </p:nvPicPr>
        <p:blipFill>
          <a:blip r:embed="rId1"/>
          <a:stretch/>
        </p:blipFill>
        <p:spPr>
          <a:xfrm>
            <a:off x="262080" y="1341360"/>
            <a:ext cx="8570880" cy="45230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"/>
          <p:cNvGrpSpPr/>
          <p:nvPr/>
        </p:nvGrpSpPr>
        <p:grpSpPr>
          <a:xfrm>
            <a:off x="36360" y="914400"/>
            <a:ext cx="9044280" cy="76320"/>
            <a:chOff x="36360" y="914400"/>
            <a:chExt cx="9044280" cy="76320"/>
          </a:xfrm>
        </p:grpSpPr>
        <p:sp>
          <p:nvSpPr>
            <p:cNvPr id="66" name="Rectangle 5"/>
            <p:cNvSpPr/>
            <p:nvPr/>
          </p:nvSpPr>
          <p:spPr>
            <a:xfrm>
              <a:off x="36360" y="914400"/>
              <a:ext cx="44654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4501800" y="914400"/>
              <a:ext cx="4578840" cy="763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pic>
        <p:nvPicPr>
          <p:cNvPr id="68" name="圖片 10" descr=""/>
          <p:cNvPicPr/>
          <p:nvPr/>
        </p:nvPicPr>
        <p:blipFill>
          <a:blip r:embed="rId2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圖片 8" descr=""/>
          <p:cNvPicPr/>
          <p:nvPr/>
        </p:nvPicPr>
        <p:blipFill>
          <a:blip r:embed="rId1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  <p:sp>
        <p:nvSpPr>
          <p:cNvPr id="70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044A-58EE-4A7D-AD11-3211B7094C7A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52472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壹、推動策略與作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36360" y="914400"/>
            <a:ext cx="9044280" cy="76320"/>
            <a:chOff x="36360" y="914400"/>
            <a:chExt cx="9044280" cy="76320"/>
          </a:xfrm>
        </p:grpSpPr>
        <p:sp>
          <p:nvSpPr>
            <p:cNvPr id="73" name="Rectangle 5"/>
            <p:cNvSpPr/>
            <p:nvPr/>
          </p:nvSpPr>
          <p:spPr>
            <a:xfrm>
              <a:off x="36360" y="914400"/>
              <a:ext cx="44654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74" name="Rectangle 6"/>
            <p:cNvSpPr/>
            <p:nvPr/>
          </p:nvSpPr>
          <p:spPr>
            <a:xfrm>
              <a:off x="4501800" y="914400"/>
              <a:ext cx="4578840" cy="763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75" name="群組 3"/>
          <p:cNvGrpSpPr/>
          <p:nvPr/>
        </p:nvGrpSpPr>
        <p:grpSpPr>
          <a:xfrm>
            <a:off x="250920" y="1413000"/>
            <a:ext cx="8353440" cy="4824360"/>
            <a:chOff x="250920" y="1413000"/>
            <a:chExt cx="8353440" cy="4824360"/>
          </a:xfrm>
        </p:grpSpPr>
        <p:grpSp>
          <p:nvGrpSpPr>
            <p:cNvPr id="76" name="手繪多邊形 4"/>
            <p:cNvGrpSpPr/>
            <p:nvPr/>
          </p:nvGrpSpPr>
          <p:grpSpPr>
            <a:xfrm>
              <a:off x="250920" y="1413000"/>
              <a:ext cx="3209040" cy="2474640"/>
              <a:chOff x="250920" y="1413000"/>
              <a:chExt cx="3209040" cy="2474640"/>
            </a:xfrm>
          </p:grpSpPr>
          <p:pic>
            <p:nvPicPr>
              <p:cNvPr id="77" name="手繪多邊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920" y="1413000"/>
                <a:ext cx="3209040" cy="24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311760" y="1447560"/>
                <a:ext cx="3087000" cy="23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0400" rIns="255960" tIns="255960" bIns="2559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576"/>
                  </a:spcAft>
                  <a:tabLst>
                    <a:tab algn="l" pos="0"/>
                    <a:tab algn="l" pos="1600200"/>
                    <a:tab algn="l" pos="3200400"/>
                    <a:tab algn="l" pos="4800600"/>
                    <a:tab algn="l" pos="6400800"/>
                    <a:tab algn="l" pos="8001000"/>
                    <a:tab algn="l" pos="9601200"/>
                  </a:tabLst>
                </a:pPr>
                <a:r>
                  <a:rPr b="1" lang="zh-TW" sz="36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施政計畫</a:t>
                </a:r>
                <a:endParaRPr b="1" lang="en-US" sz="36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grpSp>
          <p:nvGrpSpPr>
            <p:cNvPr id="79" name="手繪多邊形 5"/>
            <p:cNvGrpSpPr/>
            <p:nvPr/>
          </p:nvGrpSpPr>
          <p:grpSpPr>
            <a:xfrm>
              <a:off x="256680" y="3762720"/>
              <a:ext cx="3203280" cy="2474640"/>
              <a:chOff x="256680" y="3762720"/>
              <a:chExt cx="3203280" cy="2474640"/>
            </a:xfrm>
          </p:grpSpPr>
          <p:pic>
            <p:nvPicPr>
              <p:cNvPr id="80" name="手繪多邊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56680" y="3762720"/>
                <a:ext cx="3203280" cy="24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315000" y="3800880"/>
                <a:ext cx="3087000" cy="23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0400" rIns="255960" tIns="255960" bIns="25596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576"/>
                  </a:spcAft>
                  <a:tabLst>
                    <a:tab algn="l" pos="0"/>
                    <a:tab algn="l" pos="1600200"/>
                    <a:tab algn="l" pos="3200400"/>
                    <a:tab algn="l" pos="4800600"/>
                    <a:tab algn="l" pos="6400800"/>
                    <a:tab algn="l" pos="8001000"/>
                    <a:tab algn="l" pos="9601200"/>
                  </a:tabLst>
                </a:pPr>
                <a:r>
                  <a:rPr b="1" lang="zh-TW" sz="36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施政績效</a:t>
                </a:r>
                <a:endParaRPr b="1" lang="en-US" sz="36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grpSp>
          <p:nvGrpSpPr>
            <p:cNvPr id="82" name="手繪多邊形 7"/>
            <p:cNvGrpSpPr/>
            <p:nvPr/>
          </p:nvGrpSpPr>
          <p:grpSpPr>
            <a:xfrm>
              <a:off x="5401080" y="1413000"/>
              <a:ext cx="3203280" cy="2468520"/>
              <a:chOff x="5401080" y="1413000"/>
              <a:chExt cx="3203280" cy="2468520"/>
            </a:xfrm>
          </p:grpSpPr>
          <p:pic>
            <p:nvPicPr>
              <p:cNvPr id="83" name="手繪多邊形 7" descr=""/>
              <p:cNvPicPr/>
              <p:nvPr/>
            </p:nvPicPr>
            <p:blipFill>
              <a:blip r:embed="rId4"/>
              <a:stretch/>
            </p:blipFill>
            <p:spPr>
              <a:xfrm>
                <a:off x="5401080" y="1413000"/>
                <a:ext cx="3203280" cy="246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5459760" y="1447200"/>
                <a:ext cx="3087000" cy="23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0400" rIns="213480" tIns="213480" bIns="21348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1312"/>
                  </a:spcAft>
                  <a:tabLst>
                    <a:tab algn="l" pos="0"/>
                    <a:tab algn="l" pos="1333440"/>
                    <a:tab algn="l" pos="2666880"/>
                    <a:tab algn="l" pos="4000680"/>
                    <a:tab algn="l" pos="5334120"/>
                    <a:tab algn="l" pos="6667560"/>
                    <a:tab algn="l" pos="8001000"/>
                    <a:tab algn="l" pos="9334440"/>
                    <a:tab algn="l" pos="10667880"/>
                  </a:tabLst>
                </a:pPr>
                <a:r>
                  <a:rPr b="1" lang="zh-TW" sz="30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國內外經濟情勢分析</a:t>
                </a:r>
                <a:r>
                  <a:rPr b="1" lang="en-US" sz="30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(</a:t>
                </a:r>
                <a:r>
                  <a:rPr b="1" lang="zh-TW" sz="30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月報</a:t>
                </a:r>
                <a:r>
                  <a:rPr b="1" lang="en-US" sz="30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)</a:t>
                </a:r>
                <a:endParaRPr b="1" lang="en-US" sz="30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grpSp>
          <p:nvGrpSpPr>
            <p:cNvPr id="85" name="手繪多邊形 8"/>
            <p:cNvGrpSpPr/>
            <p:nvPr/>
          </p:nvGrpSpPr>
          <p:grpSpPr>
            <a:xfrm>
              <a:off x="5401080" y="3762720"/>
              <a:ext cx="3203280" cy="2474640"/>
              <a:chOff x="5401080" y="3762720"/>
              <a:chExt cx="3203280" cy="2474640"/>
            </a:xfrm>
          </p:grpSpPr>
          <p:pic>
            <p:nvPicPr>
              <p:cNvPr id="86" name="手繪多邊形 8" descr=""/>
              <p:cNvPicPr/>
              <p:nvPr/>
            </p:nvPicPr>
            <p:blipFill>
              <a:blip r:embed="rId5"/>
              <a:stretch/>
            </p:blipFill>
            <p:spPr>
              <a:xfrm>
                <a:off x="5401080" y="3762720"/>
                <a:ext cx="3203280" cy="247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5459760" y="3800880"/>
                <a:ext cx="3087000" cy="235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0400" rIns="213480" tIns="213480" bIns="2134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312"/>
                  </a:spcAft>
                  <a:tabLst>
                    <a:tab algn="l" pos="0"/>
                    <a:tab algn="l" pos="1333440"/>
                    <a:tab algn="l" pos="2666880"/>
                    <a:tab algn="l" pos="4000680"/>
                    <a:tab algn="l" pos="5334120"/>
                    <a:tab algn="l" pos="6667560"/>
                    <a:tab algn="l" pos="8001000"/>
                    <a:tab algn="l" pos="9334440"/>
                    <a:tab algn="l" pos="10667880"/>
                  </a:tabLst>
                </a:pPr>
                <a:r>
                  <a:rPr b="1" lang="zh-TW" sz="30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委託研究</a:t>
                </a:r>
                <a:endParaRPr b="1" lang="en-US" sz="3000" spc="-1" strike="noStrike">
                  <a:solidFill>
                    <a:srgbClr val="0000c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1312"/>
                  </a:spcAft>
                  <a:tabLst>
                    <a:tab algn="l" pos="0"/>
                    <a:tab algn="l" pos="1333440"/>
                    <a:tab algn="l" pos="2666880"/>
                    <a:tab algn="l" pos="4000680"/>
                    <a:tab algn="l" pos="5334120"/>
                    <a:tab algn="l" pos="6667560"/>
                    <a:tab algn="l" pos="8001000"/>
                    <a:tab algn="l" pos="9334440"/>
                    <a:tab algn="l" pos="10667880"/>
                  </a:tabLst>
                </a:pPr>
                <a:r>
                  <a:rPr b="1" lang="zh-TW" sz="3000" spc="-1" strike="noStrike">
                    <a:solidFill>
                      <a:srgbClr val="ffffff"/>
                    </a:solidFill>
                    <a:latin typeface="微軟正黑體"/>
                    <a:ea typeface="微軟正黑體"/>
                  </a:rPr>
                  <a:t>專題報告</a:t>
                </a:r>
                <a:endParaRPr b="1" lang="en-US" sz="30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</p:grpSp>
      <p:sp>
        <p:nvSpPr>
          <p:cNvPr id="88" name="左-右雙向箭號圖說文字 10"/>
          <p:cNvSpPr/>
          <p:nvPr/>
        </p:nvSpPr>
        <p:spPr>
          <a:xfrm>
            <a:off x="3755880" y="2077560"/>
            <a:ext cx="1584360" cy="3751920"/>
          </a:xfrm>
          <a:custGeom>
            <a:avLst/>
            <a:gdLst>
              <a:gd name="textAreaLeft" fmla="*/ 410760 w 1584360"/>
              <a:gd name="textAreaRight" fmla="*/ 1173600 w 1584360"/>
              <a:gd name="textAreaTop" fmla="*/ 0 h 3751920"/>
              <a:gd name="textAreaBottom" fmla="*/ 3752280 h 3751920"/>
            </a:gdLst>
            <a:ahLst/>
            <a:rect l="textAreaLeft" t="textAreaTop" r="textAreaRight" b="textAreaBottom"/>
            <a:pathLst>
              <a:path w="21600" h="21600">
                <a:moveTo>
                  <a:pt x="5603" y="0"/>
                </a:moveTo>
                <a:lnTo>
                  <a:pt x="15997" y="0"/>
                </a:lnTo>
                <a:lnTo>
                  <a:pt x="15997" y="9670"/>
                </a:lnTo>
                <a:lnTo>
                  <a:pt x="16200" y="9670"/>
                </a:lnTo>
                <a:lnTo>
                  <a:pt x="16200" y="8540"/>
                </a:lnTo>
                <a:lnTo>
                  <a:pt x="21600" y="10800"/>
                </a:lnTo>
                <a:lnTo>
                  <a:pt x="16200" y="13060"/>
                </a:lnTo>
                <a:lnTo>
                  <a:pt x="16200" y="11930"/>
                </a:lnTo>
                <a:lnTo>
                  <a:pt x="15997" y="11930"/>
                </a:lnTo>
                <a:lnTo>
                  <a:pt x="15997" y="21600"/>
                </a:lnTo>
                <a:lnTo>
                  <a:pt x="5603" y="21600"/>
                </a:lnTo>
                <a:lnTo>
                  <a:pt x="5603" y="11930"/>
                </a:lnTo>
                <a:lnTo>
                  <a:pt x="5400" y="11930"/>
                </a:lnTo>
                <a:lnTo>
                  <a:pt x="5400" y="13060"/>
                </a:lnTo>
                <a:lnTo>
                  <a:pt x="0" y="10800"/>
                </a:lnTo>
                <a:lnTo>
                  <a:pt x="5400" y="8540"/>
                </a:lnTo>
                <a:lnTo>
                  <a:pt x="5400" y="9670"/>
                </a:lnTo>
                <a:lnTo>
                  <a:pt x="5603" y="9670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全</a:t>
            </a:r>
            <a:endParaRPr b="1" lang="en-US" sz="60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面</a:t>
            </a:r>
            <a:endParaRPr b="1" lang="en-US" sz="60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盤</a:t>
            </a:r>
            <a:endParaRPr b="1" lang="en-US" sz="60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微軟正黑體"/>
                <a:ea typeface="微軟正黑體"/>
              </a:rPr>
              <a:t>點</a:t>
            </a:r>
            <a:endParaRPr b="1" lang="en-US" sz="6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75E8-70B5-45B2-9701-75E241DE86AE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貳、執行成果</a:t>
            </a:r>
            <a:r>
              <a:rPr b="1" lang="en-US" sz="48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(1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36360" y="914400"/>
            <a:ext cx="9044280" cy="76320"/>
            <a:chOff x="36360" y="914400"/>
            <a:chExt cx="9044280" cy="76320"/>
          </a:xfrm>
        </p:grpSpPr>
        <p:sp>
          <p:nvSpPr>
            <p:cNvPr id="92" name="Rectangle 5"/>
            <p:cNvSpPr/>
            <p:nvPr/>
          </p:nvSpPr>
          <p:spPr>
            <a:xfrm>
              <a:off x="36360" y="914400"/>
              <a:ext cx="44654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93" name="Rectangle 6"/>
            <p:cNvSpPr/>
            <p:nvPr/>
          </p:nvSpPr>
          <p:spPr>
            <a:xfrm>
              <a:off x="4501800" y="914400"/>
              <a:ext cx="4578840" cy="763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179280" y="1125360"/>
          <a:ext cx="8640720" cy="4551480"/>
        </p:xfrm>
        <a:graphic>
          <a:graphicData uri="http://schemas.openxmlformats.org/drawingml/2006/table">
            <a:tbl>
              <a:tblPr/>
              <a:tblGrid>
                <a:gridCol w="1079640"/>
                <a:gridCol w="1338120"/>
                <a:gridCol w="1683000"/>
                <a:gridCol w="1660320"/>
                <a:gridCol w="1440000"/>
                <a:gridCol w="1439640"/>
              </a:tblGrid>
              <a:tr h="106848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年度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目標值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資料集數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資料量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瀏覽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次數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下載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次數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73188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4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7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8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85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7,680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419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5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5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5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6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,320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76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微軟正黑體"/>
                          <a:ea typeface="微軟正黑體"/>
                        </a:rPr>
                        <a:t>小計</a:t>
                      </a:r>
                      <a:endParaRPr b="1" lang="en-US" sz="2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微軟正黑體"/>
                          <a:ea typeface="微軟正黑體"/>
                        </a:rPr>
                        <a:t>12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微軟正黑體"/>
                          <a:ea typeface="微軟正黑體"/>
                        </a:rPr>
                        <a:t>13</a:t>
                      </a:r>
                      <a:endParaRPr b="1" lang="en-US" sz="32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微軟正黑體"/>
                          <a:ea typeface="微軟正黑體"/>
                        </a:rPr>
                        <a:t>101</a:t>
                      </a:r>
                      <a:endParaRPr b="1" lang="en-US" sz="32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微軟正黑體"/>
                          <a:ea typeface="微軟正黑體"/>
                        </a:rPr>
                        <a:t>8,982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微軟正黑體"/>
                          <a:ea typeface="微軟正黑體"/>
                        </a:rPr>
                        <a:t>495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04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6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4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4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規劃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endParaRPr b="1" lang="en-US" sz="32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5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32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規劃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endParaRPr b="1" lang="en-US" sz="32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-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-</a:t>
                      </a:r>
                      <a:endParaRPr b="1" lang="en-US" sz="3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圖片 9" descr=""/>
          <p:cNvPicPr/>
          <p:nvPr/>
        </p:nvPicPr>
        <p:blipFill>
          <a:blip r:embed="rId1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圖片 9" descr=""/>
          <p:cNvPicPr/>
          <p:nvPr/>
        </p:nvPicPr>
        <p:blipFill>
          <a:blip r:embed="rId1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  <p:sp>
        <p:nvSpPr>
          <p:cNvPr id="97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A6AD-C485-4990-B5C9-AC551FC27E9D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貳、執行成果</a:t>
            </a:r>
            <a:r>
              <a:rPr b="1" lang="en-US" sz="48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6360" y="914400"/>
            <a:ext cx="9044280" cy="76320"/>
            <a:chOff x="36360" y="914400"/>
            <a:chExt cx="9044280" cy="76320"/>
          </a:xfrm>
        </p:grpSpPr>
        <p:sp>
          <p:nvSpPr>
            <p:cNvPr id="100" name="Rectangle 5"/>
            <p:cNvSpPr/>
            <p:nvPr/>
          </p:nvSpPr>
          <p:spPr>
            <a:xfrm>
              <a:off x="36360" y="914400"/>
              <a:ext cx="44654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01" name="Rectangle 6"/>
            <p:cNvSpPr/>
            <p:nvPr/>
          </p:nvSpPr>
          <p:spPr>
            <a:xfrm>
              <a:off x="4501800" y="914400"/>
              <a:ext cx="4578840" cy="763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pic>
        <p:nvPicPr>
          <p:cNvPr id="102" name="圖表 3" descr=""/>
          <p:cNvPicPr/>
          <p:nvPr/>
        </p:nvPicPr>
        <p:blipFill>
          <a:blip r:embed="rId2"/>
          <a:stretch/>
        </p:blipFill>
        <p:spPr>
          <a:xfrm>
            <a:off x="272880" y="868320"/>
            <a:ext cx="8858520" cy="5529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C:\Program Files (x86)\Microsoft Office\MEDIA\CAGCAT10\j0195384.wmf"/>
          <p:cNvPicPr/>
          <p:nvPr/>
        </p:nvPicPr>
        <p:blipFill>
          <a:blip r:embed="rId3"/>
          <a:stretch/>
        </p:blipFill>
        <p:spPr>
          <a:xfrm>
            <a:off x="6084720" y="3645000"/>
            <a:ext cx="2808360" cy="2498760"/>
          </a:xfrm>
          <a:prstGeom prst="rect">
            <a:avLst/>
          </a:prstGeom>
          <a:ln w="0">
            <a:noFill/>
          </a:ln>
        </p:spPr>
      </p:pic>
      <p:sp>
        <p:nvSpPr>
          <p:cNvPr id="104" name="文字方塊 1"/>
          <p:cNvSpPr/>
          <p:nvPr/>
        </p:nvSpPr>
        <p:spPr>
          <a:xfrm>
            <a:off x="1697760" y="18144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統計至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6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4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5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日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)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圖片 10" descr="download-text.jpg"/>
          <p:cNvPicPr/>
          <p:nvPr/>
        </p:nvPicPr>
        <p:blipFill>
          <a:blip r:embed="rId1"/>
          <a:stretch/>
        </p:blipFill>
        <p:spPr>
          <a:xfrm>
            <a:off x="6156360" y="1054080"/>
            <a:ext cx="2859120" cy="2652840"/>
          </a:xfrm>
          <a:prstGeom prst="rect">
            <a:avLst/>
          </a:prstGeom>
          <a:ln w="0">
            <a:noFill/>
          </a:ln>
        </p:spPr>
      </p:pic>
      <p:sp>
        <p:nvSpPr>
          <p:cNvPr id="106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5CC1-6803-4939-99FC-0A0FF8F7C15E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貳、執行成果</a:t>
            </a:r>
            <a:r>
              <a:rPr b="1" lang="en-US" sz="4800" spc="-1" strike="noStrike">
                <a:solidFill>
                  <a:srgbClr val="3333cc"/>
                </a:solidFill>
                <a:latin typeface="微軟正黑體"/>
                <a:ea typeface="微軟正黑體"/>
              </a:rPr>
              <a:t>(3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36360" y="914400"/>
            <a:ext cx="9044280" cy="76320"/>
            <a:chOff x="36360" y="914400"/>
            <a:chExt cx="9044280" cy="76320"/>
          </a:xfrm>
        </p:grpSpPr>
        <p:sp>
          <p:nvSpPr>
            <p:cNvPr id="109" name="Rectangle 5"/>
            <p:cNvSpPr/>
            <p:nvPr/>
          </p:nvSpPr>
          <p:spPr>
            <a:xfrm>
              <a:off x="36360" y="914400"/>
              <a:ext cx="446544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4501800" y="914400"/>
              <a:ext cx="4578840" cy="763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pic>
        <p:nvPicPr>
          <p:cNvPr id="111" name="圖表 4" descr=""/>
          <p:cNvPicPr/>
          <p:nvPr/>
        </p:nvPicPr>
        <p:blipFill>
          <a:blip r:embed="rId2"/>
          <a:stretch/>
        </p:blipFill>
        <p:spPr>
          <a:xfrm>
            <a:off x="487440" y="934920"/>
            <a:ext cx="5629320" cy="5496120"/>
          </a:xfrm>
          <a:prstGeom prst="rect">
            <a:avLst/>
          </a:prstGeom>
          <a:ln w="0">
            <a:noFill/>
          </a:ln>
        </p:spPr>
      </p:pic>
      <p:pic>
        <p:nvPicPr>
          <p:cNvPr id="112" name="圖片 11" descr="imagesGJ9JYSX0.jpg"/>
          <p:cNvPicPr/>
          <p:nvPr/>
        </p:nvPicPr>
        <p:blipFill>
          <a:blip r:embed="rId3"/>
          <a:stretch/>
        </p:blipFill>
        <p:spPr>
          <a:xfrm>
            <a:off x="6372360" y="3429000"/>
            <a:ext cx="252072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圖片 11" descr=""/>
          <p:cNvPicPr/>
          <p:nvPr/>
        </p:nvPicPr>
        <p:blipFill>
          <a:blip r:embed="rId4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  <p:sp>
        <p:nvSpPr>
          <p:cNvPr id="114" name="文字方塊 11"/>
          <p:cNvSpPr/>
          <p:nvPr/>
        </p:nvSpPr>
        <p:spPr>
          <a:xfrm>
            <a:off x="2289960" y="1628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統計至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6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4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5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日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)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圖片 9" descr=""/>
          <p:cNvPicPr/>
          <p:nvPr/>
        </p:nvPicPr>
        <p:blipFill>
          <a:blip r:embed="rId1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8DF0-3F57-438A-9752-E53FDFBFB1A4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cc"/>
                </a:solidFill>
                <a:latin typeface="微軟正黑體"/>
                <a:ea typeface="微軟正黑體"/>
              </a:rPr>
              <a:t>叁、未來開放資料標的</a:t>
            </a:r>
            <a:br>
              <a:rPr sz="4800"/>
            </a:br>
            <a:r>
              <a:rPr b="1" lang="zh-TW" sz="4800" spc="-1" strike="noStrike">
                <a:solidFill>
                  <a:srgbClr val="0000cc"/>
                </a:solidFill>
                <a:latin typeface="微軟正黑體"/>
                <a:ea typeface="微軟正黑體"/>
              </a:rPr>
              <a:t>    及品質精進方向</a:t>
            </a:r>
            <a:br>
              <a:rPr sz="4800"/>
            </a:b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100080" y="1341360"/>
            <a:ext cx="9043560" cy="76320"/>
            <a:chOff x="100080" y="1341360"/>
            <a:chExt cx="9043560" cy="76320"/>
          </a:xfrm>
        </p:grpSpPr>
        <p:sp>
          <p:nvSpPr>
            <p:cNvPr id="119" name="Rectangle 5"/>
            <p:cNvSpPr/>
            <p:nvPr/>
          </p:nvSpPr>
          <p:spPr>
            <a:xfrm>
              <a:off x="100080" y="1341360"/>
              <a:ext cx="4465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4565160" y="1341360"/>
              <a:ext cx="4578480" cy="763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pic>
        <p:nvPicPr>
          <p:cNvPr id="121" name="資料庫圖表 8" descr=""/>
          <p:cNvPicPr/>
          <p:nvPr/>
        </p:nvPicPr>
        <p:blipFill>
          <a:blip r:embed="rId2"/>
          <a:stretch/>
        </p:blipFill>
        <p:spPr>
          <a:xfrm>
            <a:off x="182520" y="1523880"/>
            <a:ext cx="854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圖片 9" descr=""/>
          <p:cNvPicPr/>
          <p:nvPr/>
        </p:nvPicPr>
        <p:blipFill>
          <a:blip r:embed="rId1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  <p:sp>
        <p:nvSpPr>
          <p:cNvPr id="123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5613-8982-4867-A27A-5C4C494A8958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217080"/>
            <a:ext cx="9144000" cy="9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cc"/>
                </a:solidFill>
                <a:latin typeface="微軟正黑體"/>
                <a:ea typeface="微軟正黑體"/>
              </a:rPr>
              <a:t>叁、未來開放資料標的</a:t>
            </a:r>
            <a:br>
              <a:rPr sz="4800"/>
            </a:br>
            <a:r>
              <a:rPr b="1" lang="zh-TW" sz="4800" spc="-1" strike="noStrike">
                <a:solidFill>
                  <a:srgbClr val="0000cc"/>
                </a:solidFill>
                <a:latin typeface="微軟正黑體"/>
                <a:ea typeface="微軟正黑體"/>
              </a:rPr>
              <a:t>    及品質精進方向</a:t>
            </a:r>
            <a:br>
              <a:rPr sz="4000"/>
            </a:b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00080" y="1341360"/>
            <a:ext cx="9043560" cy="76320"/>
            <a:chOff x="100080" y="1341360"/>
            <a:chExt cx="9043560" cy="76320"/>
          </a:xfrm>
        </p:grpSpPr>
        <p:sp>
          <p:nvSpPr>
            <p:cNvPr id="126" name="Rectangle 5"/>
            <p:cNvSpPr/>
            <p:nvPr/>
          </p:nvSpPr>
          <p:spPr>
            <a:xfrm>
              <a:off x="100080" y="1341360"/>
              <a:ext cx="446508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7" name="Rectangle 6"/>
            <p:cNvSpPr/>
            <p:nvPr/>
          </p:nvSpPr>
          <p:spPr>
            <a:xfrm>
              <a:off x="4565160" y="1341360"/>
              <a:ext cx="4578480" cy="763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pic>
        <p:nvPicPr>
          <p:cNvPr id="128" name="資料庫圖表 8" descr=""/>
          <p:cNvPicPr/>
          <p:nvPr/>
        </p:nvPicPr>
        <p:blipFill>
          <a:blip r:embed="rId2"/>
          <a:stretch/>
        </p:blipFill>
        <p:spPr>
          <a:xfrm>
            <a:off x="176040" y="1395360"/>
            <a:ext cx="869976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圖片 5" descr=""/>
          <p:cNvPicPr/>
          <p:nvPr/>
        </p:nvPicPr>
        <p:blipFill>
          <a:blip r:embed="rId1"/>
          <a:stretch/>
        </p:blipFill>
        <p:spPr>
          <a:xfrm>
            <a:off x="0" y="7920"/>
            <a:ext cx="1835280" cy="468360"/>
          </a:xfrm>
          <a:prstGeom prst="rect">
            <a:avLst/>
          </a:prstGeom>
          <a:ln w="0">
            <a:noFill/>
          </a:ln>
        </p:spPr>
      </p:pic>
      <p:pic>
        <p:nvPicPr>
          <p:cNvPr id="130" name="圖片 4" descr="未命名.png"/>
          <p:cNvPicPr/>
          <p:nvPr/>
        </p:nvPicPr>
        <p:blipFill>
          <a:blip r:embed="rId2"/>
          <a:stretch/>
        </p:blipFill>
        <p:spPr>
          <a:xfrm>
            <a:off x="1042920" y="2492280"/>
            <a:ext cx="6985080" cy="3961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"/>
          <p:cNvSpPr/>
          <p:nvPr/>
        </p:nvSpPr>
        <p:spPr>
          <a:xfrm>
            <a:off x="1763640" y="846720"/>
            <a:ext cx="571500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28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cc"/>
                </a:solidFill>
                <a:latin typeface="微軟正黑體"/>
                <a:ea typeface="微軟正黑體"/>
              </a:rPr>
              <a:t>報 告 完 畢</a:t>
            </a:r>
            <a:endParaRPr b="1" lang="en-US" sz="66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8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00cc"/>
                </a:solidFill>
                <a:latin typeface="微軟正黑體"/>
                <a:ea typeface="微軟正黑體"/>
              </a:rPr>
              <a:t>敬 請 請 教</a:t>
            </a:r>
            <a:r>
              <a:rPr b="1" lang="zh-TW" sz="6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endParaRPr b="1" lang="en-US" sz="6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2" name="投影片編號版面配置區 5"/>
          <p:cNvSpPr/>
          <p:nvPr/>
        </p:nvSpPr>
        <p:spPr>
          <a:xfrm>
            <a:off x="7175520" y="6421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8E34-BF36-4F5E-80D7-7B3ED5A5FD60}" type="slidenum">
              <a:rPr b="1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&lt;number&gt;</a:t>
            </a:fld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08:56:59Z</dcterms:created>
  <dc:creator>moea</dc:creator>
  <dc:description/>
  <dc:language>en-US</dc:language>
  <cp:lastModifiedBy>蕭博銘</cp:lastModifiedBy>
  <cp:lastPrinted>2017-04-18T03:13:55Z</cp:lastPrinted>
  <dcterms:modified xsi:type="dcterms:W3CDTF">2017-04-18T03:23:16Z</dcterms:modified>
  <cp:revision>390</cp:revision>
  <dc:subject/>
  <dc:title>2015年經濟發展願景 第一階段三年衝刺計畫 －產業發展套案</dc:title>
</cp:coreProperties>
</file>