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0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24.png" ContentType="image/png"/>
  <Override PartName="/ppt/media/image23.png" ContentType="image/png"/>
  <Override PartName="/ppt/media/image6.png" ContentType="image/png"/>
  <Override PartName="/ppt/media/image22.png" ContentType="image/png"/>
  <Override PartName="/ppt/media/image21.wmf" ContentType="image/x-wmf"/>
  <Override PartName="/ppt/media/image20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3FF6-A48E-4C08-BA10-C14389678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90E1-3D8D-425B-A455-720D3ABE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9F9FE-5EE0-48B2-A4CB-A3EE78AB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C4C6DC-A772-475C-B12B-A2034DB2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7992C-02F6-4CA7-8B74-24723580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A27F7-8A72-4249-AB76-033958D5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C8A23-7BD1-4C30-AE48-5F46EC1C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98D3C8-A178-4219-8538-B9A98170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2268A-8FFF-4210-BFED-04A90821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770479-670E-4058-B218-D3E33DA36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0D884-42A7-4A5E-A175-DA0197163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44811-7EAF-45CB-923B-FA4CF238F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6995-2211-416A-8E26-B7C681DF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8B3C9B-EC31-44C2-ADE6-3C7FA163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441B40-343E-4A96-A2F6-9B42C69D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C4FE40-F84D-42D7-9D95-2E4B7240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AB3A5-0DE0-4DD6-A39A-F063A317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7C84B3-8C88-4FFA-AEE2-D921C02B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FED7B2-AF1D-4574-839D-042C4814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DCD7B4-EF16-4DB2-9F80-E7E3BDE9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FD6A69-F5E3-4A20-8890-AB720C2D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B63C1A-B4E5-4CF1-AFDA-DCBBB377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1F97E-C0CB-4345-9659-A4987046B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9C3F-93CF-4BAA-ADA0-9FED5DEFE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3CD9CB-29AF-42FD-9493-F0D7BED23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C1A5A-C529-48F5-B4CD-87823BB09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CBE7B-9811-4E4C-B0C4-A4400A0A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65839-0BE9-4A48-BD99-828192D4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0E650-251E-4227-9D0C-05EDA5C3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52F1F-81C6-4A06-9490-747A572F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55FE9-9F05-4A2A-9904-09815F3C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2A331-8CEE-494A-BAE6-53AAEC64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C2194-19D6-4B6F-B16C-B0ECE873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D06C7-519B-4F45-B6B3-C8049A04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4F9C-86F2-46CD-AED7-A868866E7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911F4-9B6E-4747-9086-10C9D4B5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01C0F-800A-42D9-B4D6-C7805EE21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10FDA-FEF2-4AA1-9A2C-3F5162052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510DCF-3A9D-43C2-99B9-582DA104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FE3D98-5BF3-44FF-A7CB-2E20CE3B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B3759C-F205-456B-B6CD-FB233E5C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8B4AF-975A-4894-A6DA-D34F959E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6B07E5-AA40-4F09-B88C-698DE43D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F287E2-0E6D-43CB-851D-1B1A60BB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A8ADB-C93B-4EF5-9B70-E7740877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E12B-9D13-4F1C-9C20-BE334DA7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42330E-561C-4148-B616-2045CBC6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A4A911-1135-4610-9641-7B0E094E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EBF36E-83FA-444E-8E77-FDA4174E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7F0902-1C27-45D9-B7EA-CD3289F84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E141E6-02E4-4AF1-AB3B-040D0F66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CC0628-0A82-4A7B-8AC7-C4AB33BC0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EAAAAA-B24D-458D-9695-651125C9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87C435-0817-4FDF-B7F5-5805C3AF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5D8442-7FAE-4CE6-BC94-98DBAFD7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6560B8-DFE5-49DC-BB17-CA689682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1EA4-EBD1-4BF9-A24F-C0591C97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649A53-8429-4009-8679-3F4C77BE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A3B0D5-85E5-4AA1-8A72-1F8478F2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13CF27-FD7E-4A95-9CBA-9D028C51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91D638-E4CD-4D0E-B61C-91EDB351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51BC80-6C4A-4FDC-9098-D82B4566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1E5622-DE61-4F89-8578-8D934DDB6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85758B-307C-4BFB-9679-146A6B893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9C06DC-CA41-49E5-9173-F29AC48AE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9C425D-0432-472B-836C-B581D1D2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62E05F-238C-45A5-859A-F1F60B6F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4659-500B-4A82-9AC0-E48AE1A3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84F537-E4A3-4195-8507-17742755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95BCAE-FADB-4B29-8ED0-C7221206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2DF568-C7F2-4C19-9611-8CECC858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9686CA-1DDB-42B8-B7DF-E9026097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274260-6130-4FE5-A26C-B5469B9C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DDE7EA-2B18-463C-B93C-5ED09CC5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3D5FA3-45FB-4053-8344-0FB4FA6B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8E91A0-1701-4C55-A638-F444D62C0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B51D68-3F24-47EF-922A-E26120AB2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7D56-8B83-4721-804D-C33D6F3C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F1BD-EB00-4C60-819A-F45F2899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15AE-A901-4285-B263-CBAA6CCD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D968-AAB1-477F-B9C8-7D399AF9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A056-14DC-4AAF-AADA-7109B3F9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FEAA-0815-48D8-BCFA-A79BF421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8662-1135-4D23-9B22-BE3A0441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987D-9721-402A-8CE5-F763FA109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4843-418A-4F21-8D34-AB008BF7C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95168-C54D-4DFC-844D-729CBAC62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88CDB-FADB-4E86-9A14-37C85B68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8A012-CD84-402D-8118-E525D416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60B98-5DB7-45EE-8CB0-2A5A8303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1B325-36A7-41A8-8EC3-0EE621D1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68E7-D5E1-4AB8-AB9A-992E2CAA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EFAA3-5439-4B97-9F97-F0EDA0EC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4CB55-C8AB-4C6E-8DDA-D39AFC88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13D8C-327E-4DC5-94B7-3EFCFE29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C31AE-56E3-4AB3-B016-4F41F9A2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83388-E52A-4463-8AEA-906309B0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14CB7-2050-429E-91C5-6979A0431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E3FFB-ACB6-4163-BFAC-28D05E398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B4D76-6DAE-49AE-BE61-E0BE65B4E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D7FF7-2357-4975-A017-895D9FA3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4F99C-35D8-46B8-A461-2809FFD1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58A7-B10C-4F5C-9939-6A4D84FB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15B2C-C7F2-4A65-88C9-D1ECB855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A987D-C6B9-4B24-9BAA-4FB1B6BF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573C2-4954-498B-8229-23B93616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60117-C00F-4171-905D-C60CDD81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D58ED-243B-4581-90CD-B54AFBBA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3B9EF-72E5-444D-9117-5BD3DA13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FB383-77B9-4B54-AEC0-4B5BA645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4BF89-6D75-48AF-9358-4DB1D3585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BC133-9E28-4655-BC61-08B808CA9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78F7C-BA52-43A2-96DD-278E79CC1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494C-D2F7-41A7-9E12-574CCAEA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90CA0-4BCC-4DE1-A4D2-5AD96514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DC74B-FF7B-46AF-90A3-21B8E97F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CEFF2-1D54-4548-A4FA-0FFDE7BE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7D510-D179-4118-81CD-81F4F6E3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519B4-4E3F-4269-8249-9B079702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D6385-5E48-4AB9-9F6A-5AC3A07C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5F4B1-DC67-408C-BF1F-88083E19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1AD55-3D46-4921-A28C-920ADFE7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99539-5700-4233-9EBF-460658B8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ABE22-2DC2-4149-9FA9-178D55223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21E3-6103-430F-90CF-84CEC7BB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E247F-6F94-4C46-816D-C80F88B37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79835-AFAC-4596-8D05-FD99A9643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6D991-5C32-48DD-9E10-AF74B5C1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FF653-A2D8-43A7-BE63-38515578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8427D-4812-4797-88B8-B7B5A91D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39BA1-37F3-4066-AE51-E23665B6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98093-2D20-4DEF-B9FC-7B1D2656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56F0C-8C36-4D60-B069-62EBE8E0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51AD7-6082-4E3F-B64A-E8F5E73B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D8F39-6734-4A06-9ACE-4C48C961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1CBC-2401-4C32-8752-34C55F85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47114-CC68-4546-A8A4-C3306564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D20B7-EEB5-42B4-AD60-F46A15FD4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F9C93-D335-4F23-B212-39CFC7CF7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B889B-3655-4375-B009-415793065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CF5B3-6F89-4DAD-BE36-F3D406AE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83B71-AB07-4897-AA1A-CF8BC905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3DE3D-DA56-4842-AC49-1EABB751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65CB2-8FDA-43B9-BEE6-88C33E47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39643-1C8D-4FC5-ABA2-39CCC29F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3A8EA-6226-49AB-A66A-4FD37EE8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0C22-2239-4FFE-8721-A8426A99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FFFDD-55C9-477E-9423-423CFF81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53D52-9143-4D1B-B1C0-C865D3A9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000C4-22FB-4F89-9F81-1EB70E60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EEE89-C7EA-4414-B1B8-3A9D3B30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80647-8989-41C0-AB35-E147EBE43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D855F-422B-4D6E-B9CD-346D0624C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7EF02-3F80-4EFC-A65D-5DCED093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97AD5-C0FD-4DA0-BEE7-AD90014F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1D442-74FF-40E9-B3AA-8AB6512D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B72B2-BA7B-44E2-A3BB-0CA244C7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AEFB-32A8-4B28-9AE7-98A401B1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46F3B-01C0-443D-871C-37111FA2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62B8A-52D5-4540-A787-F95247CF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0115D-45A1-4200-BB59-A6960368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4600D-F06B-439C-91C2-5468614B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4E140-62B7-4D44-9E05-0C6370F9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32181-AF45-4B17-BF8C-B2788BC1E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BDA9E-0636-47A0-BB83-178EC058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63BF1-81A3-49B9-80A1-E60451648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1A57A-621C-4EB5-97E2-55448D19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D9E84-275A-4AB6-A11D-93A868A0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21.xml"/><Relationship Id="rId11" Type="http://schemas.openxmlformats.org/officeDocument/2006/relationships/slideLayout" Target="../slideLayouts/slideLayout122.xml"/><Relationship Id="rId12" Type="http://schemas.openxmlformats.org/officeDocument/2006/relationships/slideLayout" Target="../slideLayouts/slideLayout123.xml"/><Relationship Id="rId13" Type="http://schemas.openxmlformats.org/officeDocument/2006/relationships/slideLayout" Target="../slideLayouts/slideLayout124.xml"/><Relationship Id="rId14" Type="http://schemas.openxmlformats.org/officeDocument/2006/relationships/slideLayout" Target="../slideLayouts/slideLayout125.xml"/><Relationship Id="rId15" Type="http://schemas.openxmlformats.org/officeDocument/2006/relationships/slideLayout" Target="../slideLayouts/slideLayout126.xml"/><Relationship Id="rId16" Type="http://schemas.openxmlformats.org/officeDocument/2006/relationships/slideLayout" Target="../slideLayouts/slideLayout127.xml"/><Relationship Id="rId17" Type="http://schemas.openxmlformats.org/officeDocument/2006/relationships/slideLayout" Target="../slideLayouts/slideLayout128.xml"/><Relationship Id="rId18" Type="http://schemas.openxmlformats.org/officeDocument/2006/relationships/slideLayout" Target="../slideLayouts/slideLayout129.xml"/><Relationship Id="rId19" Type="http://schemas.openxmlformats.org/officeDocument/2006/relationships/slideLayout" Target="../slideLayouts/slideLayout130.xml"/><Relationship Id="rId20" Type="http://schemas.openxmlformats.org/officeDocument/2006/relationships/slideLayout" Target="../slideLayouts/slideLayout131.xml"/><Relationship Id="rId21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36B5-4178-4652-BB5D-164E257DADA3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E5BA-8E62-405E-921C-FBD286D4DE84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515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19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31"/>
          </p:nvPr>
        </p:nvSpPr>
        <p:spPr>
          <a:xfrm>
            <a:off x="6094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ftr" idx="32"/>
          </p:nvPr>
        </p:nvSpPr>
        <p:spPr>
          <a:xfrm>
            <a:off x="3581280" y="617220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sldNum" idx="33"/>
          </p:nvPr>
        </p:nvSpPr>
        <p:spPr>
          <a:xfrm>
            <a:off x="6629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B0B4-B79C-484A-A863-18AB28EF8A4E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0"/>
    <p:sldLayoutId id="2147483780" r:id="rId11"/>
    <p:sldLayoutId id="2147483781" r:id="rId12"/>
    <p:sldLayoutId id="2147483782" r:id="rId13"/>
    <p:sldLayoutId id="2147483783" r:id="rId14"/>
    <p:sldLayoutId id="2147483784" r:id="rId15"/>
    <p:sldLayoutId id="2147483785" r:id="rId16"/>
    <p:sldLayoutId id="2147483786" r:id="rId17"/>
    <p:sldLayoutId id="2147483787" r:id="rId18"/>
    <p:sldLayoutId id="2147483788" r:id="rId19"/>
    <p:sldLayoutId id="2147483789" r:id="rId20"/>
    <p:sldLayoutId id="2147483790" r:id="rId21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066680" y="1050480"/>
            <a:ext cx="73152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dt" idx="34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ftr" idx="35"/>
          </p:nvPr>
        </p:nvSpPr>
        <p:spPr>
          <a:xfrm>
            <a:off x="3200040" y="624852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sldNum" idx="36"/>
          </p:nvPr>
        </p:nvSpPr>
        <p:spPr>
          <a:xfrm>
            <a:off x="6019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1608-E3E3-41B9-B519-C0C956F3A058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666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668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1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2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673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8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679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2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683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87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91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4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CDBE-F783-498D-B7CE-2F88D802BA64}" type="slidenum">
              <a:rPr b="0" lang="zh-TW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750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751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8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765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769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773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777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781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4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1" name="PlaceHolder 1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8C21-990D-482D-B932-F514A5DEA850}" type="slidenum">
              <a:rPr b="0" lang="zh-TW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852E-88FE-4497-9C76-070CA6DED93B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97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A312-23FE-4B09-A580-5D0A46F5B20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42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9CB9-1B8A-490A-9594-572AE18B8F8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C4DD-131C-4EED-B40D-43B76624F30A}" type="slidenum">
              <a:rPr b="0" lang="zh-TW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35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36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239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B7AF-7F9F-463E-9B58-3A19B7712CED}" type="slidenum">
              <a:rPr b="0" lang="zh-TW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EF81-D312-4B7A-8374-E049460EBF02}" type="slidenum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94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04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1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0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21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24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25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27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5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351C-5539-49FD-865E-2315FBE2BD97}" type="slidenum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7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8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8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9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2561-8B92-4264-85C3-AE01FDE03A42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42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9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slide" Target="slide17.xml"/><Relationship Id="rId8" Type="http://schemas.openxmlformats.org/officeDocument/2006/relationships/slide" Target="slide18.xml"/><Relationship Id="rId9" Type="http://schemas.openxmlformats.org/officeDocument/2006/relationships/slide" Target="slide19.xml"/><Relationship Id="rId10" Type="http://schemas.openxmlformats.org/officeDocument/2006/relationships/slideLayout" Target="../slideLayouts/slideLayout10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png"/><Relationship Id="rId7" Type="http://schemas.openxmlformats.org/officeDocument/2006/relationships/slide" Target="slide20.xml"/><Relationship Id="rId8" Type="http://schemas.openxmlformats.org/officeDocument/2006/relationships/slide" Target="slide21.xml"/><Relationship Id="rId9" Type="http://schemas.openxmlformats.org/officeDocument/2006/relationships/slideLayout" Target="../slideLayouts/slideLayout10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" Target="slide11.xml"/><Relationship Id="rId3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900" spc="-1" strike="noStrike">
                <a:solidFill>
                  <a:srgbClr val="ffffff"/>
                </a:solidFill>
                <a:latin typeface="Arial Black"/>
                <a:ea typeface="標楷體"/>
              </a:rPr>
              <a:t>全國砂土石產銷存動態資訊揭露推動策略</a:t>
            </a:r>
            <a:endParaRPr b="0" lang="en-US" sz="59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979280" y="4269960"/>
            <a:ext cx="51433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marL="11304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經濟部礦務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304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報告人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: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陳韻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304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105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年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9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月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21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日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44157-AC35-40F7-B81D-8618C0DF66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280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0066"/>
                </a:solidFill>
                <a:latin typeface="Arial"/>
                <a:ea typeface="標楷體"/>
              </a:rPr>
              <a:t>已開放資料集清單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0" name="AutoShape 57"/>
          <p:cNvSpPr/>
          <p:nvPr/>
        </p:nvSpPr>
        <p:spPr>
          <a:xfrm>
            <a:off x="468360" y="1179360"/>
            <a:ext cx="359892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報告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矩形 5"/>
          <p:cNvSpPr/>
          <p:nvPr/>
        </p:nvSpPr>
        <p:spPr>
          <a:xfrm>
            <a:off x="468360" y="2027160"/>
            <a:ext cx="3598920" cy="3682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年度砂土石產銷存調查報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" descr=""/>
          <p:cNvPicPr/>
          <p:nvPr/>
        </p:nvPicPr>
        <p:blipFill>
          <a:blip r:embed="rId1"/>
          <a:stretch/>
        </p:blipFill>
        <p:spPr>
          <a:xfrm>
            <a:off x="684360" y="3090960"/>
            <a:ext cx="2246040" cy="315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3" name="" descr=""/>
          <p:cNvPicPr/>
          <p:nvPr/>
        </p:nvPicPr>
        <p:blipFill>
          <a:blip r:embed="rId2"/>
          <a:stretch/>
        </p:blipFill>
        <p:spPr>
          <a:xfrm>
            <a:off x="3276720" y="3090960"/>
            <a:ext cx="2246040" cy="315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4" name="" descr=""/>
          <p:cNvPicPr/>
          <p:nvPr/>
        </p:nvPicPr>
        <p:blipFill>
          <a:blip r:embed="rId3"/>
          <a:stretch/>
        </p:blipFill>
        <p:spPr>
          <a:xfrm>
            <a:off x="5867280" y="3090960"/>
            <a:ext cx="2246400" cy="315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85" name=""/>
          <p:cNvSpPr/>
          <p:nvPr/>
        </p:nvSpPr>
        <p:spPr>
          <a:xfrm>
            <a:off x="4997520" y="1758960"/>
            <a:ext cx="31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臺灣砂石供需情形，彙整分析特定區域之生產結構、產銷變動及營運情況等資料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3115080" y="2674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66ff"/>
                </a:solidFill>
                <a:latin typeface="Arial"/>
                <a:ea typeface="標楷體"/>
              </a:rPr>
              <a:t>逐年開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13947-E386-4D70-B053-AECC2A2B85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799920" y="189000"/>
            <a:ext cx="75438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0066"/>
                </a:solidFill>
                <a:latin typeface="Arial"/>
                <a:ea typeface="標楷體"/>
              </a:rPr>
              <a:t>已開放資料集清單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888" name=""/>
          <p:cNvGraphicFramePr/>
          <p:nvPr/>
        </p:nvGraphicFramePr>
        <p:xfrm>
          <a:off x="235080" y="3276720"/>
          <a:ext cx="4038480" cy="28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080" y="3276720"/>
                    <a:ext cx="4038480" cy="28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"/>
          <p:cNvGraphicFramePr/>
          <p:nvPr/>
        </p:nvGraphicFramePr>
        <p:xfrm>
          <a:off x="4572000" y="1031760"/>
          <a:ext cx="398304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031760"/>
                    <a:ext cx="398304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2" name="AutoShape 57"/>
          <p:cNvSpPr/>
          <p:nvPr/>
        </p:nvSpPr>
        <p:spPr>
          <a:xfrm>
            <a:off x="457200" y="1179360"/>
            <a:ext cx="381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統計資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矩形 5"/>
          <p:cNvSpPr/>
          <p:nvPr/>
        </p:nvSpPr>
        <p:spPr>
          <a:xfrm>
            <a:off x="457200" y="1989000"/>
            <a:ext cx="3816360" cy="106956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全國土石生產量值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全國砂土石產銷存動態統計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進口砂石裝卸量統計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4" name=""/>
          <p:cNvGraphicFramePr/>
          <p:nvPr/>
        </p:nvGraphicFramePr>
        <p:xfrm>
          <a:off x="4572000" y="3645000"/>
          <a:ext cx="3983040" cy="281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3645000"/>
                    <a:ext cx="3983040" cy="28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6" name=""/>
          <p:cNvSpPr/>
          <p:nvPr/>
        </p:nvSpPr>
        <p:spPr>
          <a:xfrm>
            <a:off x="5003640" y="1940040"/>
            <a:ext cx="31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每月各縣市砂石成品生產、銷售、售價、庫存現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84360" y="5810400"/>
            <a:ext cx="35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每月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含累計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全國砂石成品產量、售價及產值資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003640" y="4653000"/>
            <a:ext cx="31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各港口進口砂石數量及航次資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359520" y="34178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66ff"/>
                </a:solidFill>
                <a:latin typeface="Arial"/>
                <a:ea typeface="標楷體"/>
              </a:rPr>
              <a:t>逐月開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>
            <a:hlinkClick r:id="rId7" action="ppaction://hlinksldjump"/>
          </p:cNvPr>
          <p:cNvSpPr/>
          <p:nvPr/>
        </p:nvSpPr>
        <p:spPr>
          <a:xfrm>
            <a:off x="3419640" y="6176880"/>
            <a:ext cx="288720" cy="2826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>
            <a:hlinkClick r:id="rId8" action="ppaction://hlinksldjump"/>
          </p:cNvPr>
          <p:cNvSpPr/>
          <p:nvPr/>
        </p:nvSpPr>
        <p:spPr>
          <a:xfrm>
            <a:off x="8191440" y="3362400"/>
            <a:ext cx="289080" cy="2826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>
            <a:hlinkClick r:id="rId9" action="ppaction://hlinksldjump"/>
          </p:cNvPr>
          <p:cNvSpPr/>
          <p:nvPr/>
        </p:nvSpPr>
        <p:spPr>
          <a:xfrm>
            <a:off x="8191440" y="6168960"/>
            <a:ext cx="289080" cy="2826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DAAC6-43AB-4E5F-8F78-FEB6796352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4000" y="852120"/>
            <a:ext cx="734364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0066"/>
                </a:solidFill>
                <a:latin typeface="Arial"/>
                <a:ea typeface="標楷體"/>
              </a:rPr>
              <a:t>需求建議事項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4" name="矩形 5"/>
          <p:cNvSpPr/>
          <p:nvPr/>
        </p:nvSpPr>
        <p:spPr>
          <a:xfrm>
            <a:off x="2484360" y="4140360"/>
            <a:ext cx="2519280" cy="3988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99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東砂西運裝卸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矩形 5"/>
          <p:cNvSpPr/>
          <p:nvPr/>
        </p:nvSpPr>
        <p:spPr>
          <a:xfrm>
            <a:off x="2484360" y="2043000"/>
            <a:ext cx="2519280" cy="3988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99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產銷存相關細部資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矩形 5"/>
          <p:cNvSpPr/>
          <p:nvPr/>
        </p:nvSpPr>
        <p:spPr>
          <a:xfrm>
            <a:off x="5580000" y="4140360"/>
            <a:ext cx="287964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國內砂石銷售流向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國內砂石產銷存相關研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矩形 5"/>
          <p:cNvSpPr/>
          <p:nvPr/>
        </p:nvSpPr>
        <p:spPr>
          <a:xfrm>
            <a:off x="5580000" y="2043000"/>
            <a:ext cx="287964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河川砂石疏濬標售量價參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砂石料源分析研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全國砂石量價與經濟面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487440" y="2043000"/>
            <a:ext cx="1523880" cy="7038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本部水利署等單位及各縣市政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87440" y="4140360"/>
            <a:ext cx="1523880" cy="7038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逢甲及北科等大學及民間公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011320" y="2225520"/>
            <a:ext cx="47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011320" y="2225520"/>
            <a:ext cx="473040" cy="214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011320" y="4352760"/>
            <a:ext cx="47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2011320" y="2225160"/>
            <a:ext cx="473040" cy="212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003640" y="22255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003640" y="4365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D57FF-1D12-40D8-96AE-88C56152B7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0066"/>
                </a:solidFill>
                <a:latin typeface="Arial"/>
                <a:ea typeface="標楷體"/>
              </a:rPr>
              <a:t>106</a:t>
            </a:r>
            <a:r>
              <a:rPr b="1" lang="zh-TW" sz="2800" spc="-1" strike="noStrike">
                <a:solidFill>
                  <a:srgbClr val="330066"/>
                </a:solidFill>
                <a:latin typeface="Arial"/>
                <a:ea typeface="標楷體"/>
              </a:rPr>
              <a:t>年預計開放資料集清單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917" name=""/>
          <p:cNvGraphicFramePr/>
          <p:nvPr/>
        </p:nvGraphicFramePr>
        <p:xfrm>
          <a:off x="5003640" y="1417680"/>
          <a:ext cx="3530880" cy="24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1417680"/>
                    <a:ext cx="3530880" cy="24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9" name=""/>
          <p:cNvGraphicFramePr/>
          <p:nvPr/>
        </p:nvGraphicFramePr>
        <p:xfrm>
          <a:off x="5003640" y="4183200"/>
          <a:ext cx="3569040" cy="252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4183200"/>
                    <a:ext cx="3569040" cy="25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1" name="AutoShape 57"/>
          <p:cNvSpPr/>
          <p:nvPr/>
        </p:nvSpPr>
        <p:spPr>
          <a:xfrm>
            <a:off x="324000" y="1684440"/>
            <a:ext cx="410508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統計資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矩形 5"/>
          <p:cNvSpPr/>
          <p:nvPr/>
        </p:nvSpPr>
        <p:spPr>
          <a:xfrm>
            <a:off x="324000" y="2708280"/>
            <a:ext cx="410508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標楷體"/>
                <a:ea typeface="標楷體"/>
              </a:rPr>
              <a:t>1.</a:t>
            </a:r>
            <a:r>
              <a:rPr b="1" lang="zh-TW" sz="2000" spc="-1" strike="noStrike">
                <a:solidFill>
                  <a:srgbClr val="ff0000"/>
                </a:solidFill>
                <a:latin typeface="標楷體"/>
                <a:ea typeface="標楷體"/>
              </a:rPr>
              <a:t>東砂西運裝卸量統計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標楷體"/>
                <a:ea typeface="標楷體"/>
              </a:rPr>
              <a:t>2.</a:t>
            </a:r>
            <a:r>
              <a:rPr b="1" lang="zh-TW" sz="2000" spc="-1" strike="noStrike">
                <a:solidFill>
                  <a:srgbClr val="ff0000"/>
                </a:solidFill>
                <a:latin typeface="標楷體"/>
                <a:ea typeface="標楷體"/>
              </a:rPr>
              <a:t>單月及累計砂石碎解洗選場產銷存調查情形一覽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-4048200" y="-4649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-4048200" y="-5199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-4048200" y="-4649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-3083040" y="-4649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11598120" y="-5199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148360" y="345456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新增每月及累計各縣市砂石成品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來源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河川砂石、土石採取及營建剩餘土石方等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現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9" name=""/>
          <p:cNvGraphicFramePr/>
          <p:nvPr/>
        </p:nvGraphicFramePr>
        <p:xfrm>
          <a:off x="457200" y="4003560"/>
          <a:ext cx="3822840" cy="270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4003560"/>
                    <a:ext cx="3822840" cy="27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1" name=""/>
          <p:cNvSpPr/>
          <p:nvPr/>
        </p:nvSpPr>
        <p:spPr>
          <a:xfrm>
            <a:off x="826920" y="4869000"/>
            <a:ext cx="31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新增每月東砂西運砂石成品數量統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330720" y="3819600"/>
            <a:ext cx="109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66ff"/>
                </a:solidFill>
                <a:latin typeface="Arial"/>
                <a:ea typeface="標楷體"/>
              </a:rPr>
              <a:t>逐月開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>
            <a:hlinkClick r:id="rId7" action="ppaction://hlinksldjump"/>
          </p:cNvPr>
          <p:cNvSpPr/>
          <p:nvPr/>
        </p:nvSpPr>
        <p:spPr>
          <a:xfrm>
            <a:off x="4135320" y="4229280"/>
            <a:ext cx="289080" cy="28224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>
            <a:hlinkClick r:id="rId8" action="ppaction://hlinksldjump"/>
          </p:cNvPr>
          <p:cNvSpPr/>
          <p:nvPr/>
        </p:nvSpPr>
        <p:spPr>
          <a:xfrm>
            <a:off x="8047080" y="4003560"/>
            <a:ext cx="288720" cy="2826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2CB89-1330-4311-B573-591E0251C3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/>
          <p:nvPr/>
        </p:nvSpPr>
        <p:spPr>
          <a:xfrm>
            <a:off x="0" y="141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四、品質精進方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1AA05-E1A2-4EC5-B9B8-645F637263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66"/>
                </a:solidFill>
                <a:latin typeface="Arial"/>
                <a:ea typeface="標楷體"/>
              </a:rPr>
              <a:t>未來規劃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7" name="AutoShape 57"/>
          <p:cNvSpPr/>
          <p:nvPr/>
        </p:nvSpPr>
        <p:spPr>
          <a:xfrm>
            <a:off x="1254240" y="1827360"/>
            <a:ext cx="274140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持續執行調查計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矩形 5"/>
          <p:cNvSpPr/>
          <p:nvPr/>
        </p:nvSpPr>
        <p:spPr>
          <a:xfrm>
            <a:off x="1254240" y="2781360"/>
            <a:ext cx="2741400" cy="146556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「</a:t>
            </a:r>
            <a:r>
              <a:rPr b="1" lang="zh-TW" sz="2000" spc="-1" strike="noStrike">
                <a:solidFill>
                  <a:srgbClr val="ff0000"/>
                </a:solidFill>
                <a:latin typeface="標楷體"/>
                <a:ea typeface="標楷體"/>
              </a:rPr>
              <a:t>砂土石產銷存動態調查計畫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」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將於本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105)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年底期滿，本局預計將本計畫加以修正後，函報行政院主計總處，期能續以執行，持續了解砂土石供需實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AutoShape 57"/>
          <p:cNvSpPr/>
          <p:nvPr/>
        </p:nvSpPr>
        <p:spPr>
          <a:xfrm>
            <a:off x="4429080" y="1827360"/>
            <a:ext cx="4105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品質精進方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矩形 5"/>
          <p:cNvSpPr/>
          <p:nvPr/>
        </p:nvSpPr>
        <p:spPr>
          <a:xfrm>
            <a:off x="4429080" y="2781360"/>
            <a:ext cx="41054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持續關注機關及民間團體需求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，適時開放相關資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矩形 5"/>
          <p:cNvSpPr/>
          <p:nvPr/>
        </p:nvSpPr>
        <p:spPr>
          <a:xfrm>
            <a:off x="4429080" y="5389560"/>
            <a:ext cx="41054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精進統計品質，提高統計實用價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矩形 5"/>
          <p:cNvSpPr/>
          <p:nvPr/>
        </p:nvSpPr>
        <p:spPr>
          <a:xfrm>
            <a:off x="4429080" y="5894280"/>
            <a:ext cx="41054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擴展統計資料應用與服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矩形 5"/>
          <p:cNvSpPr/>
          <p:nvPr/>
        </p:nvSpPr>
        <p:spPr>
          <a:xfrm>
            <a:off x="4429080" y="3645000"/>
            <a:ext cx="41054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搭配政策推行以提升報表回報率，統計數據更具代表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矩形 5"/>
          <p:cNvSpPr/>
          <p:nvPr/>
        </p:nvSpPr>
        <p:spPr>
          <a:xfrm>
            <a:off x="4429080" y="4444920"/>
            <a:ext cx="41054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設計數據檢核機制，提高調查數據準確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928EC-1092-4736-933C-979986722F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/>
          </p:nvPr>
        </p:nvSpPr>
        <p:spPr>
          <a:xfrm>
            <a:off x="826920" y="2490840"/>
            <a:ext cx="777240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00"/>
                </a:solidFill>
                <a:latin typeface="Comic Sans MS"/>
                <a:ea typeface="標楷體"/>
              </a:rPr>
              <a:t>報告完畢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00"/>
                </a:solidFill>
                <a:latin typeface="Comic Sans MS"/>
                <a:ea typeface="標楷體"/>
              </a:rPr>
              <a:t>恭請裁示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958EB-15D1-45B9-8D41-46A4848061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4537080" y="61657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全國砂石成品產量、售價及產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7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662800"/>
          </a:xfrm>
          <a:prstGeom prst="rect">
            <a:avLst/>
          </a:prstGeom>
          <a:ln w="0">
            <a:noFill/>
          </a:ln>
        </p:spPr>
      </p:pic>
      <p:sp>
        <p:nvSpPr>
          <p:cNvPr id="948" name="">
            <a:hlinkClick r:id="rId2" action="ppaction://hlinksldjump"/>
          </p:cNvPr>
          <p:cNvSpPr/>
          <p:nvPr/>
        </p:nvSpPr>
        <p:spPr>
          <a:xfrm>
            <a:off x="6372360" y="6249960"/>
            <a:ext cx="288720" cy="2826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CD2B2-31A3-4DA2-A706-7DF7234000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>
            <a:hlinkClick r:id="rId1" action="ppaction://hlinksldjump"/>
          </p:cNvPr>
          <p:cNvSpPr/>
          <p:nvPr/>
        </p:nvSpPr>
        <p:spPr>
          <a:xfrm>
            <a:off x="7885080" y="6237360"/>
            <a:ext cx="289080" cy="2826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0" name="" descr=""/>
          <p:cNvPicPr/>
          <p:nvPr/>
        </p:nvPicPr>
        <p:blipFill>
          <a:blip r:embed="rId2"/>
          <a:stretch/>
        </p:blipFill>
        <p:spPr>
          <a:xfrm>
            <a:off x="38160" y="404640"/>
            <a:ext cx="9105840" cy="536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3CC07-0001-407F-9FF8-5130FFA27D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>
            <a:hlinkClick r:id="rId1" action="ppaction://hlinksldjump"/>
          </p:cNvPr>
          <p:cNvSpPr/>
          <p:nvPr/>
        </p:nvSpPr>
        <p:spPr>
          <a:xfrm>
            <a:off x="7885080" y="6043680"/>
            <a:ext cx="289080" cy="2826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611280" y="404640"/>
          <a:ext cx="7977240" cy="563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404640"/>
                    <a:ext cx="797724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9F2A9-B622-4190-AA09-E4B6601905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187280" y="620280"/>
            <a:ext cx="6870960" cy="700200"/>
          </a:xfrm>
          <a:prstGeom prst="rect">
            <a:avLst/>
          </a:prstGeom>
          <a:gradFill rotWithShape="0">
            <a:gsLst>
              <a:gs pos="0">
                <a:srgbClr val="b9b900"/>
              </a:gs>
              <a:gs pos="50000">
                <a:srgbClr val="ffff00"/>
              </a:gs>
              <a:gs pos="100000">
                <a:srgbClr val="b9b900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330033"/>
                </a:solidFill>
                <a:latin typeface="Times New Roman"/>
                <a:ea typeface="標楷體"/>
              </a:rPr>
              <a:t>報告大綱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56144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一、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推動策略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說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二、應用情境說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三、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Open Data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相關資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四、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品質精進方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FCF5-1E68-4C08-8525-559C686B26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>
            <a:hlinkClick r:id="rId1" action="ppaction://hlinksldjump"/>
          </p:cNvPr>
          <p:cNvSpPr/>
          <p:nvPr/>
        </p:nvSpPr>
        <p:spPr>
          <a:xfrm>
            <a:off x="7956720" y="6211800"/>
            <a:ext cx="288720" cy="2826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8130960" cy="621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1EDAD-7AD2-4731-B618-D394A94B58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>
            <a:hlinkClick r:id="rId1" action="ppaction://hlinksldjump"/>
          </p:cNvPr>
          <p:cNvSpPr/>
          <p:nvPr/>
        </p:nvSpPr>
        <p:spPr>
          <a:xfrm>
            <a:off x="5508720" y="5805360"/>
            <a:ext cx="288720" cy="2826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2"/>
          <a:stretch/>
        </p:blipFill>
        <p:spPr>
          <a:xfrm>
            <a:off x="0" y="795240"/>
            <a:ext cx="9144000" cy="5010120"/>
          </a:xfrm>
          <a:prstGeom prst="rect">
            <a:avLst/>
          </a:prstGeom>
          <a:ln w="0">
            <a:noFill/>
          </a:ln>
        </p:spPr>
      </p:pic>
      <p:sp>
        <p:nvSpPr>
          <p:cNvPr id="958" name=""/>
          <p:cNvSpPr/>
          <p:nvPr/>
        </p:nvSpPr>
        <p:spPr>
          <a:xfrm>
            <a:off x="6012000" y="795240"/>
            <a:ext cx="2520720" cy="5292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67E3E-4DE2-43B9-B8C4-12AFFA0CF8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755640" y="281628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  <a:ea typeface="標楷體"/>
              </a:rPr>
              <a:t>一、</a:t>
            </a:r>
            <a:r>
              <a:rPr b="1" lang="zh-TW" sz="4000" spc="-1" strike="noStrike">
                <a:solidFill>
                  <a:srgbClr val="006666"/>
                </a:solidFill>
                <a:latin typeface="Arial"/>
                <a:ea typeface="標楷體"/>
              </a:rPr>
              <a:t>推動策略說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0FB699-3DAF-4B38-A291-07F2CF29FD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Verdana"/>
                <a:ea typeface="標楷體"/>
              </a:rPr>
              <a:t>目的、策略、對象、範圍及調查方法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8" name="AutoShape 57"/>
          <p:cNvSpPr/>
          <p:nvPr/>
        </p:nvSpPr>
        <p:spPr>
          <a:xfrm>
            <a:off x="755640" y="1684440"/>
            <a:ext cx="122400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矩形 5"/>
          <p:cNvSpPr/>
          <p:nvPr/>
        </p:nvSpPr>
        <p:spPr>
          <a:xfrm>
            <a:off x="755640" y="2563920"/>
            <a:ext cx="1224000" cy="64260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及時了解砂土石供需實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AutoShape 57"/>
          <p:cNvSpPr/>
          <p:nvPr/>
        </p:nvSpPr>
        <p:spPr>
          <a:xfrm>
            <a:off x="6732720" y="1684440"/>
            <a:ext cx="1584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調查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矩形 5"/>
          <p:cNvSpPr/>
          <p:nvPr/>
        </p:nvSpPr>
        <p:spPr>
          <a:xfrm>
            <a:off x="6732720" y="2563920"/>
            <a:ext cx="1584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3300"/>
                </a:solidFill>
                <a:latin typeface="Arial"/>
                <a:ea typeface="標楷體"/>
              </a:rPr>
              <a:t>按月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調查統計國內砂土石生產、銷售、售價及庫存等量值變動實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AutoShape 57"/>
          <p:cNvSpPr/>
          <p:nvPr/>
        </p:nvSpPr>
        <p:spPr>
          <a:xfrm>
            <a:off x="2268360" y="1684440"/>
            <a:ext cx="122400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策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矩形 5"/>
          <p:cNvSpPr/>
          <p:nvPr/>
        </p:nvSpPr>
        <p:spPr>
          <a:xfrm>
            <a:off x="2268360" y="2563920"/>
            <a:ext cx="1224000" cy="119124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102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年起執行</a:t>
            </a:r>
            <a:r>
              <a:rPr b="1" lang="zh-TW" sz="2000" spc="-1" strike="noStrike">
                <a:solidFill>
                  <a:srgbClr val="006699"/>
                </a:solidFill>
                <a:latin typeface="標楷體"/>
                <a:ea typeface="標楷體"/>
              </a:rPr>
              <a:t>「</a:t>
            </a:r>
            <a:r>
              <a:rPr b="1" lang="zh-TW" sz="2000" spc="-1" strike="noStrike">
                <a:solidFill>
                  <a:srgbClr val="ff0000"/>
                </a:solidFill>
                <a:latin typeface="標楷體"/>
                <a:ea typeface="標楷體"/>
              </a:rPr>
              <a:t>砂土石產銷存動態調查計畫</a:t>
            </a:r>
            <a:r>
              <a:rPr b="1" lang="zh-TW" sz="2000" spc="-1" strike="noStrike">
                <a:solidFill>
                  <a:srgbClr val="006699"/>
                </a:solidFill>
                <a:latin typeface="標楷體"/>
                <a:ea typeface="標楷體"/>
              </a:rPr>
              <a:t>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AutoShape 57"/>
          <p:cNvSpPr/>
          <p:nvPr/>
        </p:nvSpPr>
        <p:spPr>
          <a:xfrm>
            <a:off x="3851280" y="1684440"/>
            <a:ext cx="244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6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調查對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矩形 5"/>
          <p:cNvSpPr/>
          <p:nvPr/>
        </p:nvSpPr>
        <p:spPr>
          <a:xfrm>
            <a:off x="3851280" y="2563920"/>
            <a:ext cx="24494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從事砂石碎解洗選加工業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AutoShape 57"/>
          <p:cNvSpPr/>
          <p:nvPr/>
        </p:nvSpPr>
        <p:spPr>
          <a:xfrm>
            <a:off x="3851280" y="4006800"/>
            <a:ext cx="2449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6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區域範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矩形 5"/>
          <p:cNvSpPr/>
          <p:nvPr/>
        </p:nvSpPr>
        <p:spPr>
          <a:xfrm>
            <a:off x="3908520" y="4941720"/>
            <a:ext cx="23922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臺灣本島各縣市及金門縣及連江縣等縣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A1F1B9-21CB-479A-862F-2FB8B48F5E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8" name=""/>
          <p:cNvGraphicFramePr/>
          <p:nvPr/>
        </p:nvGraphicFramePr>
        <p:xfrm>
          <a:off x="179280" y="208080"/>
          <a:ext cx="8785440" cy="621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08080"/>
                    <a:ext cx="87854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0" name="" descr=""/>
          <p:cNvPicPr/>
          <p:nvPr/>
        </p:nvPicPr>
        <p:blipFill>
          <a:blip r:embed="rId3"/>
          <a:stretch/>
        </p:blipFill>
        <p:spPr>
          <a:xfrm>
            <a:off x="0" y="642960"/>
            <a:ext cx="9144000" cy="6215040"/>
          </a:xfrm>
          <a:prstGeom prst="rect">
            <a:avLst/>
          </a:prstGeom>
          <a:ln w="0">
            <a:noFill/>
          </a:ln>
        </p:spPr>
      </p:pic>
      <p:sp>
        <p:nvSpPr>
          <p:cNvPr id="851" name=""/>
          <p:cNvSpPr/>
          <p:nvPr/>
        </p:nvSpPr>
        <p:spPr>
          <a:xfrm>
            <a:off x="744120" y="208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6699"/>
                </a:solidFill>
                <a:latin typeface="Arial"/>
                <a:ea typeface="標楷體"/>
              </a:rPr>
              <a:t>按月逐場調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076800" y="20808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砂土石生產、銷售、售價及庫存等量值變動實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627280" y="6234120"/>
            <a:ext cx="647640" cy="3682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郵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148360" y="6232680"/>
            <a:ext cx="647640" cy="3682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傳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188120" y="6234120"/>
            <a:ext cx="647640" cy="3682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電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45AE0F-0B3C-4360-A460-5FB9469A3E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395280" y="1098720"/>
            <a:ext cx="8353440" cy="500688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1116000" y="5921280"/>
            <a:ext cx="1224000" cy="3682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網路填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195640" y="3573360"/>
            <a:ext cx="4895640" cy="151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1AF7CF-FC5E-4137-AF91-7B91CE60B0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0" y="33195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二、 應用情境說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9756D-01D0-45A9-AB17-A2E444E892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900000" y="836640"/>
            <a:ext cx="77932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99"/>
                </a:solidFill>
                <a:latin typeface="Tahoma"/>
                <a:ea typeface="標楷體"/>
              </a:rPr>
              <a:t>資訊運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953440" y="3642480"/>
            <a:ext cx="206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全國總體砂石供需趨勢分析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矩形 5"/>
          <p:cNvSpPr/>
          <p:nvPr/>
        </p:nvSpPr>
        <p:spPr>
          <a:xfrm>
            <a:off x="539640" y="2849400"/>
            <a:ext cx="1224000" cy="91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衡量國內砂土石產銷存量消長情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054960" y="4436280"/>
            <a:ext cx="237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北中南東離島地區供需情勢分析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750040" y="5131440"/>
            <a:ext cx="145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砂石料源需求評估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696000" y="2849400"/>
            <a:ext cx="1224000" cy="1557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Arial"/>
                <a:ea typeface="標楷體"/>
              </a:rPr>
              <a:t>達成穩定砂石供需及平穩砂石物價之目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87560" y="585864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評估區域供需與跨區調配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340000" y="2697120"/>
            <a:ext cx="382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作為執行行政院核定砂石長期穩定供應策略相關施政計畫之參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AutoShape 57"/>
          <p:cNvSpPr/>
          <p:nvPr/>
        </p:nvSpPr>
        <p:spPr>
          <a:xfrm>
            <a:off x="539640" y="2039760"/>
            <a:ext cx="122400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AutoShape 57"/>
          <p:cNvSpPr/>
          <p:nvPr/>
        </p:nvSpPr>
        <p:spPr>
          <a:xfrm>
            <a:off x="2987640" y="2039760"/>
            <a:ext cx="2457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資訊運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AutoShape 57"/>
          <p:cNvSpPr/>
          <p:nvPr/>
        </p:nvSpPr>
        <p:spPr>
          <a:xfrm>
            <a:off x="6696000" y="2039760"/>
            <a:ext cx="122400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標楷體"/>
                <a:ea typeface="標楷體"/>
              </a:rPr>
              <a:t>目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" descr=""/>
          <p:cNvPicPr/>
          <p:nvPr/>
        </p:nvPicPr>
        <p:blipFill>
          <a:blip r:embed="rId1"/>
          <a:stretch/>
        </p:blipFill>
        <p:spPr>
          <a:xfrm>
            <a:off x="6143760" y="249120"/>
            <a:ext cx="2184120" cy="1638360"/>
          </a:xfrm>
          <a:prstGeom prst="rect">
            <a:avLst/>
          </a:prstGeom>
          <a:ln w="0">
            <a:noFill/>
          </a:ln>
        </p:spPr>
      </p:pic>
      <p:sp>
        <p:nvSpPr>
          <p:cNvPr id="872" name=""/>
          <p:cNvSpPr/>
          <p:nvPr/>
        </p:nvSpPr>
        <p:spPr>
          <a:xfrm>
            <a:off x="103320" y="51912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6699ff"/>
                </a:solidFill>
                <a:latin typeface="Arial"/>
                <a:ea typeface="標楷體"/>
              </a:rPr>
              <a:t>庫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866960" y="51912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99ff"/>
                </a:solidFill>
                <a:latin typeface="Arial"/>
                <a:ea typeface="標楷體"/>
              </a:rPr>
              <a:t>價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952560" y="5859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cccc"/>
                </a:solidFill>
                <a:latin typeface="Arial"/>
                <a:ea typeface="標楷體"/>
              </a:rPr>
              <a:t>銷售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952560" y="44798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333cc"/>
                </a:solidFill>
                <a:latin typeface="Arial"/>
                <a:ea typeface="標楷體"/>
              </a:rPr>
              <a:t>生產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872640" y="5127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ff"/>
                </a:solidFill>
                <a:latin typeface="Arial"/>
                <a:ea typeface="標楷體"/>
              </a:rPr>
              <a:t>供 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92280" y="4876920"/>
            <a:ext cx="1123920" cy="982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123BE-35C7-4F19-8B9E-17066BDE9D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0" y="1628640"/>
            <a:ext cx="84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三</a:t>
            </a: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、 </a:t>
            </a: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Open Data</a:t>
            </a: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相關資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FDF88C-7EBC-4574-9DA0-8840B8D464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7T04:08:57Z</dcterms:created>
  <dc:creator>awei</dc:creator>
  <dc:description/>
  <dc:language>en-US</dc:language>
  <cp:lastModifiedBy>ucchen</cp:lastModifiedBy>
  <dcterms:modified xsi:type="dcterms:W3CDTF">2016-09-12T09:14:55Z</dcterms:modified>
  <cp:revision>376</cp:revision>
  <dc:subject/>
  <dc:title>投影片 1</dc:title>
</cp:coreProperties>
</file>