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E253DD9-6527-48F6-8E64-3DC38BFD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C2C5CA6-BF79-4472-A9D7-718CF679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A799C79-EF99-45C9-9FFE-15232173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5F56CD3-0BB8-43A4-8879-14D9DB7E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405-C033-445B-8836-0300C2C5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350-9C21-4842-923F-3EA01044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6DF-C566-43C8-A5EC-4E5DA19D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F65-92FD-4F66-8439-BFACFF64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EB1-DF40-4802-9144-FC85690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EFD-5215-4E27-BAB9-2124F50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3CD-840E-4AD3-8CF7-F34CCCE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2D4-908C-42AE-9BF5-0E4CBD35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A6B-A7EE-4ED9-8A35-0035940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AA2-58EE-4861-8478-750EC12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A45-3CA9-43FB-93BF-DBC238F9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CF6-4768-4BBB-91A0-D11D1C2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DC43-4733-46B1-90B9-29C61A83610E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AE9-B86C-49FF-8BD4-885DE667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970-6E28-4C18-A6E1-AC8DFC634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3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4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5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6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7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C37B-861C-44F7-B48D-FB1C4FEFA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629-4059-4148-99C1-E8C382A635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AD3-2FD6-4B73-A0C3-94AFE92215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1" name="Picture 4" descr="box_reflex3"/>
            <p:cNvPicPr/>
            <p:nvPr/>
          </p:nvPicPr>
          <p:blipFill>
            <a:blip r:embed="rId2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4" name="Picture 8" descr="box_reflex3"/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7" name="Picture 11" descr="box_reflex3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F058-696B-4C5F-8D56-A1BAFDFAC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887-2CF6-4CDA-87DA-9FC782B02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A323-74CE-48D8-BD31-FBC859986D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583-A1BE-40EC-BC24-4B7379CC60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7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8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1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3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5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7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圆角矩形 7"/>
            <p:cNvGrpSpPr/>
            <p:nvPr/>
          </p:nvGrpSpPr>
          <p:grpSpPr>
            <a:xfrm>
              <a:off x="1587240" y="1535760"/>
              <a:ext cx="1999440" cy="371520"/>
              <a:chOff x="1587240" y="1535760"/>
              <a:chExt cx="1999440" cy="371520"/>
            </a:xfrm>
          </p:grpSpPr>
          <p:pic>
            <p:nvPicPr>
              <p:cNvPr id="279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7240" y="153576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60092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2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8B43-E2FC-4564-A150-778727D65D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BCFA-DAD2-4F9B-A50C-74684F1539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1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2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5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7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8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299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1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3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6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F6A-D92F-42B1-A3E1-495B7431E2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8FD9-F0ED-43C3-9670-C37709F12C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20F-7144-40CA-A4E8-E735C771DB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B816-EFFF-4F02-AE73-8CEA660F7A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D48-F457-4B65-9E70-DBC0C7962A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F145-D071-4E46-9D6D-BC9F411C98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E4E-B6EB-451B-B345-7C2C6EF30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5" name="Rectangle 134" descr=""/>
            <p:cNvPicPr/>
            <p:nvPr/>
          </p:nvPicPr>
          <p:blipFill>
            <a:blip r:embed="rId2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Rounded Rectangle 103" descr=""/>
          <p:cNvPicPr/>
          <p:nvPr/>
        </p:nvPicPr>
        <p:blipFill>
          <a:blip r:embed="rId3"/>
          <a:stretch/>
        </p:blipFill>
        <p:spPr>
          <a:xfrm>
            <a:off x="542880" y="4572000"/>
            <a:ext cx="8013600" cy="13287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AutoShape 4"/>
          <p:cNvGrpSpPr/>
          <p:nvPr/>
        </p:nvGrpSpPr>
        <p:grpSpPr>
          <a:xfrm>
            <a:off x="4707000" y="1125360"/>
            <a:ext cx="3446280" cy="444600"/>
            <a:chOff x="4707000" y="1125360"/>
            <a:chExt cx="3446280" cy="444600"/>
          </a:xfrm>
        </p:grpSpPr>
        <p:pic>
          <p:nvPicPr>
            <p:cNvPr id="342" name="AutoShape 4" descr=""/>
            <p:cNvPicPr/>
            <p:nvPr/>
          </p:nvPicPr>
          <p:blipFill>
            <a:blip r:embed="rId4"/>
            <a:stretch/>
          </p:blipFill>
          <p:spPr>
            <a:xfrm>
              <a:off x="4707000" y="1125360"/>
              <a:ext cx="34462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784400" y="1203480"/>
              <a:ext cx="32911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Oval 106"/>
          <p:cNvGrpSpPr/>
          <p:nvPr/>
        </p:nvGrpSpPr>
        <p:grpSpPr>
          <a:xfrm>
            <a:off x="4853160" y="1494000"/>
            <a:ext cx="269640" cy="261720"/>
            <a:chOff x="4853160" y="1494000"/>
            <a:chExt cx="269640" cy="261720"/>
          </a:xfrm>
        </p:grpSpPr>
        <p:pic>
          <p:nvPicPr>
            <p:cNvPr id="345" name="Oval 106" descr=""/>
            <p:cNvPicPr/>
            <p:nvPr/>
          </p:nvPicPr>
          <p:blipFill>
            <a:blip r:embed="rId5"/>
            <a:stretch/>
          </p:blipFill>
          <p:spPr>
            <a:xfrm>
              <a:off x="4853160" y="1494000"/>
              <a:ext cx="2696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929480" y="1548000"/>
              <a:ext cx="113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Rectangle 2"/>
          <p:cNvGrpSpPr/>
          <p:nvPr/>
        </p:nvGrpSpPr>
        <p:grpSpPr>
          <a:xfrm>
            <a:off x="1298520" y="1511280"/>
            <a:ext cx="2908440" cy="1665360"/>
            <a:chOff x="1298520" y="1511280"/>
            <a:chExt cx="2908440" cy="1665360"/>
          </a:xfrm>
        </p:grpSpPr>
        <p:pic>
          <p:nvPicPr>
            <p:cNvPr id="349" name="Rectangle 2" descr=""/>
            <p:cNvPicPr/>
            <p:nvPr/>
          </p:nvPicPr>
          <p:blipFill>
            <a:blip r:embed="rId6"/>
            <a:stretch/>
          </p:blipFill>
          <p:spPr>
            <a:xfrm>
              <a:off x="1298520" y="1511280"/>
              <a:ext cx="2907000" cy="16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300680" y="1513800"/>
              <a:ext cx="2906280" cy="16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4"/>
          <p:cNvGrpSpPr/>
          <p:nvPr/>
        </p:nvGrpSpPr>
        <p:grpSpPr>
          <a:xfrm>
            <a:off x="1146240" y="1127160"/>
            <a:ext cx="3367080" cy="439560"/>
            <a:chOff x="1146240" y="1127160"/>
            <a:chExt cx="3367080" cy="439560"/>
          </a:xfrm>
        </p:grpSpPr>
        <p:pic>
          <p:nvPicPr>
            <p:cNvPr id="352" name="AutoShape 4" descr=""/>
            <p:cNvPicPr/>
            <p:nvPr/>
          </p:nvPicPr>
          <p:blipFill>
            <a:blip r:embed="rId7"/>
            <a:stretch/>
          </p:blipFill>
          <p:spPr>
            <a:xfrm>
              <a:off x="1146240" y="1127160"/>
              <a:ext cx="3367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23280" y="1202400"/>
              <a:ext cx="3215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Oval 110"/>
          <p:cNvGrpSpPr/>
          <p:nvPr/>
        </p:nvGrpSpPr>
        <p:grpSpPr>
          <a:xfrm>
            <a:off x="1225440" y="1517760"/>
            <a:ext cx="270000" cy="261720"/>
            <a:chOff x="1225440" y="1517760"/>
            <a:chExt cx="270000" cy="261720"/>
          </a:xfrm>
        </p:grpSpPr>
        <p:pic>
          <p:nvPicPr>
            <p:cNvPr id="355" name="Oval 110" descr=""/>
            <p:cNvPicPr/>
            <p:nvPr/>
          </p:nvPicPr>
          <p:blipFill>
            <a:blip r:embed="rId8"/>
            <a:stretch/>
          </p:blipFill>
          <p:spPr>
            <a:xfrm>
              <a:off x="1225440" y="1517760"/>
              <a:ext cx="2700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302480" y="1569960"/>
              <a:ext cx="1134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val 113" descr=""/>
          <p:cNvPicPr/>
          <p:nvPr/>
        </p:nvPicPr>
        <p:blipFill>
          <a:blip r:embed="rId9"/>
          <a:stretch/>
        </p:blipFill>
        <p:spPr>
          <a:xfrm>
            <a:off x="4973760" y="3365640"/>
            <a:ext cx="23382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0" name="Oval 116" descr=""/>
            <p:cNvPicPr/>
            <p:nvPr/>
          </p:nvPicPr>
          <p:blipFill>
            <a:blip r:embed="rId10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Rectangle 117" descr=""/>
            <p:cNvPicPr/>
            <p:nvPr/>
          </p:nvPicPr>
          <p:blipFill>
            <a:blip r:embed="rId11"/>
            <a:stretch/>
          </p:blipFill>
          <p:spPr>
            <a:xfrm>
              <a:off x="2268360" y="3523320"/>
              <a:ext cx="141372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Rectangle 117" descr=""/>
          <p:cNvPicPr/>
          <p:nvPr/>
        </p:nvPicPr>
        <p:blipFill>
          <a:blip r:embed="rId12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3" name="Freeform 43" descr=""/>
          <p:cNvPicPr/>
          <p:nvPr/>
        </p:nvPicPr>
        <p:blipFill>
          <a:blip r:embed="rId13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53" descr=""/>
          <p:cNvPicPr/>
          <p:nvPr/>
        </p:nvPicPr>
        <p:blipFill>
          <a:blip r:embed="rId14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AF7-0985-4686-AC9B-DFE99D5827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2EB-30A2-4011-A309-3DC6B302C5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fp_10"/>
          <p:cNvPicPr/>
          <p:nvPr/>
        </p:nvPicPr>
        <p:blipFill>
          <a:blip r:embed="rId2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4A9-D1B9-4509-AF7B-93C9F36E7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E68-FD50-4974-8E19-0C0C4C33ED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172-25CB-498F-B81B-BD9F9F795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933-5EB7-41EC-94AB-9A78B56E3D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A672-8590-4CDB-9CC0-93C00D1DE1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8EE-0A67-4922-974D-76E3DD03FD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95F6-77A1-4F98-817C-3B19B30B1C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3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E4A-D13F-446D-8B7B-8B0D0778B3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6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80D4-826A-4823-A526-95B23931E1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46BE-EF93-4E3B-AD2F-F76E4552A5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0640" y="1484280"/>
              <a:ext cx="3988080" cy="4845240"/>
            </a:xfrm>
            <a:custGeom>
              <a:avLst/>
              <a:gdLst>
                <a:gd name="textAreaLeft" fmla="*/ 103320 w 3988080"/>
                <a:gd name="textAreaRight" fmla="*/ 3884760 w 398808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2">
                  <a:moveTo>
                    <a:pt x="1913" y="0"/>
                  </a:moveTo>
                  <a:arcTo wR="1913" hR="1913" stAng="16200000" swAng="-5400000"/>
                  <a:lnTo>
                    <a:pt x="0" y="24329"/>
                  </a:lnTo>
                  <a:arcTo wR="1913" hR="1913" stAng="10800000" swAng="-5400000"/>
                  <a:lnTo>
                    <a:pt x="19687" y="26242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788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6280" y="1268280"/>
            <a:ext cx="1998720" cy="371520"/>
            <a:chOff x="1376280" y="1268280"/>
            <a:chExt cx="199872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2"/>
            <a:stretch/>
          </p:blipFill>
          <p:spPr>
            <a:xfrm>
              <a:off x="1376280" y="1268280"/>
              <a:ext cx="19987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1760" y="1284840"/>
              <a:ext cx="19670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29400" y="1281240"/>
            <a:ext cx="1998720" cy="377640"/>
            <a:chOff x="5729400" y="1281240"/>
            <a:chExt cx="1998720" cy="377640"/>
          </a:xfrm>
        </p:grpSpPr>
        <p:pic>
          <p:nvPicPr>
            <p:cNvPr id="137" name="圆角矩形 7" descr=""/>
            <p:cNvPicPr/>
            <p:nvPr/>
          </p:nvPicPr>
          <p:blipFill>
            <a:blip r:embed="rId3"/>
            <a:stretch/>
          </p:blipFill>
          <p:spPr>
            <a:xfrm>
              <a:off x="5729400" y="1281240"/>
              <a:ext cx="19987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4160" y="1297440"/>
              <a:ext cx="1967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E934-73C1-4723-A64F-3604FF5B67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034-698E-4E27-930F-DB0C1CC527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666A-FE69-499A-859C-1CBE957882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ly.yang</cp:lastModifiedBy>
  <dcterms:modified xsi:type="dcterms:W3CDTF">2015-09-22T00:59:01Z</dcterms:modified>
  <cp:revision>1821</cp:revision>
  <dc:subject/>
  <dc:title>投影片 1</dc:title>
</cp:coreProperties>
</file>