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hdr"/>
          </p:nvPr>
        </p:nvSpPr>
        <p:spPr>
          <a:xfrm>
            <a:off x="-5040" y="-180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dt" idx="57"/>
          </p:nvPr>
        </p:nvSpPr>
        <p:spPr>
          <a:xfrm>
            <a:off x="3854160" y="-180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 type="sldImg"/>
          </p:nvPr>
        </p:nvSpPr>
        <p:spPr>
          <a:xfrm>
            <a:off x="-345960" y="288720"/>
            <a:ext cx="7416720" cy="417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 type="ftr" idx="58"/>
          </p:nvPr>
        </p:nvSpPr>
        <p:spPr>
          <a:xfrm>
            <a:off x="-5040" y="943272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 type="sldNum" idx="59"/>
          </p:nvPr>
        </p:nvSpPr>
        <p:spPr>
          <a:xfrm>
            <a:off x="3854160" y="943272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F2A2BABE-0677-405C-9D46-B19DD98F0D46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54520" y="943308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9AA3CA6C-B7F1-45EB-B89C-78EF59625050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-369720" y="217440"/>
            <a:ext cx="7545240" cy="424512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54520" y="943308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16AD27B7-A17D-4008-AD22-174362920C35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-369720" y="217440"/>
            <a:ext cx="7545240" cy="424512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54520" y="943308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6EC89DA6-1757-4596-ABB2-BD8CF1D70A01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-369720" y="217440"/>
            <a:ext cx="7545240" cy="424512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54520" y="943308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F0523542-6DCF-46E6-B82B-D645EF2698BA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-369720" y="217440"/>
            <a:ext cx="7545240" cy="424512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54520" y="943308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CD3AAD66-FC24-4DED-9381-2046EF2F7F5D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-369720" y="217440"/>
            <a:ext cx="7545240" cy="424512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54520" y="943308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9E4A6A69-FE4F-481E-AAAE-B3A09EF0E484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-369720" y="217440"/>
            <a:ext cx="7545240" cy="424512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80ED-D964-4118-9956-BA9014600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F7CA-777E-4AC3-9CC6-8A2F9EFF2C0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A52BE-D3FF-4F0E-872F-23B4453C2F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50FF2-3169-4B10-9E4E-8D6A303E210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6C265-2BE4-4ED3-975F-C97A24E4A85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28166-BA98-4B3F-9499-ABB5C3F1BC2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D8757-BBEC-47C2-825D-A9932C21F6D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52868-40CE-4734-88BA-B070F2D309C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3526F-E27D-4CCD-9835-1B73AD3C22C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1B22E-4D2C-4CBE-B695-E498801A646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E4E42-7A6B-4EDE-A169-3911D640ED8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3E566-D4A4-4584-B8EB-FF7B9B4FC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1939-019E-4D04-83CC-3429F92D5E1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818C-AA1F-4225-A3E6-5BD69BEF18A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A24A0-46CB-445A-8D4B-F03FE0FA0FB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3DC3-AD95-4AC8-A7BD-CA055721ABF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D0E3F-6854-4431-8BCF-07488FCD4EF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4FE7-7712-4721-B143-AC092AE11B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58082-C6C2-47BE-89E2-2A210F80090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8EF1-0E22-4796-9CED-E5E315664B9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3285-4107-4CD1-849E-5FB26AA3A27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D242-F460-441B-9F7B-19C2CB385B9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98C7-BD3E-4C99-8EF5-26DBA8191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F6F2-62D4-48F3-9181-19088E1CC42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CC71-3C58-4996-B9E2-2390011DF7F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ED83D-2113-4DEF-8B60-7C910030AB8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7042C-BC85-44AE-B641-D3C6A87ECE5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7AA667-F90B-4976-911B-72ADA9D8E70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CC864-EB15-4776-B05D-8B9C8B9C55A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6ECB9-396A-48CB-A1F0-BD02D4BEFAB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66BF2-0DD5-4130-A997-6F2BF958A60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D9287-3FD8-4F94-91AC-5F9BDA66772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D0677-C1A8-4C5B-9F3F-4CB33028C36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74AF7-5A34-4DAE-B1BE-29A610E65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CF938-4188-49C3-96E0-AA491246DB1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3973F6-5D87-4E2C-BE0F-8DEE2BC1E38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98024-005E-4712-A42B-8E66F77D72E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8CD70A-734D-44BE-BE01-A12C5AAD877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53D79-5D6F-4C96-A561-ADA6085A425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9EA38-84ED-45B9-A1C7-D44FCDF9E86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66292D-C3EB-47FF-B671-98E0A314E43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81DA14-6337-4B22-A5C7-E4483B5FADF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6906E-92FE-4167-AB2E-56876AD3608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CB76C-DC22-4F0E-A85C-02C70130198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77F128-9B0E-4B8C-A1A9-4D79F8F5B2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79C3-4AD4-4E16-9B00-D0BCC896479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FF83B-1066-4CB7-96D4-A0882360019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820DC-FF97-40C8-9AA2-B6D9E4055B6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B0134-F2AF-461C-B0D5-8C84B5F379E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C8DC4F-7CEE-4316-906B-783558F757F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C7067-78C2-495D-AC91-7E7D79DC18B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5B26-316A-464B-8BC4-3B94C482144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A9AB-B096-4CA7-99F4-43F89F46C17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5EB55-F780-42DB-BCCE-ED489B1FA5A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63A0C-2F14-420B-8520-479C9E8CB64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FAE42-4ED9-4436-B02C-4021AE08D4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3A5D-3760-47BE-ADEC-C4AE610EE6B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5C483-224B-45D8-A9BF-90DCB176A56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45FCF-7278-4476-89CD-ECDE00753B2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C6CAA-FB9E-478F-8E2E-F46668A3BFC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2CBB0-B191-42E4-9B7F-00071F6C494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3CE7-202F-4383-9222-8D716669330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60708-2663-42F3-9620-6DC0762713E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86AF-0A3A-4732-BEAE-ACA58778188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81E199-8400-4B5E-A4C5-F7E71ECAF77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5DF176-531F-4F93-93D3-926CC91450F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3DC4F0-E1F6-4A43-8C65-D9258B8270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CF4E-9606-49F9-9193-A8E4F192EC2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907C9B-D51E-4504-9CBA-E459CAB23AA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6692C3-7EB3-46AA-8067-071F558D8BE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01AE2A-19D7-4F59-8ECF-2512F84C063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93BB40-46C8-4206-A0BF-533D197F834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529301-AAF3-49DF-8766-3B7C9C348CF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B5E400-9BC3-4463-97A7-1F191A2A0A4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15A351-428D-4C07-8E57-25AE0569A9B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073ED0-166C-4287-B1E0-4FDFB2E6D9A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D6D28B-5E93-44FA-A8D4-66C56A1DEB9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24F85-521E-4E61-A13F-C84C40ED7C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9D29-F4E3-4608-BBFD-574CFA7CABF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4A0A3-9F74-4A96-AB32-701C9620944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F629A-6861-4B00-AF79-4DFBB5560E9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3D868-0799-4D1A-A39C-80B31BBC83E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C735B-15E3-4575-8083-CC0DD5B05FD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85AC9-55B4-41C6-9797-7BA8564E35D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1BDF9-46B6-4EAF-9F4D-5AB485B35AC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4D24C-0CAC-403D-9912-F30DB849151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9295D-F6F0-459F-8D0F-5027926A31A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53141-A85D-4E52-8AD1-183EEF8DCB1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5F487-CD44-459D-B486-97C293A55D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D798D-CCB8-47D7-89B6-B24FA6472A0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266B2-922B-4D3D-AF40-8569726948F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3BD12-1103-4A09-A50B-A8FA449D625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D9104-7A4A-4AEF-A974-F4D93A88D9B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4C2DF-2167-45B5-9173-EB268807074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D6DAF-CFEF-4E56-97D7-1775FB3B465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E97FD-CDE8-4AF6-9A33-C4255C581B2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4B3FC-0CC2-4AF7-9AEB-F96D86D9078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B918F-3E44-4AA2-A901-4DB66FB07F4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E576D-70EE-4C19-B450-2DD409DA171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0CF8D-936B-4403-B63D-B32A00B2AE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B4FB-B108-46D1-A1F6-A09B975406F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F9C18-642C-41BB-9DEB-51B2EDE3F1E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9506C-6F93-4E27-A2BA-23852AA9E1A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7DAF2-B1C9-49A2-A922-53F76EC0E55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7EC3B8-10D8-4B73-8794-27F25FCBB34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1DDAE1-6481-44C5-BDDD-A5D62260962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D2121D-BE5B-46CA-B99B-CA4F4BA4732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7ACFFD-7C59-4B91-8B8C-6034D4AC63A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C618D8-2536-48A4-B288-7C09CE9D939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C4A139-95AF-4460-ACAC-CB22224DBA0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51CE9E-FD33-4626-9D63-710AB12671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6CF9-C3DD-4319-A98D-597487A87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B112-94C2-4380-A28D-15AC266161F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6890FA-F750-4E05-97D5-999977FFA1C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8AFA70-301F-4043-9588-C3C53A8FDBD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AF78A1-8DA6-4194-8C77-5DE1671382B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A8F453-2CDF-4988-8EA4-F70575A6F85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2D99C5-9417-4088-A16C-CA093644DC2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463EC5-8CD1-42BC-B434-B0FAAC08920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20849-89C9-463F-9087-9B6A9A3F3B6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498B6-A966-4C2E-926E-74EDE2856B8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80789-1BDB-482B-9361-24D2DFD86BF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96E69-D2FD-4CA0-8B1B-7281246CEB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C454-9DBD-4CBC-A245-08AAB4F242B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7258A-8AE3-441A-AE26-D10F2ACDF01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1670AA-FE6F-4D59-A080-086914167E6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EC2A8-F3C0-4FA4-BCAB-BEC36FDA3A5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F0A1C-2139-4D15-8FDF-2AB31135A10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81C27-D68C-41BE-B5B1-7BC933E4630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8B302-AB52-4F05-B7C5-A69F4D00959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9DBBD-9D35-47E0-BCC1-BC4CA746DEA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E29F0-D283-4147-B160-8DD10872181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7BC7A-2BDB-4168-9084-4973EDAD04F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0BC70-5574-436D-8952-B2D4A8C53A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7F61-7695-4DD8-88CB-57397F2FFA1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3A255-B17E-4914-ACC2-A6D79C90DD0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601A3-17E6-454E-AD39-DA107276833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B5EB9-88BC-41C6-AE5F-76376728DCF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64FA3-A825-4FEE-9661-8EA92C22136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D7D88-6B15-43DF-8685-90050EA385F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CC63E-2B91-49DF-93E5-68147B90A6A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52AB8-E397-44DB-8102-B289CD5A181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F4F6-136C-4DE4-A3DB-CB876F12D21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23E77-CF14-474E-A10F-65E54302870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B68F5F-83ED-46D4-B3CC-0B107A4F3A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6C12-D399-4305-9B4B-E06BEB6A2CB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23F694-1B24-4A9C-84C0-F970D2ED1E2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3921DC-9A20-4525-8CE4-4E88841AEF3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EE0B40-717B-4435-9DD4-0B5CA74783B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53E44D-4711-4199-821D-C4C0A777851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F9C14B-80E3-44CC-B8C4-078A173FDA1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8CB153-6E4F-4ED4-8077-8A0898A3D86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A2FE72-0302-4883-BCC7-CDB2345A6ED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8851B5-0794-460F-9F61-EA443A4AC6B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3EEC23-4106-4D46-B683-A58935645E1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CA96A7-B373-4D30-8632-0F86191A06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6135-1386-446D-88F0-C6212B358D3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2E6083-3D3F-45E2-B655-77B74360A2B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97B2E-A3DC-4BAA-BCF3-88C9483C525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79F19-FD12-4202-8CED-3CA80C6749B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4D7DB-B0DE-47A4-9957-4C68F61087A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95A7F-F667-4981-9A6C-14360E07D92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F71B7-E8FD-4C1F-A797-6EA2145241F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6ABA0-5AC5-4DF3-91F0-2584D5849C8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55D93-A5FC-48D8-8BF7-AA9F9C1CC05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A9A8E-8644-442A-859F-754E04B28A9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CD56E-EBCF-4140-B20D-DA13E26EC5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24B-4C41-452B-885C-6FE647FFD0D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FC2DC-06E8-4673-B5C4-2DC3743EE37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2C016E-F49C-4AE1-92B9-97854BE1F7E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B5556-CB95-4E5E-B2F1-B2E0A507F21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E1007-D819-42ED-BE8B-55AB1C49371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D5E40-5245-4BED-8220-94B8C71877E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6D05F-11BD-4A32-AE91-9AA8E3CA57F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2BC0C-7525-4E1C-AAA4-3F9F2CF30E5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0DA11-6BEA-4FB3-9228-15DD15936BF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7C3E8-4276-44A4-9B77-BA06C2F9759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14987-007D-41A5-89D5-1ADA7FE9CA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189-0CDC-461D-AC1B-2395E940CDD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75D3B-0F94-4BE0-A4EF-232C614166E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0FAEA-929F-48D8-A33B-FD8F90030C2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A5984-AC3D-4D1B-B9EC-A9A4C320521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327E2-3305-4E5E-86B3-7B68FA4BE94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6BAAD-6C1D-4835-8071-6893DCEF259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1BE051-DF5F-4128-AD99-28BE537CB12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499817-E4D7-4902-A9F2-7ADEB862C20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81F8B4-8EF8-4361-91D2-A4A40784755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C186A7-4FE9-4A39-8A9C-2F62E9A3C17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9743F5-0A0B-48AF-B615-5EEE084321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F33-760E-430E-B92F-62C92C17B7E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69D0B5-5726-4C66-9E08-6B9750CCCD6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52E0B9-F493-4611-B981-9A90C2FC402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A9631C-F80C-4352-A66C-331D490ED00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CE3FF6-18C9-4FCF-B9FB-103A50AA4CA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584202-7573-4C00-9285-2F6735F91C0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A6BF55-11FD-40F7-B4BF-1B450CCBD2A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271576-88F7-40B9-8F97-539A6289D97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378524-60A3-4ABC-AC9C-D08154D6523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39453A-9277-416C-AA85-88C4C7D483D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25F576-9914-40A5-9112-E8C6308BEB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CDE-BD25-4786-81C4-AD776928FF8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757301-6CFE-4180-BC8D-56319EA7114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A6B729-3860-4F40-A35A-A0300DC4E4F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93AFE9-8831-4F10-BB9A-AC97FA10485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4D5B16-5B8F-4F9B-8F57-BAB5E13C97E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C49FB5-15A4-48E8-8DD8-52226B5CCE0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8467A9-1E16-4792-9377-22C5D6E2B40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D8EE44-CD01-458E-B200-FC2D87DE6AD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98F389-77E7-4A88-9B91-752D8E4B2F7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61934A-68C7-4969-A3B2-14AFFAFFD70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10A-6A10-4CBD-BBD7-761DCEAA6C4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470D-6CEA-47A9-BF1E-0658D411BA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1BB-47B4-43BA-AF9A-B8A7EF5FE71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6A0D64-A94F-473A-96A4-AD777DE5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ECCEA0-35C6-4F59-A1A9-EFA835D0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460503-E5C4-492F-B45B-2454A855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2E449F-D28B-45F1-A629-85AC2AD3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A9A996-691B-47FD-9AA6-3F01814D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FE1B24-CA85-4CA2-8CFC-6C5C6F6A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80108-76E8-4836-9622-423D9725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E1EB86-3AE6-409A-AEE3-D66842C6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438144-4BA2-4F59-B092-F19ADB16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8FA-251B-49D7-8E1E-F46AE500165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550273-76A5-47E5-A5AA-761797F2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521312-1E8E-4BF9-9D24-9AEF6B27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66AEA5-D47C-4593-B607-2930346C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B065D8-3880-4569-95F5-27270400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F6C803-A14D-448B-8CC8-B74FDAE2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4A2AD9-6558-4E7D-B327-085519C5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54C780-1388-41D4-A110-22223608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F635C4-A263-4EF2-962B-BBF5B31B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897DB8-FBB6-4DA5-86F5-1C2BE355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6AFC28-133D-4574-8434-3ADC22D6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E27-63B9-493E-8422-5564F92FEA36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4A9A1B-4FCC-42EB-80CF-C517679B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751FA2-6B4E-4657-9C4B-85B416C4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2CEABC-DB40-4E5A-A077-2F9CCC2E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4F1002-118D-45AD-858E-1E6EFD73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639834-928E-4746-9382-B8C9D49A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0FE982-F218-4264-9588-EC8CA749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7E7D31-148B-42B0-A04C-BF2EC89B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0AB345-AACC-4ACF-928D-50082217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ECFB73-A885-4DEC-BBE2-D8F321E5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EB422B-783B-41CC-82B8-6B3049E9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0CB-529E-4DCF-9F98-F756785ACAF5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C52B22-1BD2-4B1D-B19C-2CACE7D4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43E1A1-F2DF-471D-B159-791B6383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CB13F0-27E3-4934-BE5E-3FD2E97A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474EFB-8C79-4970-836B-0A1E9186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0D2E4E-DFA4-49C9-BFF8-08E3C73E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7F3F10-D480-47AB-A5BC-E8DD5A86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A5BE97-2D34-4DE7-AB5F-E986B800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44BAD3-EBBB-4009-951D-7F8B1457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DFA20A-CBD6-4137-BFC9-01EB1F1E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ACA9B6-B522-4E76-ADC8-BF37AC80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41E-1B8C-4DD3-910F-DA18CD0311C1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271282-5304-4DA4-854D-114F6207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0E9B25-A6BB-4FA2-A349-78227938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CCD51F-7D37-4546-A65A-23A3C217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530F8C-BB0D-4A4E-942B-9F880658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78E2BE-3B4B-462A-B103-B7B8A5D7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A1351C-0AF3-477F-8290-BFC778EC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07BB50-13D6-4627-9FB0-996C9CFC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79BA5E-2606-4225-92DE-7B70C1D1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29BE21-4607-482F-815C-B9FA9E29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E4BFC3-5140-4285-81F4-77AC6AFA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F95-9840-4518-AFFA-0AAF43102786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6F0F59-D16E-4809-8F0A-274A5750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AC039E-CF94-4FC0-93F1-13C21C60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29EEC7-BA63-459F-86B1-C25D0B17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866F94-A367-496E-8C1B-F7EDAE41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3402AE-BC8E-4442-8F24-6AC26E46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316648-7FE0-41AB-8996-A91C868A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C55A4F-BBDA-45FF-97B6-F0843002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401D66-1267-4C37-A55A-29904CEB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D1A9E3-1723-48A7-A72B-3A261C19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E46DA7-1E73-4D2F-9A0C-05C3DAE4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CF6-801A-462F-963A-3889C86746AB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C546A7-375C-4563-B356-2BA51F26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CC39FD-B0E1-47D2-BAE1-600134B8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49EF10-90A7-4A49-82A5-10B21946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65DE56-63A1-4A80-B58B-10E8BE32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0EBD96-65FD-44CD-ACCB-0922CD54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4FB996-0372-444B-ACF4-30D06E38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560CC5-20C8-4A10-AB97-8F052B84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D56792-7C2D-47F8-931C-311657F3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A765F7-8CE1-4D48-B253-F2D30AE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CAA0E9-D933-4451-A8E6-6580F3E7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98121-09EC-4735-A5C5-BFC30C92E1C2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2F6F3D-5A9C-40BA-9676-6627C3C1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C4B6A5-CAAE-48E2-B963-858B3640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84076F-2B78-4C83-B17F-AC992C91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EB9547-C11D-4F74-9DF9-22609B76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47785F-4230-4954-85A8-3B919DEF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97C589-FEBE-453E-9887-A4206A4E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33FDB5-38F5-4112-B956-7E461F31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C62142-24AF-4EAA-991A-84C0B553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8629E4-04FC-4538-BEB2-29DF3FF9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BD18E2-E0F2-4F53-9BB0-72D82ADA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02C8F-A715-435F-ACC1-94A115A341D0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949199-B3A5-4803-AFC1-CC3280E3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CD467F-7E1E-4632-BF9D-4D2FA394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66B93E-4D95-456D-A481-F8738C06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13425C-9A44-42C0-BAC3-8373B1B9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396E79-E37D-4DAD-B696-A1B34C17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0332E7-61C9-44E9-975C-C6FE275B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470C59-C9FC-48AC-A617-A66AB3F9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762B9A-1D8C-42DE-9CF0-73B727C4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C2A596-6FA1-4BBD-B832-4FB0F32F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01E33D-4385-4CC4-A846-333FA5C0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4BA28-1EEA-40BE-BC8F-FAD51D24382A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C61636-27E5-4A10-8E05-61F25D31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C24C15-9D7D-41CD-A37D-A29EBEBD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62A16E-6428-4482-A036-A9B2B637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F7CDF0-6A09-404C-A422-7DF12C07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05340A-0F67-474F-8149-1866A7EA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DE6EBE-02DA-4504-928C-189B73DD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7712EC-9475-40AF-B622-FDDE57F5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EE51FA-A7CE-4154-8D36-0D8BD6D6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E3142B-854C-443D-9F2F-52B07485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A828AC-0376-444F-B6F7-DFBE4F77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3E35-1203-4D40-9191-3B551F3964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4E042-BC72-4539-BD9B-DBB0E46DEA6F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6E120B-CA6D-466F-8374-AA4A673C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644ADE-C77B-4CBC-8426-EBFBAB7D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E696B2-AE0B-4939-88B3-2184858B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AD0A0D-6B38-4172-B528-EF701118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10C81E-927F-4182-B0B5-1796E71F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B9DA1B-6F13-42A3-94B4-2B102F22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99333A-5B3B-4FCC-9847-8E0E67FC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9E2396-1501-4DDB-B7F0-36619F58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1C1F2E-3580-44BE-AC5A-15753F98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975F70-A36B-4587-A918-462AFEF8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6181C-97D5-4873-9BD2-FDD8C8FF4B1A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980647-0861-467A-8A03-D679CEF8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C002E43-A553-4BD3-8951-87980DAC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4D55DE7-CF99-48E8-965D-3D79A149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89A998-2E5E-469C-A222-C441F0EA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787E12-4DD4-4C74-8CE3-743A71EC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E19DF97-D314-4C9B-B042-0A43BE34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5953E1-2A50-4DC8-912C-A3F47463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FD55693-C40F-4587-818E-4D0E94C6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C00281-4393-4BEE-ADC1-8FB3604F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DBEBAC-B14D-404E-87C7-27D6A8B8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C6ACB-23D6-4A4E-9457-1861DCE74DCA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1F4510-1E8F-46B9-A9E3-B0E8EC97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75173D-3AEE-4AE3-978C-742D6D81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D52A2C7-88B9-4B80-8F16-6131EDD3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8EAB91-9BDB-4336-B10D-807E75CC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F575DC8-6B40-466B-912B-27BE5346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8EC7EC7-06BF-4264-8722-68514F47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DB93D1-6EE9-4C6B-AF81-DC10EF06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591C4D-163D-4B90-B882-354FE28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3FD44C3-7DB1-4BE3-9EC7-077E9A6A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3981B7B-2A1B-4C09-883D-1342858E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86CFA-EBB1-44C6-A8D9-698D28DA6BD7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D799E73-3B31-40A6-A084-4F9A16D3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CE6201-A34A-48C7-9817-05D0CFA8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268303E-9952-4C8C-94AA-3C403F3E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8ACC5-43E4-414D-8D23-2E8163E6C734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89087-24F5-4CA8-976D-2A6B765ED8A8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BC0D7-FA8A-47B6-8F87-E19D23C40F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034BB-7E4D-498B-9F87-1AC8E4582D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A0CBE-E75B-4C8C-AD1D-8ABA5447C0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5BA5A-8772-4002-81A9-F5C41F7D8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BB88-9C9C-41F1-8DD5-1872845028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634F4-B71A-4DE1-B9E4-BA0B2717A4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E7696-3E2D-45BF-BD77-8A11B3C3ED0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29ABF-A4AC-4A30-B2D5-5FDCD2A1A78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B92EC-DEE1-4EE3-9D0B-AE82D328E72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54691-1FFC-4C86-BE86-7955A590A73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AF77C-B44A-429D-954A-F8B5BFC2E1D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271AD-E2FA-4ABB-8E81-F8E56CF76FE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4E4DA-307C-41F1-AE18-A672C73B03B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3A7DB-9564-4989-A7A8-B172C1F04C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87BC7-6965-490E-BC4C-E4A326131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9431-5D7F-44D1-9A16-BED40A9CB41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1CA0F-681A-4AEE-B7C2-B2C18219109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EE43-60CE-40F4-9182-7F64E23A13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E9B1-0ECF-4AF4-AFEC-A1D47C20E83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2F39-D203-411D-8C57-98C44134C8A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ED02-5245-42E9-BE90-AB049E6BFD6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041E-9FEF-4976-BD6F-BFA38570400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E31D-277F-4FC5-901E-2A89D38FD58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69F4-E188-468B-8D87-E1DD8881F58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8FB0-6894-445B-8954-9A7867C8D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2BA2-BC31-4F12-A150-D53397478AC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5886-5BB0-40BD-B63D-1008235A663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B770-2950-4D4B-91AF-05BAFD124A9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BAE9-7170-4C5A-B397-5545023CE25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16CD-D2D4-45AB-AB99-04F0479D1E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570F-B1BC-4D2E-8D28-C6105A788C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3DC266-B018-4E65-86F1-5F0D1342546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0BE36-019F-42CC-8B2D-9E3C12F61F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A1430D-98C0-4897-9432-013F6B28AEA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AEBEB-13E0-424C-AEA1-959CC9D9AF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9C3E35-898A-4F1E-AB1E-2C0212BEB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D653-EC59-4E66-8C10-7CF8C603906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BBAD34-EAFB-495C-B30B-B3B6B42745B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3773D2-EBFC-47D6-B45B-B86D5E2C338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C7A0E3-8F54-48D9-A704-6060FE8169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7D5E52-6C62-40D8-A3BE-825C80D1193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9ECDB2-557C-40DF-B4D3-FE7F917BD9A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1BAFF1-4EA4-49EE-B29F-A768A10292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799E6-7670-4B5F-AC08-2C1C2270589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78DC1-4D14-43B2-A740-1342F0F9324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BE604-BC28-44CC-8034-EBF1D1A411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E2439-0FD0-406C-AEF1-982E527F1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D1C2-8261-461D-B00B-DDA7E623E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4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pic>
        <p:nvPicPr>
          <p:cNvPr id="6" name="圖片 1" descr=""/>
          <p:cNvPicPr/>
          <p:nvPr/>
        </p:nvPicPr>
        <p:blipFill>
          <a:blip r:embed="rId4"/>
          <a:stretch/>
        </p:blipFill>
        <p:spPr>
          <a:xfrm>
            <a:off x="654120" y="6353280"/>
            <a:ext cx="19080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386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pic>
        <p:nvPicPr>
          <p:cNvPr id="388" name="圖片 1" descr=""/>
          <p:cNvPicPr/>
          <p:nvPr/>
        </p:nvPicPr>
        <p:blipFill>
          <a:blip r:embed="rId4"/>
          <a:stretch/>
        </p:blipFill>
        <p:spPr>
          <a:xfrm>
            <a:off x="654120" y="6353280"/>
            <a:ext cx="1908000" cy="4953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9"/>
          </p:nvPr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C162-CA0F-4D99-A38B-69720A90E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429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431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Num" idx="10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880F-9AD3-48C7-8793-D90EDAAC7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470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472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Num" idx="11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EC63-E925-41D0-A5A8-CFC5EEC06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511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513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Num" idx="12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C63D-9E47-4E2A-BBC9-6C5E304E5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552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554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5818-7948-4631-85DF-986733694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593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595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Num" idx="14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570F-572B-430D-9F09-2FAD8E470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634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636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Num" idx="15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5D22-BAC8-4DE7-8FE7-7100721B6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675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677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Num" idx="16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DA9B-B73C-42C7-994B-4F0BE0872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716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718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Num" idx="17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025C-0E06-40FF-A62F-7434256F9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757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759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Num" idx="18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D18B-5D74-489F-9C49-49A46058A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82CF-1C6B-41EF-A94D-8F3326E49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4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45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47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798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800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Num" idx="19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7E56-18F8-4064-AFB8-50BA3C961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839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841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Num" idx="20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F708-FC45-4624-AACD-13E61E99B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880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882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Num" idx="21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77E2-86F5-4508-BEF1-063FEB4A3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921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923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Num" idx="22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8106-85C2-4A15-B5B6-960363E02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Line 8"/>
          <p:cNvSpPr/>
          <p:nvPr/>
        </p:nvSpPr>
        <p:spPr>
          <a:xfrm>
            <a:off x="0" y="6337440"/>
            <a:ext cx="12187080" cy="0"/>
          </a:xfrm>
          <a:prstGeom prst="line">
            <a:avLst/>
          </a:prstGeom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962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964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sldNum" idx="23"/>
          </p:nvPr>
        </p:nvSpPr>
        <p:spPr>
          <a:xfrm>
            <a:off x="9120240" y="6453000"/>
            <a:ext cx="2844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25F7-B125-4CBB-9F0F-70163DB96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Line 8"/>
          <p:cNvSpPr/>
          <p:nvPr/>
        </p:nvSpPr>
        <p:spPr>
          <a:xfrm>
            <a:off x="0" y="6337440"/>
            <a:ext cx="12187080" cy="0"/>
          </a:xfrm>
          <a:prstGeom prst="line">
            <a:avLst/>
          </a:prstGeom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005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1007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047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048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049" name="圖片 10" descr=""/>
          <p:cNvPicPr/>
          <p:nvPr/>
        </p:nvPicPr>
        <p:blipFill>
          <a:blip r:embed="rId4"/>
          <a:srcRect l="12606" t="16555" r="31597" b="44780"/>
          <a:stretch/>
        </p:blipFill>
        <p:spPr>
          <a:xfrm>
            <a:off x="0" y="1122480"/>
            <a:ext cx="10001160" cy="2798640"/>
          </a:xfrm>
          <a:prstGeom prst="rect">
            <a:avLst/>
          </a:prstGeom>
          <a:ln w="0">
            <a:noFill/>
          </a:ln>
        </p:spPr>
      </p:pic>
      <p:pic>
        <p:nvPicPr>
          <p:cNvPr id="1050" name="圖片 11" descr=""/>
          <p:cNvPicPr/>
          <p:nvPr/>
        </p:nvPicPr>
        <p:blipFill>
          <a:blip r:embed="rId5"/>
          <a:stretch/>
        </p:blipFill>
        <p:spPr>
          <a:xfrm>
            <a:off x="4824360" y="3602160"/>
            <a:ext cx="4300560" cy="280800"/>
          </a:xfrm>
          <a:prstGeom prst="rect">
            <a:avLst/>
          </a:prstGeom>
          <a:ln w="0">
            <a:noFill/>
          </a:ln>
        </p:spPr>
      </p:pic>
      <p:sp>
        <p:nvSpPr>
          <p:cNvPr id="1051" name="矩形 9"/>
          <p:cNvSpPr/>
          <p:nvPr/>
        </p:nvSpPr>
        <p:spPr>
          <a:xfrm>
            <a:off x="7440480" y="6356520"/>
            <a:ext cx="3936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24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25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26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98AD-6EE7-47D5-A763-0EC22370908F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094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095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096" name="圖片 10" descr=""/>
          <p:cNvPicPr/>
          <p:nvPr/>
        </p:nvPicPr>
        <p:blipFill>
          <a:blip r:embed="rId4"/>
          <a:srcRect l="15801" t="5866" r="16575" b="70925"/>
          <a:stretch/>
        </p:blipFill>
        <p:spPr>
          <a:xfrm>
            <a:off x="0" y="96840"/>
            <a:ext cx="8591400" cy="1293840"/>
          </a:xfrm>
          <a:prstGeom prst="rect">
            <a:avLst/>
          </a:prstGeom>
          <a:ln w="0">
            <a:noFill/>
          </a:ln>
        </p:spPr>
      </p:pic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27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28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29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3334-895A-4B78-9C7B-A82C1BFD4C8B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139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140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 type="dt" idx="30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 type="ftr" idx="31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 type="sldNum" idx="32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7C11-2860-4830-B828-2E833F3AD745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183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184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33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34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35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EBF8-F841-4733-9B22-BB03B3B49FEA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0D71-11CD-40F8-880A-D14A6C9EA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0" y="6337440"/>
            <a:ext cx="12187080" cy="0"/>
          </a:xfrm>
          <a:prstGeom prst="line">
            <a:avLst/>
          </a:prstGeom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88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90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227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228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36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37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38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C638-7A34-4AB5-9138-3519CF26761E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271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272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273" name="圖片 10" descr=""/>
          <p:cNvPicPr/>
          <p:nvPr/>
        </p:nvPicPr>
        <p:blipFill>
          <a:blip r:embed="rId4"/>
          <a:srcRect l="15801" t="5866" r="16575" b="70925"/>
          <a:stretch/>
        </p:blipFill>
        <p:spPr>
          <a:xfrm>
            <a:off x="0" y="96840"/>
            <a:ext cx="8591400" cy="12938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39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40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41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FAA5-FE32-496F-86F7-BED744516E31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316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317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42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43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44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EBCA-8575-4DBB-9226-ADA18FFF10D7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360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361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45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46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47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48C3-1A5A-449D-ADCA-7E0FDCE0D06D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3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404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405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48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49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50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7671-B4AC-4E99-B78A-A0E67069D87F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448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449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51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52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53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8D57-8EFB-4916-897A-83DA922A2EBE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492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493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54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ftr" idx="55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sldNum" idx="56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B33D-A741-4E7B-ADAF-6BC960689097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536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1538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578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1580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15560" y="213372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 lvl="1"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 lvl="2" marL="343080" indent="-343080" algn="just">
              <a:spcBef>
                <a:spcPts val="700"/>
              </a:spcBef>
              <a:buClr>
                <a:srgbClr val="0000ff"/>
              </a:buClr>
              <a:buSzPct val="110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 lvl="3" marL="343080" indent="-343080" algn="just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 lvl="4" marL="343080" indent="-343080" algn="just">
              <a:spcBef>
                <a:spcPts val="700"/>
              </a:spcBef>
              <a:buClr>
                <a:srgbClr val="0000ff"/>
              </a:buClr>
              <a:buSzPct val="70000"/>
              <a:buFont typeface="Webdings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 lvl="5" marL="343080" indent="-343080" algn="just">
              <a:spcBef>
                <a:spcPts val="700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 lvl="6" marL="343080" indent="-343080" algn="just">
              <a:spcBef>
                <a:spcPts val="700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0" y="632772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4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DAAA-655C-4750-8BF4-AE29BB828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31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0320" cy="154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標楷體"/>
              </a:rPr>
              <a:t>Click to edit the title text format</a:t>
            </a:r>
            <a:endParaRPr b="1" lang="en-US" sz="44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015560" y="213372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Click to edit the outline text format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  <a:p>
            <a:pPr lvl="1"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Second Outline Level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  <a:p>
            <a:pPr lvl="2" marL="343080" indent="-343080" algn="just">
              <a:spcBef>
                <a:spcPts val="700"/>
              </a:spcBef>
              <a:buClr>
                <a:srgbClr val="0000ff"/>
              </a:buClr>
              <a:buSzPct val="110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Third Outline Level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  <a:p>
            <a:pPr lvl="3" marL="343080" indent="-343080" algn="just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Fourth Outline Level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  <a:p>
            <a:pPr lvl="4" marL="343080" indent="-343080" algn="just">
              <a:spcBef>
                <a:spcPts val="700"/>
              </a:spcBef>
              <a:buClr>
                <a:srgbClr val="0000ff"/>
              </a:buClr>
              <a:buSzPct val="70000"/>
              <a:buFont typeface="Webdings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Fifth Outline Level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  <a:p>
            <a:pPr lvl="5" marL="343080" indent="-343080" algn="just">
              <a:spcBef>
                <a:spcPts val="700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Sixth Outline Level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  <a:p>
            <a:pPr lvl="6" marL="343080" indent="-343080" algn="just">
              <a:spcBef>
                <a:spcPts val="700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Seventh Outline Level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4680" y="63277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5"/>
          </p:nvPr>
        </p:nvSpPr>
        <p:spPr>
          <a:xfrm>
            <a:off x="9249840" y="6437160"/>
            <a:ext cx="284508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D1CD-7996-4768-928B-9DEA77810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75" name="圖片 5" descr=""/>
          <p:cNvPicPr/>
          <p:nvPr/>
        </p:nvPicPr>
        <p:blipFill>
          <a:blip r:embed="rId3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97logo01"/>
          <p:cNvPicPr/>
          <p:nvPr/>
        </p:nvPicPr>
        <p:blipFill>
          <a:blip r:embed="rId4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177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-27000"/>
            <a:ext cx="12192120" cy="144360"/>
          </a:xfrm>
          <a:prstGeom prst="rect">
            <a:avLst/>
          </a:prstGeom>
          <a:solidFill>
            <a:srgbClr val="ff996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0" y="632772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218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220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260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261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3"/>
          <p:cNvSpPr>
            <a:spLocks noGrp="1"/>
          </p:cNvSpPr>
          <p:nvPr>
            <p:ph type="sldNum" idx="6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1396-F8CC-4E0F-8AC4-805B61108865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7"/>
          </p:nvPr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CB6D-8AC7-42CD-8A37-9DD64D9C9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303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305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343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pic>
        <p:nvPicPr>
          <p:cNvPr id="345" name="圖片 1" descr=""/>
          <p:cNvPicPr/>
          <p:nvPr/>
        </p:nvPicPr>
        <p:blipFill>
          <a:blip r:embed="rId4"/>
          <a:stretch/>
        </p:blipFill>
        <p:spPr>
          <a:xfrm>
            <a:off x="654120" y="6353280"/>
            <a:ext cx="1908000" cy="495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8"/>
          </p:nvPr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AAA1-1B44-4CE7-A007-2164C313F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文本占位符 3"/>
          <p:cNvSpPr/>
          <p:nvPr/>
        </p:nvSpPr>
        <p:spPr>
          <a:xfrm>
            <a:off x="0" y="4656240"/>
            <a:ext cx="121921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台灣電力公司 業務處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石恩綸 組長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7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3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</a:t>
            </a:r>
            <a:endParaRPr b="0" lang="en-US" sz="2400" spc="-1" strike="noStrike">
              <a:solidFill>
                <a:srgbClr val="ff505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27" name="矩形 73"/>
          <p:cNvSpPr/>
          <p:nvPr/>
        </p:nvSpPr>
        <p:spPr>
          <a:xfrm>
            <a:off x="0" y="1555200"/>
            <a:ext cx="1214424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         </a:t>
            </a:r>
            <a:r>
              <a:rPr b="1" lang="en-US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107</a:t>
            </a: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年盤點之不開放資料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54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民間需求回應檢討說明</a:t>
            </a:r>
            <a:endParaRPr b="0" lang="en-US" sz="54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628" name="图片 41" descr=""/>
          <p:cNvPicPr/>
          <p:nvPr/>
        </p:nvPicPr>
        <p:blipFill>
          <a:blip r:embed="rId1"/>
          <a:srcRect l="0" t="2258" r="0" b="0"/>
          <a:stretch/>
        </p:blipFill>
        <p:spPr>
          <a:xfrm>
            <a:off x="8613720" y="3933720"/>
            <a:ext cx="354492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投影片編號版面配置區 3"/>
          <p:cNvSpPr/>
          <p:nvPr/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AF43-9E67-4C9E-A666-9C38431D9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630" name=""/>
          <p:cNvGraphicFramePr/>
          <p:nvPr/>
        </p:nvGraphicFramePr>
        <p:xfrm>
          <a:off x="515880" y="1052640"/>
          <a:ext cx="11160360" cy="5057640"/>
        </p:xfrm>
        <a:graphic>
          <a:graphicData uri="http://schemas.openxmlformats.org/drawingml/2006/table">
            <a:tbl>
              <a:tblPr/>
              <a:tblGrid>
                <a:gridCol w="612720"/>
                <a:gridCol w="2880000"/>
                <a:gridCol w="766764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ID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民間需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經濟部政府資料開放諮詢小組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3</a:t>
                      </a: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屆第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次會議紀錄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411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38217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請問台電可否提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4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起或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的需量競價資料集檔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資料集名稱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Microsoft YaHei"/>
                          <a:ea typeface="Microsoft YaHei"/>
                        </a:rPr>
                        <a:t>：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需量競價執行成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委員建議事項：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有關台電無法開放每日競價資料，是否符合競價目的？所稱有投機套利不見得不符合競價需求，且政府資訊公開法並未有此不公開事由。此外，競價資料本身已於機關網頁呈現每月相關資料，似乎無不開放之法律事由，建議可開放歷史資料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  <p:sp>
        <p:nvSpPr>
          <p:cNvPr id="1631" name="矩形 73"/>
          <p:cNvSpPr/>
          <p:nvPr/>
        </p:nvSpPr>
        <p:spPr>
          <a:xfrm>
            <a:off x="0" y="19116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經濟部開放資料民間需求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投影片編號版面配置區 3"/>
          <p:cNvSpPr/>
          <p:nvPr/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C739-3CE0-4DAD-8533-72CCD027A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633" name=""/>
          <p:cNvGraphicFramePr/>
          <p:nvPr/>
        </p:nvGraphicFramePr>
        <p:xfrm>
          <a:off x="515880" y="896760"/>
          <a:ext cx="11160360" cy="5268960"/>
        </p:xfrm>
        <a:graphic>
          <a:graphicData uri="http://schemas.openxmlformats.org/drawingml/2006/table">
            <a:tbl>
              <a:tblPr/>
              <a:tblGrid>
                <a:gridCol w="612720"/>
                <a:gridCol w="2951280"/>
                <a:gridCol w="7596360"/>
              </a:tblGrid>
              <a:tr h="638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ID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民間需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台電公司檢討意見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4630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38217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請問台電可否提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4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起或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的需量競價資料集檔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資料集名稱：需量競價執行成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720720" indent="-720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一、需量競價措施說明</a:t>
                      </a:r>
                      <a:endParaRPr b="0" lang="en-US" sz="27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一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於系統高載時期，開放用戶把節省下來的電回賣給台電，並由用戶出價競標，與其他用戶及發電機組共同競價，用戶配合抑低用電每度報價最高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元；若用戶得標後於抑低用電期間確實減少用電，則可獲得電費扣減。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 </a:t>
                      </a:r>
                      <a:endParaRPr b="0" lang="en-US" sz="27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二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藉由用戶自訂回饋價格，激發抑低用電潛能</a:t>
                      </a:r>
                      <a:endParaRPr b="0" lang="en-US" sz="27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      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，改善系統負載型態，進而延緩對新設電源之開發或降低可能面臨之限電風險。</a:t>
                      </a:r>
                      <a:endParaRPr b="0" lang="en-US" sz="27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三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惟需量競價是否執行，須視電力系統需要與用戶投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/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得標情形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投標價格與抑低量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而定。</a:t>
                      </a:r>
                      <a:endParaRPr b="0" lang="en-US" sz="27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  <p:sp>
        <p:nvSpPr>
          <p:cNvPr id="1634" name="矩形 73"/>
          <p:cNvSpPr/>
          <p:nvPr/>
        </p:nvSpPr>
        <p:spPr>
          <a:xfrm>
            <a:off x="0" y="19116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台電公司回應檢討說明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投影片編號版面配置區 3"/>
          <p:cNvSpPr/>
          <p:nvPr/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3162-093B-423E-9EF4-557C5C70E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636" name=""/>
          <p:cNvGraphicFramePr/>
          <p:nvPr/>
        </p:nvGraphicFramePr>
        <p:xfrm>
          <a:off x="515880" y="896760"/>
          <a:ext cx="11160360" cy="4772160"/>
        </p:xfrm>
        <a:graphic>
          <a:graphicData uri="http://schemas.openxmlformats.org/drawingml/2006/table">
            <a:tbl>
              <a:tblPr/>
              <a:tblGrid>
                <a:gridCol w="612720"/>
                <a:gridCol w="2951280"/>
                <a:gridCol w="7596360"/>
              </a:tblGrid>
              <a:tr h="660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ID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民間需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台電公司檢討意見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4111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38217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請問台電可否提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4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起或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的需量競價資料集檔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資料集名稱：需量競價執行成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720720" indent="-7207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二、針對已參加需量競價措施用戶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台電公司建置「需量競價平台」，於該平台揭露相關訊息，包括用戶自身參加措施月份提示、申請抑低契約容量、投標價格變更、得標訊息通知、實際抑低容量、執行時段等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透過該平台，用戶可隨時掌握訊息，大幅提升用戶參與需量競價措施之便利性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  <p:sp>
        <p:nvSpPr>
          <p:cNvPr id="1637" name="矩形 73"/>
          <p:cNvSpPr/>
          <p:nvPr/>
        </p:nvSpPr>
        <p:spPr>
          <a:xfrm>
            <a:off x="0" y="19116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台電公司回應檢討說明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投影片編號版面配置區 3"/>
          <p:cNvSpPr/>
          <p:nvPr/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1C9D-D5BF-4C8A-8F0A-BD0B96209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639" name=""/>
          <p:cNvGraphicFramePr/>
          <p:nvPr/>
        </p:nvGraphicFramePr>
        <p:xfrm>
          <a:off x="515880" y="896760"/>
          <a:ext cx="11160360" cy="4772160"/>
        </p:xfrm>
        <a:graphic>
          <a:graphicData uri="http://schemas.openxmlformats.org/drawingml/2006/table">
            <a:tbl>
              <a:tblPr/>
              <a:tblGrid>
                <a:gridCol w="612720"/>
                <a:gridCol w="2951280"/>
                <a:gridCol w="7596360"/>
              </a:tblGrid>
              <a:tr h="660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ID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民間需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台電公司檢討意見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4111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38217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請問台電可否提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4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起或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的需量競價資料集檔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資料集名稱：需量競價執行成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720720" indent="-7207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三、針對未參加需量競價措施用戶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為讓外界瞭解需量競價措施參與情形與執行成效，已自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起，於台電公司官網「業務公告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/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業務專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/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負載管理專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/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實施成效」，揭露需量競價措施每月申請量與最大抑低量，用戶可自行下載參考，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1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經檢討，前述資料可於「政府資料開放平台」揭露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  <p:sp>
        <p:nvSpPr>
          <p:cNvPr id="1640" name="矩形 73"/>
          <p:cNvSpPr/>
          <p:nvPr/>
        </p:nvSpPr>
        <p:spPr>
          <a:xfrm>
            <a:off x="0" y="19116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台電公司回應檢討說明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投影片編號版面配置區 3"/>
          <p:cNvSpPr/>
          <p:nvPr/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6F08-4D13-4FA9-93A9-9A3944E62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515880" y="896760"/>
          <a:ext cx="11160360" cy="4772160"/>
        </p:xfrm>
        <a:graphic>
          <a:graphicData uri="http://schemas.openxmlformats.org/drawingml/2006/table">
            <a:tbl>
              <a:tblPr/>
              <a:tblGrid>
                <a:gridCol w="612720"/>
                <a:gridCol w="2951280"/>
                <a:gridCol w="7596360"/>
              </a:tblGrid>
              <a:tr h="660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ID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民間需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台電公司檢討意見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4111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38217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請問台電可否提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4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起或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的需量競價資料集檔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資料集名稱：需量競價執行成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09640" indent="-80964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四、開放時程與範圍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809640" indent="-80964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8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，在「政府資料開放平台」開放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10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及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7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需量競價措施執行成效資料集，包含每月申請量與最大抑低量，並於每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更新前一年度之資料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  <p:sp>
        <p:nvSpPr>
          <p:cNvPr id="1643" name="矩形 73"/>
          <p:cNvSpPr/>
          <p:nvPr/>
        </p:nvSpPr>
        <p:spPr>
          <a:xfrm>
            <a:off x="0" y="19116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台電公司回應檢討說明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Tab</dc:creator>
  <dc:description/>
  <dc:language>en-US</dc:language>
  <cp:lastModifiedBy>王靜宜</cp:lastModifiedBy>
  <cp:lastPrinted>2018-10-09T00:50:41Z</cp:lastPrinted>
  <dcterms:modified xsi:type="dcterms:W3CDTF">2018-10-09T00:55:35Z</dcterms:modified>
  <cp:revision>5169</cp:revision>
  <dc:subject/>
  <dc:title>沒有投影片標題</dc:title>
</cp:coreProperties>
</file>