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0E4-B482-4A6A-9171-1B4B2C5D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9D3-090B-4118-B8DF-CF26E56B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4D2A7-6C02-4399-9478-5E2B9F87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C037B-0240-4F23-AFA2-98383C73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F0FD7-D274-407B-B880-52A9ADC3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17953-B7FF-4C34-957D-695A0D8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EB91D-F8DB-4FB0-AD27-ACF9380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D93D4-8AE8-42EF-AA1D-C5BAA34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BBF60-75C3-4F51-978A-BDEDD53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02E62-1E86-49E7-953D-7A4E9630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82283-5BB8-4E18-A221-0A72407D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D395E-0DF8-4DB5-824B-1035314E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8E4-E24B-4BCA-9D6E-2191B162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67BB7-D8BB-4CD0-8E31-9D5D0C79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8A0E8-D83B-44FE-B25D-0C41F140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01453-D7F7-4948-B3B2-F0ED89FD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15FB8-907F-495F-9B60-23AEC3C8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C3BB7-0F03-4AE7-B882-590369FE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D0E85-B6B0-417A-97E8-7A99AA3C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9CDA2-8BFD-45E8-8553-A2EB769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1390E-0547-42D8-82D7-37CCE6B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79A4F-52A0-468D-B693-6566EF2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53DBD-0902-4C7C-95B5-DC482CA9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CA5-6912-45A9-BF95-29997168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B8BEA-20ED-4BE0-A812-116D21CB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F0355-DB6A-463A-B1B4-E31DD605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6E856-C62B-4650-A38C-DE79AF0A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43926-6BA3-4C8E-B141-31D086F6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21FFE-3503-4489-926E-7C5E2B7D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DCE61-01C1-4A09-AF83-9B4BCAB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C2EF9-9530-419A-8ABC-91482D0E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4BDDA-CB0B-4490-A51E-685944B3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AEEB9-D1A0-49D1-82FC-BAB35C8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86BF5-C0BB-4A33-BB4C-95FF454B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26A0-DBE9-4341-A921-FC949797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C1931-8680-45D1-951E-E482FDCE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61680-9EA4-4285-863A-6244A4FB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B7F00-5239-4833-9419-EC4D7730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FC5F8-1CA4-447C-8233-C672A8E3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C9993-8D07-4226-8167-51B6BC24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FDCDF-EBFF-4197-AC0B-A5E06EDC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1F758-595E-4076-9524-189206C4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89AEC-352C-4AD3-B7A4-72F810CD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A0DA3-D374-49D8-A2DB-08CB543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EEAE4-6E38-40E3-8C85-1F01E112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33D-660E-47E8-A41B-2E84E872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444FD-9DE2-4AE3-95E7-3FCCF3BD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5FB99-C526-4241-A12E-61ED95C8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D77BA-6CAF-408B-ACCD-3CEA6F57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E51C7-E779-4FB6-B972-AE4A9D56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0DCB9-63DF-4076-BD4F-9C2AC9A2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3A8BA-2671-4673-908B-8B4DFD6F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71825-2B34-4578-B603-559E289D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AFC6C-8DB5-499E-8870-889DA28A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7E247-82A2-4018-8169-5FF93F2A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C1DE1-1F60-4B95-ABE0-746FD5CF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C107-6FEC-4DA8-AF2F-323F89F7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94041-CCC8-4B7C-B3E9-13FE6970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AE6EA-4F87-420F-9F01-B5D836A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34076-F4EF-437D-A158-1997085B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22CFA-910B-4F95-826D-D0A43208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8AB19-A95F-4A4A-A1EE-50D3464C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82F44-0EAB-4CE2-B904-86A311D6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B215B-BF30-45A8-A36F-90B1C52A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365A6-DEF3-4ECA-936F-20BD86ED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A57CC-4270-4964-B783-97850E87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40E17-DCB8-4FB0-9BB9-96F6A689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1394-55B8-4B0D-A124-653592A6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C14FC-1F8C-449F-83E9-7CAC7403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3E01D-C178-4017-9B8F-3D657CE3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D6789-C784-47BD-B22D-D6BCDB02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C84E0-9BB9-4771-AB1A-47079EC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B35F5-6C6D-46DF-AD9B-02C2729F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F9E45-F81C-4C20-8EAD-3DBC71DD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4E10D-A176-420A-87BA-DD25DAD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0885F-039E-45B5-B591-86E16341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6C51D-BBF0-4BE1-A9D8-0128DE26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CE50-B8F6-4471-BE90-1BBAD533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7AED-BC89-42DF-869D-89DEFAE7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FDE6-103A-4B30-8364-8F386FDE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3E8-9487-45E1-ADDE-5E439A4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C129-347E-4494-8BE4-5951E3C6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E5FE-3139-4F33-BFA1-F1EF0E9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4376-254A-4C88-A8C8-A3872536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00F0-6DD1-4BD5-865B-F0B5CB24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26B5-5E4B-4B41-9A39-BCADF7C2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F92C-433D-4CE0-A7BB-6968AB0D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A6C4-9990-4B6B-88CC-D4B7C22D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3FCE-20F4-40EE-9663-8E99B95D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E9BC-4804-4594-8118-D812931C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B5DF-649A-4A18-BAF9-8520A552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381-123A-4FEF-BDD3-51857A17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44AE-72FF-411A-9934-52B2DD44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21B2-4E91-4F84-B3FB-473EEF79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1D77-3387-46E2-AC95-697338F3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1EF2-AE7B-45C6-91DD-5107A62A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111C-877B-422F-93BA-1AE640E8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81CF-1F7E-4D76-8A27-CC09EF92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5A08-12BA-4698-85CD-CEBC26AE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458D-D2CF-4458-AA98-41B57E56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58B2-8DF7-4EBA-A8DB-7A71AA63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B5F6B-D544-4E4D-8C91-5066506C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18F-9172-4F0C-A39B-0F02CE83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9AC10-2474-438F-B5D3-6B499EE5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4C92-6DF1-4772-8136-C7D9D2A2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9E3D-547B-4702-9A5B-C660D1DD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7FBE-4B7E-4A07-A795-11B0D11F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BC071-A34A-465E-AFB9-D94F2CA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C204-0311-46C4-ACA4-F4166E1A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02FE-D2F4-4065-A8DE-8652208C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D6098-0BBF-4D10-81A6-058E7BCB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9B962-E843-447F-A731-7BA661E1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0E778-A8CD-4AB3-8BDD-3C3A7F8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740-CEB1-4632-8C5C-032AB17C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E79E-7095-4ED4-A7E9-33334E4E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A1026-28CC-4773-9923-4801F822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25F4-F96C-4D94-85A4-E3F3CBDE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3B3EF-0A9B-47B2-BA9B-3D490FB1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C925F-B578-48AB-BB56-C10ABD96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D7F89-665E-4945-A627-1E5B6A8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2C82B-6001-47AD-A8FB-B4923208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02D74-5CD7-47B9-B9C3-F116D76A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1FE3-23B8-48B3-AE8E-D90277D7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8FB96-85A2-4CBF-89FB-FEDFF1A5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175-CDCC-409C-BD97-E0B10B1F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BEC0-BC58-4B59-BF1C-E4EA87EB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41D8F-2D0C-4484-B4FF-E863F6E6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BB9F-2A49-4A8F-B00D-C1341279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641F9-0ADE-47AA-8F0A-0B9396AC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D5108-70B2-48A2-9C9C-67767A52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F424F-A7B3-4530-A626-73470449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4A8A6-7034-40C4-8261-7655D8AE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7D414-2036-4BBF-89E1-2D15D81F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99AE3-AC07-47AC-95AD-066556DB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79AD6-9770-4ED2-9303-3B874CD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C58-A465-44B9-B328-2E43CA88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80F12-A901-434A-B884-89CC1A35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E6D91-486F-44DA-A840-38037D23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5E45-7B09-48C5-A922-C898D371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83699-CDC2-42E1-8791-34EC2678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2D189-1701-435C-AE25-1EE3B9C5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1568-F3BF-4BB5-988D-9F4E973D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1BA44-0BDC-4857-A9DF-E1DD73E4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F94EF-65F8-4769-AB93-DA8DCA44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71470-C0D0-4E03-8694-AA6E21FC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81501-4255-4EB4-A865-B451757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5EC-7F25-4C76-AC94-B77A8F4A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97724-9569-49F1-85BB-86CB6DCC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513CC-CC90-4927-B8C2-B63413E6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28B8A-F49B-4B00-A56C-27E174ED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2BF03-0167-4F56-8D8A-556829BA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7CC55-7108-49D0-966C-748F0F47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EFB33-2B34-4D6B-AB91-162E05CC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7DF5-A99C-4E16-A2D2-99607D15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E79F6-EFDF-45BD-A8C0-5BD5BFFA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B1AD2-50A9-47C8-AEC9-C619DFCA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0A54D-2961-4F29-BFDD-A563EAC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84B-E1FC-494C-A30F-27B632B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99271-7748-43B8-9965-33C62C70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34718-DDBF-47E4-BE36-E2138C8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89E34-E7F1-45F0-841F-7AA1D80C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FC12-823C-4630-98EA-7186E107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6BCFF-A7F6-47CE-B67B-1657769F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6D966-3937-4A26-8D27-F373B0D3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8B8F6-76BB-4F65-9586-9C021F21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C7696-2303-4A9C-8CBF-39CAB91C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70BBB-097F-4135-8C70-4FB63EF9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21BDF-0375-44BF-B5B3-C6B537BA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0FEA-CB07-4848-A1B2-B8548C46580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D2EA-0759-499F-88AD-975158820F7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15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1"/>
          </p:nvPr>
        </p:nvSpPr>
        <p:spPr>
          <a:xfrm>
            <a:off x="609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2"/>
          </p:nvPr>
        </p:nvSpPr>
        <p:spPr>
          <a:xfrm>
            <a:off x="358128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3"/>
          </p:nvPr>
        </p:nvSpPr>
        <p:spPr>
          <a:xfrm>
            <a:off x="6629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1D92-ACA4-44A9-88D7-AE438F3A0EE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680" y="1050480"/>
            <a:ext cx="7315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34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35"/>
          </p:nvPr>
        </p:nvSpPr>
        <p:spPr>
          <a:xfrm>
            <a:off x="32000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36"/>
          </p:nvPr>
        </p:nvSpPr>
        <p:spPr>
          <a:xfrm>
            <a:off x="6019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216B-0D5D-4A0A-883F-8BD52C0AA456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6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6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7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7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8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8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FB8-5F9B-4BEC-AF23-C4F4934B4317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5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5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76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76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7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77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8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32C4-3C23-4B10-8C66-665646E9B258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7357-8C04-4B49-99D4-B0791548D65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3BDD-FD7E-4290-B8F0-4B87AB8856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45CD-4F7C-4FC2-8A2D-AA62B4C457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6D6-53E3-4070-BFF1-9AA2C24905F1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3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3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3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837A-9F01-47C7-B001-9D51F548C040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234A-C67B-404F-9C90-75D037BD98D2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D435-DB36-4569-93ED-32C37B5FE13D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0F6D-7F40-466F-AA6B-B7ED4500827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0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0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slide11.xml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900" spc="-1" strike="noStrike">
                <a:solidFill>
                  <a:srgbClr val="ffffff"/>
                </a:solidFill>
                <a:latin typeface="Arial Black"/>
                <a:ea typeface="標楷體"/>
              </a:rPr>
              <a:t>全國砂土石產銷存動態資訊揭露推動策略</a:t>
            </a:r>
            <a:endParaRPr b="0" lang="en-US" sz="5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979280" y="4269960"/>
            <a:ext cx="51433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經濟部礦務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報告人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陳韻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05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9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月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1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04437-09AD-4EC2-AF56-3A379DF250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已開放資料集清單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0" name="AutoShape 57"/>
          <p:cNvSpPr/>
          <p:nvPr/>
        </p:nvSpPr>
        <p:spPr>
          <a:xfrm>
            <a:off x="468360" y="1179360"/>
            <a:ext cx="359892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報告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5"/>
          <p:cNvSpPr/>
          <p:nvPr/>
        </p:nvSpPr>
        <p:spPr>
          <a:xfrm>
            <a:off x="468360" y="2027160"/>
            <a:ext cx="3598920" cy="3682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年度砂土石產銷存調查報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684360" y="3090960"/>
            <a:ext cx="224604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3276720" y="3090960"/>
            <a:ext cx="224604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4" name="" descr=""/>
          <p:cNvPicPr/>
          <p:nvPr/>
        </p:nvPicPr>
        <p:blipFill>
          <a:blip r:embed="rId3"/>
          <a:stretch/>
        </p:blipFill>
        <p:spPr>
          <a:xfrm>
            <a:off x="5867280" y="3090960"/>
            <a:ext cx="224640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5" name=""/>
          <p:cNvSpPr/>
          <p:nvPr/>
        </p:nvSpPr>
        <p:spPr>
          <a:xfrm>
            <a:off x="4997520" y="175896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臺灣砂石供需情形，彙整分析特定區域之生產結構、產銷變動及營運情況等資料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15080" y="2674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ff"/>
                </a:solidFill>
                <a:latin typeface="Arial"/>
                <a:ea typeface="標楷體"/>
              </a:rPr>
              <a:t>逐年開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82BA4-05B2-441C-9EAD-B0A70B61B3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99920" y="18900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已開放資料集清單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235080" y="3276720"/>
          <a:ext cx="40384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76720"/>
                    <a:ext cx="40384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4572000" y="1031760"/>
          <a:ext cx="398304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031760"/>
                    <a:ext cx="398304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AutoShape 57"/>
          <p:cNvSpPr/>
          <p:nvPr/>
        </p:nvSpPr>
        <p:spPr>
          <a:xfrm>
            <a:off x="457200" y="1179360"/>
            <a:ext cx="381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統計資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5"/>
          <p:cNvSpPr/>
          <p:nvPr/>
        </p:nvSpPr>
        <p:spPr>
          <a:xfrm>
            <a:off x="457200" y="1989000"/>
            <a:ext cx="3816360" cy="1069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全國土石生產量值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全國砂土石產銷存動態統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進口砂石裝卸量統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572000" y="3645000"/>
          <a:ext cx="3983040" cy="28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645000"/>
                    <a:ext cx="39830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"/>
          <p:cNvSpPr/>
          <p:nvPr/>
        </p:nvSpPr>
        <p:spPr>
          <a:xfrm>
            <a:off x="5003640" y="194004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每月各縣市砂石成品生產、銷售、售價、庫存現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4360" y="5810400"/>
            <a:ext cx="35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每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含累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全國砂石成品產量、售價及產值資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003640" y="46530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各港口進口砂石數量及航次資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359520" y="3417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ff"/>
                </a:solidFill>
                <a:latin typeface="Arial"/>
                <a:ea typeface="標楷體"/>
              </a:rPr>
              <a:t>逐月開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7" action="ppaction://hlinksldjump"/>
          </p:cNvPr>
          <p:cNvSpPr/>
          <p:nvPr/>
        </p:nvSpPr>
        <p:spPr>
          <a:xfrm>
            <a:off x="3419640" y="617688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rId8" action="ppaction://hlinksldjump"/>
          </p:cNvPr>
          <p:cNvSpPr/>
          <p:nvPr/>
        </p:nvSpPr>
        <p:spPr>
          <a:xfrm>
            <a:off x="8191440" y="336240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9" action="ppaction://hlinksldjump"/>
          </p:cNvPr>
          <p:cNvSpPr/>
          <p:nvPr/>
        </p:nvSpPr>
        <p:spPr>
          <a:xfrm>
            <a:off x="8191440" y="616896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D4C53-7C48-4558-8687-826F6D1BF1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4000" y="852120"/>
            <a:ext cx="73436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需求建議事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4" name="矩形 5"/>
          <p:cNvSpPr/>
          <p:nvPr/>
        </p:nvSpPr>
        <p:spPr>
          <a:xfrm>
            <a:off x="2484360" y="4140360"/>
            <a:ext cx="2519280" cy="398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東砂西運裝卸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矩形 5"/>
          <p:cNvSpPr/>
          <p:nvPr/>
        </p:nvSpPr>
        <p:spPr>
          <a:xfrm>
            <a:off x="2484360" y="2043000"/>
            <a:ext cx="2519280" cy="398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產銷存相關細部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5"/>
          <p:cNvSpPr/>
          <p:nvPr/>
        </p:nvSpPr>
        <p:spPr>
          <a:xfrm>
            <a:off x="5580000" y="4140360"/>
            <a:ext cx="28796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國內砂石銷售流向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國內砂石產銷存相關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矩形 5"/>
          <p:cNvSpPr/>
          <p:nvPr/>
        </p:nvSpPr>
        <p:spPr>
          <a:xfrm>
            <a:off x="5580000" y="2043000"/>
            <a:ext cx="28796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河川砂石疏濬標售量價參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砂石料源分析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全國砂石量價與經濟面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87440" y="2043000"/>
            <a:ext cx="1523880" cy="7038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本部水利署等單位及各縣市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87440" y="4140360"/>
            <a:ext cx="1523880" cy="7038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逢甲及北科等大學及民間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011320" y="222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11320" y="2225520"/>
            <a:ext cx="473040" cy="214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11320" y="435276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2011320" y="2225160"/>
            <a:ext cx="473040" cy="21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03640" y="22255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00364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22F6A-10FF-4690-BE91-8FE82E2E7E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106</a:t>
            </a: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年預計開放資料集清單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5003640" y="1417680"/>
          <a:ext cx="353088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417680"/>
                    <a:ext cx="35308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5003640" y="4183200"/>
          <a:ext cx="3569040" cy="25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4183200"/>
                    <a:ext cx="35690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AutoShape 57"/>
          <p:cNvSpPr/>
          <p:nvPr/>
        </p:nvSpPr>
        <p:spPr>
          <a:xfrm>
            <a:off x="324000" y="1684440"/>
            <a:ext cx="4105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統計資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5"/>
          <p:cNvSpPr/>
          <p:nvPr/>
        </p:nvSpPr>
        <p:spPr>
          <a:xfrm>
            <a:off x="324000" y="2708280"/>
            <a:ext cx="41050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1.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東砂西運裝卸量統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2.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單月及累計砂石碎解洗選場產銷存調查情形一覽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-4048200" y="-464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-4048200" y="-519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-4048200" y="-464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-3083040" y="-464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1598120" y="-519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3454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增每月及累計各縣市砂石成品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來源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河川砂石、土石採取及營建剩餘土石方等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現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57200" y="4003560"/>
          <a:ext cx="3822840" cy="270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003560"/>
                    <a:ext cx="3822840" cy="27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826920" y="48690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增每月東砂西運砂石成品數量統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30720" y="38196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ff"/>
                </a:solidFill>
                <a:latin typeface="Arial"/>
                <a:ea typeface="標楷體"/>
              </a:rPr>
              <a:t>逐月開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7" action="ppaction://hlinksldjump"/>
          </p:cNvPr>
          <p:cNvSpPr/>
          <p:nvPr/>
        </p:nvSpPr>
        <p:spPr>
          <a:xfrm>
            <a:off x="4135320" y="4229280"/>
            <a:ext cx="289080" cy="282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rId8" action="ppaction://hlinksldjump"/>
          </p:cNvPr>
          <p:cNvSpPr/>
          <p:nvPr/>
        </p:nvSpPr>
        <p:spPr>
          <a:xfrm>
            <a:off x="8047080" y="400356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658CB-1999-407A-94D8-15AA55325E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四、品質精進方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CF1C-63BC-49F6-B5E7-A9449B1AE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66"/>
                </a:solidFill>
                <a:latin typeface="Arial"/>
                <a:ea typeface="標楷體"/>
              </a:rPr>
              <a:t>未來規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7" name="AutoShape 57"/>
          <p:cNvSpPr/>
          <p:nvPr/>
        </p:nvSpPr>
        <p:spPr>
          <a:xfrm>
            <a:off x="1254240" y="1827360"/>
            <a:ext cx="27414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持續執行調查計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5"/>
          <p:cNvSpPr/>
          <p:nvPr/>
        </p:nvSpPr>
        <p:spPr>
          <a:xfrm>
            <a:off x="1254240" y="2781360"/>
            <a:ext cx="2741400" cy="1465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砂土石產銷存動態調查計畫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將於本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105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底期滿，本局預計將本計畫加以修正後，函報行政院主計總處，期能續以執行，持續了解砂土石供需實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57"/>
          <p:cNvSpPr/>
          <p:nvPr/>
        </p:nvSpPr>
        <p:spPr>
          <a:xfrm>
            <a:off x="4429080" y="1827360"/>
            <a:ext cx="410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品質精進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5"/>
          <p:cNvSpPr/>
          <p:nvPr/>
        </p:nvSpPr>
        <p:spPr>
          <a:xfrm>
            <a:off x="4429080" y="278136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持續關注機關及民間團體需求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適時開放相關資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矩形 5"/>
          <p:cNvSpPr/>
          <p:nvPr/>
        </p:nvSpPr>
        <p:spPr>
          <a:xfrm>
            <a:off x="4429080" y="538956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精進統計品質，提高統計實用價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矩形 5"/>
          <p:cNvSpPr/>
          <p:nvPr/>
        </p:nvSpPr>
        <p:spPr>
          <a:xfrm>
            <a:off x="4429080" y="589428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擴展統計資料應用與服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5"/>
          <p:cNvSpPr/>
          <p:nvPr/>
        </p:nvSpPr>
        <p:spPr>
          <a:xfrm>
            <a:off x="4429080" y="364500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搭配政策推行以提升報表回報率，統計數據更具代表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5"/>
          <p:cNvSpPr/>
          <p:nvPr/>
        </p:nvSpPr>
        <p:spPr>
          <a:xfrm>
            <a:off x="4429080" y="444492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設計數據檢核機制，提高調查數據準確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51EB-E153-4614-8E0F-25CBECB974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826920" y="249084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Comic Sans MS"/>
                <a:ea typeface="標楷體"/>
              </a:rPr>
              <a:t>報告完畢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Comic Sans MS"/>
                <a:ea typeface="標楷體"/>
              </a:rPr>
              <a:t>恭請裁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03E0E-6CE0-4370-B19D-54F3C18BE7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537080" y="6165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全國砂石成品產量、售價及產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62800"/>
          </a:xfrm>
          <a:prstGeom prst="rect">
            <a:avLst/>
          </a:prstGeom>
          <a:ln w="0">
            <a:noFill/>
          </a:ln>
        </p:spPr>
      </p:pic>
      <p:sp>
        <p:nvSpPr>
          <p:cNvPr id="948" name="">
            <a:hlinkClick r:id="rId2" action="ppaction://hlinksldjump"/>
          </p:cNvPr>
          <p:cNvSpPr/>
          <p:nvPr/>
        </p:nvSpPr>
        <p:spPr>
          <a:xfrm>
            <a:off x="6372360" y="624996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96C9B-F69E-4617-A829-2D4B52766D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>
            <a:hlinkClick r:id="rId1" action="ppaction://hlinksldjump"/>
          </p:cNvPr>
          <p:cNvSpPr/>
          <p:nvPr/>
        </p:nvSpPr>
        <p:spPr>
          <a:xfrm>
            <a:off x="7885080" y="623736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38160" y="404640"/>
            <a:ext cx="9105840" cy="53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94BF7-F850-4998-8BD2-8562A9A6CB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>
            <a:hlinkClick r:id="rId1" action="ppaction://hlinksldjump"/>
          </p:cNvPr>
          <p:cNvSpPr/>
          <p:nvPr/>
        </p:nvSpPr>
        <p:spPr>
          <a:xfrm>
            <a:off x="7885080" y="604368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611280" y="404640"/>
          <a:ext cx="797724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04640"/>
                    <a:ext cx="79772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BF6C6-1FC0-45A5-B2BA-F30DF3EB69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870960" cy="700200"/>
          </a:xfrm>
          <a:prstGeom prst="rect">
            <a:avLst/>
          </a:prstGeom>
          <a:gradFill rotWithShape="0">
            <a:gsLst>
              <a:gs pos="0">
                <a:srgbClr val="b9b900"/>
              </a:gs>
              <a:gs pos="50000">
                <a:srgbClr val="ffff00"/>
              </a:gs>
              <a:gs pos="100000">
                <a:srgbClr val="b9b9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330033"/>
                </a:solidFill>
                <a:latin typeface="Times New Roman"/>
                <a:ea typeface="標楷體"/>
              </a:rPr>
              <a:t>報告大綱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5614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推動策略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、應用情境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Open Data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四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品質精進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026-C799-4B91-8FBA-436FB2E8E7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>
            <a:hlinkClick r:id="rId1" action="ppaction://hlinksldjump"/>
          </p:cNvPr>
          <p:cNvSpPr/>
          <p:nvPr/>
        </p:nvSpPr>
        <p:spPr>
          <a:xfrm>
            <a:off x="7956720" y="621180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130960" cy="62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563AD-4BF3-4D17-BB27-9D7EAECA13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>
            <a:hlinkClick r:id="rId1" action="ppaction://hlinksldjump"/>
          </p:cNvPr>
          <p:cNvSpPr/>
          <p:nvPr/>
        </p:nvSpPr>
        <p:spPr>
          <a:xfrm>
            <a:off x="5508720" y="580536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79524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6012000" y="795240"/>
            <a:ext cx="2520720" cy="529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8CA7D-C203-4BC3-839D-1B5464426E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755640" y="281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一、</a:t>
            </a:r>
            <a:r>
              <a:rPr b="1" lang="zh-TW" sz="4000" spc="-1" strike="noStrike">
                <a:solidFill>
                  <a:srgbClr val="006666"/>
                </a:solidFill>
                <a:latin typeface="Arial"/>
                <a:ea typeface="標楷體"/>
              </a:rPr>
              <a:t>推動策略說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61D4B-127E-474D-944B-E9BC4B523E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Verdana"/>
                <a:ea typeface="標楷體"/>
              </a:rPr>
              <a:t>目的、策略、對象、範圍及調查方法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AutoShape 57"/>
          <p:cNvSpPr/>
          <p:nvPr/>
        </p:nvSpPr>
        <p:spPr>
          <a:xfrm>
            <a:off x="755640" y="1684440"/>
            <a:ext cx="122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5"/>
          <p:cNvSpPr/>
          <p:nvPr/>
        </p:nvSpPr>
        <p:spPr>
          <a:xfrm>
            <a:off x="755640" y="2563920"/>
            <a:ext cx="1224000" cy="6426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及時了解砂土石供需實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57"/>
          <p:cNvSpPr/>
          <p:nvPr/>
        </p:nvSpPr>
        <p:spPr>
          <a:xfrm>
            <a:off x="6732720" y="1684440"/>
            <a:ext cx="1584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調查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5"/>
          <p:cNvSpPr/>
          <p:nvPr/>
        </p:nvSpPr>
        <p:spPr>
          <a:xfrm>
            <a:off x="6732720" y="2563920"/>
            <a:ext cx="15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按月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調查統計國內砂土石生產、銷售、售價及庫存等量值變動實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57"/>
          <p:cNvSpPr/>
          <p:nvPr/>
        </p:nvSpPr>
        <p:spPr>
          <a:xfrm>
            <a:off x="2268360" y="1684440"/>
            <a:ext cx="122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5"/>
          <p:cNvSpPr/>
          <p:nvPr/>
        </p:nvSpPr>
        <p:spPr>
          <a:xfrm>
            <a:off x="2268360" y="2563920"/>
            <a:ext cx="1224000" cy="11912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起執行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砂土石產銷存動態調查計畫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57"/>
          <p:cNvSpPr/>
          <p:nvPr/>
        </p:nvSpPr>
        <p:spPr>
          <a:xfrm>
            <a:off x="3851280" y="1684440"/>
            <a:ext cx="244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調查對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5"/>
          <p:cNvSpPr/>
          <p:nvPr/>
        </p:nvSpPr>
        <p:spPr>
          <a:xfrm>
            <a:off x="3851280" y="2563920"/>
            <a:ext cx="2449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從事砂石碎解洗選加工業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57"/>
          <p:cNvSpPr/>
          <p:nvPr/>
        </p:nvSpPr>
        <p:spPr>
          <a:xfrm>
            <a:off x="3851280" y="4006800"/>
            <a:ext cx="244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區域範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5"/>
          <p:cNvSpPr/>
          <p:nvPr/>
        </p:nvSpPr>
        <p:spPr>
          <a:xfrm>
            <a:off x="3908520" y="4941720"/>
            <a:ext cx="239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臺灣本島各縣市及金門縣及連江縣等縣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AB3B5-F5FD-4C5F-A36E-862DEC515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8" name=""/>
          <p:cNvGraphicFramePr/>
          <p:nvPr/>
        </p:nvGraphicFramePr>
        <p:xfrm>
          <a:off x="179280" y="208080"/>
          <a:ext cx="8785440" cy="62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8080"/>
                    <a:ext cx="8785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0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44120" y="20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99"/>
                </a:solidFill>
                <a:latin typeface="Arial"/>
                <a:ea typeface="標楷體"/>
              </a:rPr>
              <a:t>按月逐場調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076800" y="2080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砂土石生產、銷售、售價及庫存等量值變動實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627280" y="6234120"/>
            <a:ext cx="6476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郵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148360" y="6232680"/>
            <a:ext cx="6476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傳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188120" y="6234120"/>
            <a:ext cx="6476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電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95DC0-D42D-4689-9F50-F7F4B25A87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395280" y="1098720"/>
            <a:ext cx="8353440" cy="50068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1116000" y="5921280"/>
            <a:ext cx="122400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網路填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195640" y="3573360"/>
            <a:ext cx="4895640" cy="151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3A4C0-6F73-4C22-844E-4871AA034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3319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二、 應用情境說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B7BA-A047-4E01-A91F-ADF05503E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900000" y="836640"/>
            <a:ext cx="7793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Tahoma"/>
                <a:ea typeface="標楷體"/>
              </a:rPr>
              <a:t>資訊運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53440" y="3642480"/>
            <a:ext cx="20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全國總體砂石供需趨勢分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5"/>
          <p:cNvSpPr/>
          <p:nvPr/>
        </p:nvSpPr>
        <p:spPr>
          <a:xfrm>
            <a:off x="539640" y="2849400"/>
            <a:ext cx="12240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衡量國內砂土石產銷存量消長情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54960" y="443628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北中南東離島地區供需情勢分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750040" y="513144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砂石料源需求評估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96000" y="2849400"/>
            <a:ext cx="1224000" cy="1557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達成穩定砂石供需及平穩砂石物價之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7560" y="5858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評估區域供需與跨區調配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340000" y="269712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作為執行行政院核定砂石長期穩定供應策略相關施政計畫之參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57"/>
          <p:cNvSpPr/>
          <p:nvPr/>
        </p:nvSpPr>
        <p:spPr>
          <a:xfrm>
            <a:off x="539640" y="2039760"/>
            <a:ext cx="1224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57"/>
          <p:cNvSpPr/>
          <p:nvPr/>
        </p:nvSpPr>
        <p:spPr>
          <a:xfrm>
            <a:off x="2987640" y="2039760"/>
            <a:ext cx="2457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資訊運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57"/>
          <p:cNvSpPr/>
          <p:nvPr/>
        </p:nvSpPr>
        <p:spPr>
          <a:xfrm>
            <a:off x="6696000" y="2039760"/>
            <a:ext cx="1224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6143760" y="249120"/>
            <a:ext cx="2184120" cy="163836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103320" y="5191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99ff"/>
                </a:solidFill>
                <a:latin typeface="Arial"/>
                <a:ea typeface="標楷體"/>
              </a:rPr>
              <a:t>庫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66960" y="5191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99ff"/>
                </a:solidFill>
                <a:latin typeface="Arial"/>
                <a:ea typeface="標楷體"/>
              </a:rPr>
              <a:t>價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52560" y="585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cccc"/>
                </a:solidFill>
                <a:latin typeface="Arial"/>
                <a:ea typeface="標楷體"/>
              </a:rPr>
              <a:t>銷售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952560" y="4479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Arial"/>
                <a:ea typeface="標楷體"/>
              </a:rPr>
              <a:t>生產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72640" y="512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Arial"/>
                <a:ea typeface="標楷體"/>
              </a:rPr>
              <a:t>供 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92280" y="4876920"/>
            <a:ext cx="1123920" cy="982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18F70-B8C6-4EA2-B118-8F2024EC43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162864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三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Open Data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C4381-242A-46A4-8456-E4B556BC2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4:08:57Z</dcterms:created>
  <dc:creator>awei</dc:creator>
  <dc:description/>
  <dc:language>en-US</dc:language>
  <cp:lastModifiedBy>ucchen</cp:lastModifiedBy>
  <dcterms:modified xsi:type="dcterms:W3CDTF">2016-09-12T09:14:55Z</dcterms:modified>
  <cp:revision>376</cp:revision>
  <dc:subject/>
  <dc:title>投影片 1</dc:title>
</cp:coreProperties>
</file>