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9AA3E8B-07EE-419B-9BDB-085E6994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CFF204A-21F6-40EE-AEC4-C2FEAB07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81A4E28-0F4B-4C56-BDB9-F15D6081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AC12CD4-CCC1-4809-A041-18474C08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D08-8E23-42CD-8493-0DFCDD45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D7D-B9AE-4F57-B546-EF627D04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A43-10A7-4666-92DA-F402A728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2D1-5A90-40E4-9F86-56F42A7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68F-BA64-49B7-87CF-CB0696B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1F2-C95D-439A-AE27-F3193CC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D49-0F19-489C-89DF-842214E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A5E-BCC7-4A2C-BEB2-13F118E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4D5-7419-4D0C-AFE0-3D3B1F86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7C5-CF67-4D00-83E5-50C1529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61C-7945-45DC-8D22-C77BEC8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546-6A2B-4167-B429-B677740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464-6883-4C12-AF28-47E41322466D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5368-CB63-43AD-AE1B-DD32FB0A8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7C0B-7FD2-439A-BD79-868BED507D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6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7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8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9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10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7369-8503-49A5-AE44-B12A55B56A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字方塊 1"/>
          <p:cNvSpPr/>
          <p:nvPr/>
        </p:nvSpPr>
        <p:spPr>
          <a:xfrm>
            <a:off x="6232680" y="836640"/>
            <a:ext cx="2911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1] CNS 29191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[2] CNS 29100 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資訊技術－安全技術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-</a:t>
            </a:r>
            <a:r>
              <a:rPr b="0" lang="zh-TW" sz="1600" spc="-1" strike="noStrike">
                <a:solidFill>
                  <a:srgbClr val="0000cc"/>
                </a:solidFill>
                <a:latin typeface="Arial"/>
                <a:ea typeface="新細明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4053-5637-4DF7-A403-30FD6827FE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584E-2B90-4C10-9F4D-1B1F5378C0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2" name="Picture 4" descr="box_reflex3"/>
            <p:cNvPicPr/>
            <p:nvPr/>
          </p:nvPicPr>
          <p:blipFill>
            <a:blip r:embed="rId1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5" name="Picture 8" descr="box_reflex3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8" name="Picture 11" descr="box_reflex3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138E-78F8-4A57-8A12-28FBF1DC5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DBA1-8DB0-4DD0-9A8C-B8A2EE80EE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68F-73DA-43FB-8AAB-170072113A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A9CE-C7FD-479C-9017-9640B6369A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8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9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2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4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6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8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圆角矩形 7"/>
            <p:cNvGrpSpPr/>
            <p:nvPr/>
          </p:nvGrpSpPr>
          <p:grpSpPr>
            <a:xfrm>
              <a:off x="1585080" y="1536120"/>
              <a:ext cx="1999440" cy="371520"/>
              <a:chOff x="1585080" y="1536120"/>
              <a:chExt cx="1999440" cy="371520"/>
            </a:xfrm>
          </p:grpSpPr>
          <p:pic>
            <p:nvPicPr>
              <p:cNvPr id="280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5080" y="153612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160128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3A7-BAEF-44FF-8E4D-5C10EB7E8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EA6-0773-465F-A04A-97E648B6C7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2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3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6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8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300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2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4" name="圆角矩形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602-FD5E-45DE-9EB9-F4790827E3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F9C1-F321-4EE0-A2A0-47CC523877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554C-98C1-453B-86F8-27263007A0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1A5-95FC-4235-95A3-A549A2C944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E3D0-D306-4A3B-A5B8-85AFB724BD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3B35-E182-417C-9E20-4F8BBABFFA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DEA-1FE7-4C38-9624-AFA635F1E3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6" name="Rectangle 134" descr=""/>
            <p:cNvPicPr/>
            <p:nvPr/>
          </p:nvPicPr>
          <p:blipFill>
            <a:blip r:embed="rId1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ounded Rectangle 103" descr=""/>
          <p:cNvPicPr/>
          <p:nvPr/>
        </p:nvPicPr>
        <p:blipFill>
          <a:blip r:embed="rId2"/>
          <a:stretch/>
        </p:blipFill>
        <p:spPr>
          <a:xfrm>
            <a:off x="542880" y="4572000"/>
            <a:ext cx="801540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4705200" y="1127160"/>
            <a:ext cx="3445200" cy="446040"/>
            <a:chOff x="4705200" y="1127160"/>
            <a:chExt cx="3445200" cy="446040"/>
          </a:xfrm>
        </p:grpSpPr>
        <p:pic>
          <p:nvPicPr>
            <p:cNvPr id="343" name="AutoShape 4" descr=""/>
            <p:cNvPicPr/>
            <p:nvPr/>
          </p:nvPicPr>
          <p:blipFill>
            <a:blip r:embed="rId3"/>
            <a:stretch/>
          </p:blipFill>
          <p:spPr>
            <a:xfrm>
              <a:off x="4705200" y="1127160"/>
              <a:ext cx="34452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784760" y="1203480"/>
              <a:ext cx="32907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Oval 106"/>
          <p:cNvGrpSpPr/>
          <p:nvPr/>
        </p:nvGrpSpPr>
        <p:grpSpPr>
          <a:xfrm>
            <a:off x="4853160" y="1494000"/>
            <a:ext cx="268200" cy="261720"/>
            <a:chOff x="4853160" y="1494000"/>
            <a:chExt cx="268200" cy="261720"/>
          </a:xfrm>
        </p:grpSpPr>
        <p:pic>
          <p:nvPicPr>
            <p:cNvPr id="346" name="Oval 106" descr=""/>
            <p:cNvPicPr/>
            <p:nvPr/>
          </p:nvPicPr>
          <p:blipFill>
            <a:blip r:embed="rId4"/>
            <a:stretch/>
          </p:blipFill>
          <p:spPr>
            <a:xfrm>
              <a:off x="4853160" y="1494000"/>
              <a:ext cx="2682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929120" y="1547640"/>
              <a:ext cx="1144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2"/>
          <p:cNvGrpSpPr/>
          <p:nvPr/>
        </p:nvGrpSpPr>
        <p:grpSpPr>
          <a:xfrm>
            <a:off x="1298520" y="1511280"/>
            <a:ext cx="2908080" cy="1670040"/>
            <a:chOff x="1298520" y="1511280"/>
            <a:chExt cx="2908080" cy="1670040"/>
          </a:xfrm>
        </p:grpSpPr>
        <p:pic>
          <p:nvPicPr>
            <p:cNvPr id="350" name="Rectangle 2" descr=""/>
            <p:cNvPicPr/>
            <p:nvPr/>
          </p:nvPicPr>
          <p:blipFill>
            <a:blip r:embed="rId5"/>
            <a:stretch/>
          </p:blipFill>
          <p:spPr>
            <a:xfrm>
              <a:off x="1298520" y="1511280"/>
              <a:ext cx="2907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299960" y="1514520"/>
              <a:ext cx="29066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AutoShape 4"/>
          <p:cNvGrpSpPr/>
          <p:nvPr/>
        </p:nvGrpSpPr>
        <p:grpSpPr>
          <a:xfrm>
            <a:off x="1146240" y="1127160"/>
            <a:ext cx="3365280" cy="446040"/>
            <a:chOff x="1146240" y="1127160"/>
            <a:chExt cx="3365280" cy="446040"/>
          </a:xfrm>
        </p:grpSpPr>
        <p:pic>
          <p:nvPicPr>
            <p:cNvPr id="353" name="AutoShape 4" descr=""/>
            <p:cNvPicPr/>
            <p:nvPr/>
          </p:nvPicPr>
          <p:blipFill>
            <a:blip r:embed="rId6"/>
            <a:stretch/>
          </p:blipFill>
          <p:spPr>
            <a:xfrm>
              <a:off x="1146240" y="1127160"/>
              <a:ext cx="3365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22200" y="1201680"/>
              <a:ext cx="32166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Oval 110"/>
          <p:cNvGrpSpPr/>
          <p:nvPr/>
        </p:nvGrpSpPr>
        <p:grpSpPr>
          <a:xfrm>
            <a:off x="1225440" y="1517760"/>
            <a:ext cx="268560" cy="261720"/>
            <a:chOff x="1225440" y="1517760"/>
            <a:chExt cx="268560" cy="261720"/>
          </a:xfrm>
        </p:grpSpPr>
        <p:pic>
          <p:nvPicPr>
            <p:cNvPr id="356" name="Oval 110" descr=""/>
            <p:cNvPicPr/>
            <p:nvPr/>
          </p:nvPicPr>
          <p:blipFill>
            <a:blip r:embed="rId7"/>
            <a:stretch/>
          </p:blipFill>
          <p:spPr>
            <a:xfrm>
              <a:off x="1225440" y="1517760"/>
              <a:ext cx="2685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3200" y="1569960"/>
              <a:ext cx="1126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Oval 113" descr=""/>
          <p:cNvPicPr/>
          <p:nvPr/>
        </p:nvPicPr>
        <p:blipFill>
          <a:blip r:embed="rId8"/>
          <a:stretch/>
        </p:blipFill>
        <p:spPr>
          <a:xfrm>
            <a:off x="4973760" y="3365640"/>
            <a:ext cx="232884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1" name="Oval 116" descr=""/>
            <p:cNvPicPr/>
            <p:nvPr/>
          </p:nvPicPr>
          <p:blipFill>
            <a:blip r:embed="rId9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Rectangle 117" descr=""/>
            <p:cNvPicPr/>
            <p:nvPr/>
          </p:nvPicPr>
          <p:blipFill>
            <a:blip r:embed="rId10"/>
            <a:stretch/>
          </p:blipFill>
          <p:spPr>
            <a:xfrm>
              <a:off x="2268360" y="3523320"/>
              <a:ext cx="141480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Rectangle 117" descr=""/>
          <p:cNvPicPr/>
          <p:nvPr/>
        </p:nvPicPr>
        <p:blipFill>
          <a:blip r:embed="rId11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43" descr=""/>
          <p:cNvPicPr/>
          <p:nvPr/>
        </p:nvPicPr>
        <p:blipFill>
          <a:blip r:embed="rId12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5" name="Freeform 53" descr=""/>
          <p:cNvPicPr/>
          <p:nvPr/>
        </p:nvPicPr>
        <p:blipFill>
          <a:blip r:embed="rId13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2DE-E553-4EBB-8CF7-EA28C493FE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E73-ECD6-4596-8356-F840EED08D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p_10"/>
          <p:cNvPicPr/>
          <p:nvPr/>
        </p:nvPicPr>
        <p:blipFill>
          <a:blip r:embed="rId1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4C53-F1BA-4E6A-84F0-F5F89D70E2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E02-FB5A-470B-88BF-419ECE9E8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4796-097F-4D29-A57C-509CA8CDE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492-15C4-4E28-BBF0-C4D8EF5959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1CD3-18C7-430B-831D-A22B859106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EF67-5171-40EE-B9B4-B502E91F2D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9EC-D035-45BC-8A90-B4A420E59B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2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81A2-C45E-45ED-9D87-BFB580158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60D9-AA18-4DFC-9316-477520BA15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SimSun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23D-C86C-48B2-9DEF-87B1AF3E0B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1000" y="1484280"/>
              <a:ext cx="3987720" cy="4845240"/>
            </a:xfrm>
            <a:custGeom>
              <a:avLst/>
              <a:gdLst>
                <a:gd name="textAreaLeft" fmla="*/ 103320 w 3987720"/>
                <a:gd name="textAreaRight" fmla="*/ 3884400 w 398772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4">
                  <a:moveTo>
                    <a:pt x="1913" y="0"/>
                  </a:moveTo>
                  <a:arcTo wR="1913" hR="1913" stAng="16200000" swAng="-5400000"/>
                  <a:lnTo>
                    <a:pt x="0" y="24331"/>
                  </a:lnTo>
                  <a:arcTo wR="1913" hR="1913" stAng="10800000" swAng="-5400000"/>
                  <a:lnTo>
                    <a:pt x="19687" y="26244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824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8080" y="1268280"/>
            <a:ext cx="1998360" cy="371520"/>
            <a:chOff x="1378080" y="1268280"/>
            <a:chExt cx="199836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1"/>
            <a:stretch/>
          </p:blipFill>
          <p:spPr>
            <a:xfrm>
              <a:off x="1378080" y="1268280"/>
              <a:ext cx="1998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2120" y="1285920"/>
              <a:ext cx="1967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30840" y="1279440"/>
            <a:ext cx="1992240" cy="378000"/>
            <a:chOff x="5730840" y="1279440"/>
            <a:chExt cx="1992240" cy="378000"/>
          </a:xfrm>
        </p:grpSpPr>
        <p:pic>
          <p:nvPicPr>
            <p:cNvPr id="137" name="圆角矩形 7" descr=""/>
            <p:cNvPicPr/>
            <p:nvPr/>
          </p:nvPicPr>
          <p:blipFill>
            <a:blip r:embed="rId2"/>
            <a:stretch/>
          </p:blipFill>
          <p:spPr>
            <a:xfrm>
              <a:off x="5730840" y="1279440"/>
              <a:ext cx="19922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5240" y="1297080"/>
              <a:ext cx="1965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CDDF-90BF-4D45-9BC8-4D2AE6AE9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E09-B59B-4917-AABD-838B44B687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5B91-F6EF-453F-8F9F-BEF32A4748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劉蕙</cp:lastModifiedBy>
  <dcterms:modified xsi:type="dcterms:W3CDTF">2015-10-15T00:26:53Z</dcterms:modified>
  <cp:revision>1822</cp:revision>
  <dc:subject/>
  <dc:title>投影片 1</dc:title>
</cp:coreProperties>
</file>