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1770B7-645D-4321-A10B-6DCB174EB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投影片編號版面配置區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57FEFE-F512-48D1-B5A5-11B35EBF2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投影片編號版面配置區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EF61DD-92C5-4BDC-94D9-27668CDD5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54F-0D02-4C1D-A8B9-ECEF21BA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90B-804C-4693-A9A9-78A3D8BD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7AC-0626-4331-BEBF-14C0C232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A6D-E7C2-4C7E-9EB7-917B4110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565-ED43-4C6A-AAD2-D0472F7B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C65-DD63-4C5A-96CD-2CB1D1B6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64C-9309-4D4D-91C9-D5E23A19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FE4-52CD-41B8-A160-7C92211F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AAE-664E-4A69-8FED-8DB7571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900-81A5-4773-8423-8E26697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124-E0F0-41BF-93E9-269D54A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2F1-91CC-4945-93BC-6A8246A0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EAAF-33F6-48AD-806C-16394E21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44360" y="765000"/>
            <a:ext cx="8839080" cy="3081240"/>
            <a:chOff x="144360" y="765000"/>
            <a:chExt cx="8839080" cy="3081240"/>
          </a:xfrm>
        </p:grpSpPr>
        <p:sp>
          <p:nvSpPr>
            <p:cNvPr id="49" name="Rectangle 3"/>
            <p:cNvSpPr/>
            <p:nvPr/>
          </p:nvSpPr>
          <p:spPr>
            <a:xfrm>
              <a:off x="144360" y="787680"/>
              <a:ext cx="8839080" cy="3058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196560" y="3073320"/>
              <a:ext cx="596520" cy="77292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1379880" y="791280"/>
              <a:ext cx="594360" cy="77508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196560" y="765000"/>
              <a:ext cx="605880" cy="76500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5160" y="3073320"/>
              <a:ext cx="605880" cy="772920"/>
            </a:xfrm>
            <a:prstGeom prst="rect">
              <a:avLst/>
            </a:prstGeom>
            <a:gradFill rotWithShape="0">
              <a:gsLst>
                <a:gs pos="0">
                  <a:srgbClr val="02884b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1964520" y="791280"/>
              <a:ext cx="608040" cy="77508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785160" y="1555200"/>
              <a:ext cx="605880" cy="76320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1379880" y="1555200"/>
              <a:ext cx="594360" cy="76320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196560" y="2307600"/>
              <a:ext cx="596520" cy="77688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85160" y="2307600"/>
              <a:ext cx="605880" cy="77688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64360" cy="15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990000"/>
                </a:solidFill>
                <a:latin typeface="微軟正黑體"/>
                <a:ea typeface="微軟正黑體"/>
              </a:rPr>
              <a:t>經濟部研究發展委員會</a:t>
            </a:r>
            <a:br>
              <a:rPr sz="6000"/>
            </a:br>
            <a:r>
              <a:rPr b="1" lang="zh-TW" sz="6000" spc="-1" strike="noStrike">
                <a:solidFill>
                  <a:srgbClr val="990000"/>
                </a:solidFill>
                <a:latin typeface="微軟正黑體"/>
                <a:ea typeface="微軟正黑體"/>
              </a:rPr>
              <a:t>開放資料推動情形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41280" y="4797360"/>
            <a:ext cx="861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16165d"/>
                </a:solidFill>
                <a:latin typeface="標楷體"/>
                <a:ea typeface="標楷體"/>
              </a:rPr>
              <a:t>      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報告人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: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張副執行秘書美惠</a:t>
            </a:r>
            <a:endParaRPr b="1" lang="en-US" sz="3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       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106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年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4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月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27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日 </a:t>
            </a:r>
            <a:endParaRPr b="1" lang="en-US" sz="3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圖片 1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5FC7-579C-4B24-89CF-F2D3AD1536B5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簡報大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資料庫圖表 1" descr=""/>
          <p:cNvPicPr/>
          <p:nvPr/>
        </p:nvPicPr>
        <p:blipFill>
          <a:blip r:embed="rId1"/>
          <a:stretch/>
        </p:blipFill>
        <p:spPr>
          <a:xfrm>
            <a:off x="262080" y="1341360"/>
            <a:ext cx="8570880" cy="45230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66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68" name="圖片 10" descr=""/>
          <p:cNvPicPr/>
          <p:nvPr/>
        </p:nvPicPr>
        <p:blipFill>
          <a:blip r:embed="rId2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圖片 8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70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D5A-8920-4568-99B5-4C2A1F7BB26A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524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壹、推動策略與作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73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75" name="群組 3"/>
          <p:cNvGrpSpPr/>
          <p:nvPr/>
        </p:nvGrpSpPr>
        <p:grpSpPr>
          <a:xfrm>
            <a:off x="250920" y="1413000"/>
            <a:ext cx="8353440" cy="4824360"/>
            <a:chOff x="250920" y="1413000"/>
            <a:chExt cx="8353440" cy="4824360"/>
          </a:xfrm>
        </p:grpSpPr>
        <p:grpSp>
          <p:nvGrpSpPr>
            <p:cNvPr id="76" name="手繪多邊形 4"/>
            <p:cNvGrpSpPr/>
            <p:nvPr/>
          </p:nvGrpSpPr>
          <p:grpSpPr>
            <a:xfrm>
              <a:off x="250920" y="1413000"/>
              <a:ext cx="3209040" cy="2474640"/>
              <a:chOff x="250920" y="1413000"/>
              <a:chExt cx="3209040" cy="2474640"/>
            </a:xfrm>
          </p:grpSpPr>
          <p:pic>
            <p:nvPicPr>
              <p:cNvPr id="77" name="手繪多邊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413000"/>
                <a:ext cx="320904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311760" y="144756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55960" tIns="255960" bIns="2559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576"/>
                  </a:spcAft>
                  <a:tabLst>
                    <a:tab algn="l" pos="0"/>
                    <a:tab algn="l" pos="1600200"/>
                    <a:tab algn="l" pos="3200400"/>
                    <a:tab algn="l" pos="4800600"/>
                    <a:tab algn="l" pos="6400800"/>
                    <a:tab algn="l" pos="8001000"/>
                    <a:tab algn="l" pos="9601200"/>
                  </a:tabLst>
                </a:pPr>
                <a:r>
                  <a:rPr b="1" lang="zh-TW" sz="36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施政計畫</a:t>
                </a:r>
                <a:endParaRPr b="1" lang="en-US" sz="3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79" name="手繪多邊形 5"/>
            <p:cNvGrpSpPr/>
            <p:nvPr/>
          </p:nvGrpSpPr>
          <p:grpSpPr>
            <a:xfrm>
              <a:off x="256680" y="3762720"/>
              <a:ext cx="3203280" cy="2474640"/>
              <a:chOff x="256680" y="3762720"/>
              <a:chExt cx="3203280" cy="2474640"/>
            </a:xfrm>
          </p:grpSpPr>
          <p:pic>
            <p:nvPicPr>
              <p:cNvPr id="80" name="手繪多邊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680" y="3762720"/>
                <a:ext cx="320328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15000" y="380088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55960" tIns="255960" bIns="2559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576"/>
                  </a:spcAft>
                  <a:tabLst>
                    <a:tab algn="l" pos="0"/>
                    <a:tab algn="l" pos="1600200"/>
                    <a:tab algn="l" pos="3200400"/>
                    <a:tab algn="l" pos="4800600"/>
                    <a:tab algn="l" pos="6400800"/>
                    <a:tab algn="l" pos="8001000"/>
                    <a:tab algn="l" pos="9601200"/>
                  </a:tabLst>
                </a:pPr>
                <a:r>
                  <a:rPr b="1" lang="zh-TW" sz="36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施政績效</a:t>
                </a:r>
                <a:endParaRPr b="1" lang="en-US" sz="3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82" name="手繪多邊形 7"/>
            <p:cNvGrpSpPr/>
            <p:nvPr/>
          </p:nvGrpSpPr>
          <p:grpSpPr>
            <a:xfrm>
              <a:off x="5401080" y="1413000"/>
              <a:ext cx="3203280" cy="2468520"/>
              <a:chOff x="5401080" y="1413000"/>
              <a:chExt cx="3203280" cy="2468520"/>
            </a:xfrm>
          </p:grpSpPr>
          <p:pic>
            <p:nvPicPr>
              <p:cNvPr id="83" name="手繪多邊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401080" y="1413000"/>
                <a:ext cx="3203280" cy="24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5459760" y="144720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13480" tIns="213480" bIns="21348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312"/>
                  </a:spcAft>
                  <a:tabLst>
                    <a:tab algn="l" pos="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國內外經濟情勢分析</a:t>
                </a:r>
                <a:r>
                  <a:rPr b="1" lang="en-US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(</a:t>
                </a: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月報</a:t>
                </a:r>
                <a:r>
                  <a:rPr b="1" lang="en-US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)</a:t>
                </a:r>
                <a:endParaRPr b="1" lang="en-US" sz="30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85" name="手繪多邊形 8"/>
            <p:cNvGrpSpPr/>
            <p:nvPr/>
          </p:nvGrpSpPr>
          <p:grpSpPr>
            <a:xfrm>
              <a:off x="5401080" y="3762720"/>
              <a:ext cx="3203280" cy="2474640"/>
              <a:chOff x="5401080" y="3762720"/>
              <a:chExt cx="3203280" cy="2474640"/>
            </a:xfrm>
          </p:grpSpPr>
          <p:pic>
            <p:nvPicPr>
              <p:cNvPr id="86" name="手繪多邊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1080" y="3762720"/>
                <a:ext cx="320328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5459760" y="380088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13480" tIns="213480" bIns="2134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312"/>
                  </a:spcAft>
                  <a:tabLst>
                    <a:tab algn="l" pos="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委託研究</a:t>
                </a:r>
                <a:endParaRPr b="1" lang="en-US" sz="3000" spc="-1" strike="noStrike">
                  <a:solidFill>
                    <a:srgbClr val="0000c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312"/>
                  </a:spcAft>
                  <a:tabLst>
                    <a:tab algn="l" pos="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專題報告</a:t>
                </a:r>
                <a:endParaRPr b="1" lang="en-US" sz="30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</p:grpSp>
      <p:sp>
        <p:nvSpPr>
          <p:cNvPr id="88" name="左-右雙向箭號圖說文字 10"/>
          <p:cNvSpPr/>
          <p:nvPr/>
        </p:nvSpPr>
        <p:spPr>
          <a:xfrm>
            <a:off x="3755880" y="2077560"/>
            <a:ext cx="1584360" cy="3751920"/>
          </a:xfrm>
          <a:custGeom>
            <a:avLst/>
            <a:gdLst>
              <a:gd name="textAreaLeft" fmla="*/ 410760 w 1584360"/>
              <a:gd name="textAreaRight" fmla="*/ 1173600 w 1584360"/>
              <a:gd name="textAreaTop" fmla="*/ 0 h 3751920"/>
              <a:gd name="textAreaBottom" fmla="*/ 3752280 h 375192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9670"/>
                </a:lnTo>
                <a:lnTo>
                  <a:pt x="16200" y="9670"/>
                </a:lnTo>
                <a:lnTo>
                  <a:pt x="16200" y="8540"/>
                </a:lnTo>
                <a:lnTo>
                  <a:pt x="21600" y="10800"/>
                </a:lnTo>
                <a:lnTo>
                  <a:pt x="16200" y="13060"/>
                </a:lnTo>
                <a:lnTo>
                  <a:pt x="16200" y="11930"/>
                </a:lnTo>
                <a:lnTo>
                  <a:pt x="15997" y="1193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1930"/>
                </a:lnTo>
                <a:lnTo>
                  <a:pt x="5400" y="11930"/>
                </a:lnTo>
                <a:lnTo>
                  <a:pt x="5400" y="13060"/>
                </a:lnTo>
                <a:lnTo>
                  <a:pt x="0" y="10800"/>
                </a:lnTo>
                <a:lnTo>
                  <a:pt x="5400" y="8540"/>
                </a:lnTo>
                <a:lnTo>
                  <a:pt x="5400" y="9670"/>
                </a:lnTo>
                <a:lnTo>
                  <a:pt x="5603" y="967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全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面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盤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點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08F4-3FBD-4934-8D2A-9623AD7180E6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貳、執行成果</a:t>
            </a:r>
            <a:r>
              <a:rPr b="1" lang="en-US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(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92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179280" y="1125360"/>
          <a:ext cx="8640720" cy="4551480"/>
        </p:xfrm>
        <a:graphic>
          <a:graphicData uri="http://schemas.openxmlformats.org/drawingml/2006/table">
            <a:tbl>
              <a:tblPr/>
              <a:tblGrid>
                <a:gridCol w="1079640"/>
                <a:gridCol w="1338120"/>
                <a:gridCol w="1683000"/>
                <a:gridCol w="1660320"/>
                <a:gridCol w="1440000"/>
                <a:gridCol w="1439640"/>
              </a:tblGrid>
              <a:tr h="10684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年度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目標值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資料集數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資料量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瀏覽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次數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下載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次數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7318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8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8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,680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19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6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,320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6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小計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12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13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101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8,982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49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0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6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規劃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規劃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-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-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97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BD79-5415-4CDC-8617-9DBA715F88DD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貳、執行成果</a:t>
            </a:r>
            <a:r>
              <a:rPr b="1" lang="en-US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100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02" name="圖表 3" descr=""/>
          <p:cNvPicPr/>
          <p:nvPr/>
        </p:nvPicPr>
        <p:blipFill>
          <a:blip r:embed="rId2"/>
          <a:stretch/>
        </p:blipFill>
        <p:spPr>
          <a:xfrm>
            <a:off x="272880" y="868320"/>
            <a:ext cx="8858520" cy="552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Program Files (x86)\Microsoft Office\MEDIA\CAGCAT10\j0195384.wmf"/>
          <p:cNvPicPr/>
          <p:nvPr/>
        </p:nvPicPr>
        <p:blipFill>
          <a:blip r:embed="rId3"/>
          <a:stretch/>
        </p:blipFill>
        <p:spPr>
          <a:xfrm>
            <a:off x="6084720" y="3645000"/>
            <a:ext cx="2808360" cy="2498760"/>
          </a:xfrm>
          <a:prstGeom prst="rect">
            <a:avLst/>
          </a:prstGeom>
          <a:ln w="0">
            <a:noFill/>
          </a:ln>
        </p:spPr>
      </p:pic>
      <p:sp>
        <p:nvSpPr>
          <p:cNvPr id="104" name="文字方塊 1"/>
          <p:cNvSpPr/>
          <p:nvPr/>
        </p:nvSpPr>
        <p:spPr>
          <a:xfrm>
            <a:off x="1697760" y="18144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統計至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6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5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圖片 10" descr="download-text.jpg"/>
          <p:cNvPicPr/>
          <p:nvPr/>
        </p:nvPicPr>
        <p:blipFill>
          <a:blip r:embed="rId1"/>
          <a:stretch/>
        </p:blipFill>
        <p:spPr>
          <a:xfrm>
            <a:off x="6156360" y="1054080"/>
            <a:ext cx="2859120" cy="2652840"/>
          </a:xfrm>
          <a:prstGeom prst="rect">
            <a:avLst/>
          </a:prstGeom>
          <a:ln w="0">
            <a:noFill/>
          </a:ln>
        </p:spPr>
      </p:pic>
      <p:sp>
        <p:nvSpPr>
          <p:cNvPr id="106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112F-B0CF-4135-8CC1-B4EA18546346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貳、執行成果</a:t>
            </a:r>
            <a:r>
              <a:rPr b="1" lang="en-US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(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109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11" name="圖表 4" descr=""/>
          <p:cNvPicPr/>
          <p:nvPr/>
        </p:nvPicPr>
        <p:blipFill>
          <a:blip r:embed="rId2"/>
          <a:stretch/>
        </p:blipFill>
        <p:spPr>
          <a:xfrm>
            <a:off x="487440" y="934920"/>
            <a:ext cx="5629320" cy="5496120"/>
          </a:xfrm>
          <a:prstGeom prst="rect">
            <a:avLst/>
          </a:prstGeom>
          <a:ln w="0">
            <a:noFill/>
          </a:ln>
        </p:spPr>
      </p:pic>
      <p:pic>
        <p:nvPicPr>
          <p:cNvPr id="112" name="圖片 11" descr="imagesGJ9JYSX0.jpg"/>
          <p:cNvPicPr/>
          <p:nvPr/>
        </p:nvPicPr>
        <p:blipFill>
          <a:blip r:embed="rId3"/>
          <a:stretch/>
        </p:blipFill>
        <p:spPr>
          <a:xfrm>
            <a:off x="6372360" y="3429000"/>
            <a:ext cx="252072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圖片 11" descr=""/>
          <p:cNvPicPr/>
          <p:nvPr/>
        </p:nvPicPr>
        <p:blipFill>
          <a:blip r:embed="rId4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114" name="文字方塊 11"/>
          <p:cNvSpPr/>
          <p:nvPr/>
        </p:nvSpPr>
        <p:spPr>
          <a:xfrm>
            <a:off x="2289960" y="1628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統計至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6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5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AE73-4697-4942-85E9-3E3C7485FD22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叁、未來開放資料標的</a:t>
            </a:r>
            <a:br>
              <a:rPr sz="4800"/>
            </a:b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    及品質精進方向</a:t>
            </a:r>
            <a:br>
              <a:rPr sz="48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00080" y="1341360"/>
            <a:ext cx="9043560" cy="76320"/>
            <a:chOff x="100080" y="1341360"/>
            <a:chExt cx="9043560" cy="76320"/>
          </a:xfrm>
        </p:grpSpPr>
        <p:sp>
          <p:nvSpPr>
            <p:cNvPr id="119" name="Rectangle 5"/>
            <p:cNvSpPr/>
            <p:nvPr/>
          </p:nvSpPr>
          <p:spPr>
            <a:xfrm>
              <a:off x="100080" y="1341360"/>
              <a:ext cx="4465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65160" y="1341360"/>
              <a:ext cx="457848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21" name="資料庫圖表 8" descr=""/>
          <p:cNvPicPr/>
          <p:nvPr/>
        </p:nvPicPr>
        <p:blipFill>
          <a:blip r:embed="rId2"/>
          <a:stretch/>
        </p:blipFill>
        <p:spPr>
          <a:xfrm>
            <a:off x="182520" y="1523880"/>
            <a:ext cx="854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123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7CA-7FEA-4784-9963-44F5F25FD000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1708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叁、未來開放資料標的</a:t>
            </a:r>
            <a:br>
              <a:rPr sz="4800"/>
            </a:b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    及品質精進方向</a:t>
            </a:r>
            <a:br>
              <a:rPr sz="40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00080" y="1341360"/>
            <a:ext cx="9043560" cy="76320"/>
            <a:chOff x="100080" y="1341360"/>
            <a:chExt cx="9043560" cy="76320"/>
          </a:xfrm>
        </p:grpSpPr>
        <p:sp>
          <p:nvSpPr>
            <p:cNvPr id="126" name="Rectangle 5"/>
            <p:cNvSpPr/>
            <p:nvPr/>
          </p:nvSpPr>
          <p:spPr>
            <a:xfrm>
              <a:off x="100080" y="1341360"/>
              <a:ext cx="4465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4565160" y="1341360"/>
              <a:ext cx="457848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28" name="資料庫圖表 8" descr=""/>
          <p:cNvPicPr/>
          <p:nvPr/>
        </p:nvPicPr>
        <p:blipFill>
          <a:blip r:embed="rId2"/>
          <a:stretch/>
        </p:blipFill>
        <p:spPr>
          <a:xfrm>
            <a:off x="176040" y="1395360"/>
            <a:ext cx="869976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圖片 5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pic>
        <p:nvPicPr>
          <p:cNvPr id="130" name="圖片 4" descr="未命名.png"/>
          <p:cNvPicPr/>
          <p:nvPr/>
        </p:nvPicPr>
        <p:blipFill>
          <a:blip r:embed="rId2"/>
          <a:stretch/>
        </p:blipFill>
        <p:spPr>
          <a:xfrm>
            <a:off x="1042920" y="2492280"/>
            <a:ext cx="6985080" cy="3961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"/>
          <p:cNvSpPr/>
          <p:nvPr/>
        </p:nvSpPr>
        <p:spPr>
          <a:xfrm>
            <a:off x="1763640" y="846720"/>
            <a:ext cx="57150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報 告 完 畢</a:t>
            </a:r>
            <a:endParaRPr b="1" lang="en-US" sz="66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敬 請 請 教</a:t>
            </a:r>
            <a:r>
              <a:rPr b="1" lang="zh-TW" sz="6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1" lang="en-US" sz="6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6123-29B2-4109-B196-E266A8F85680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8:56:59Z</dcterms:created>
  <dc:creator>moea</dc:creator>
  <dc:description/>
  <dc:language>en-US</dc:language>
  <cp:lastModifiedBy>蕭博銘</cp:lastModifiedBy>
  <cp:lastPrinted>2017-04-18T03:13:55Z</cp:lastPrinted>
  <dcterms:modified xsi:type="dcterms:W3CDTF">2017-04-18T03:23:16Z</dcterms:modified>
  <cp:revision>390</cp:revision>
  <dc:subject/>
  <dc:title>2015年經濟發展願景 第一階段三年衝刺計畫 －產業發展套案</dc:title>
</cp:coreProperties>
</file>