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notesMasterIdLst>
    <p:notesMasterId r:id="rId40"/>
  </p:notesMasterIdLst>
  <p:sldIdLst>
    <p:sldId id="256" r:id="rId41"/>
    <p:sldId id="257" r:id="rId42"/>
    <p:sldId id="258" r:id="rId43"/>
    <p:sldId id="259" r:id="rId44"/>
    <p:sldId id="260" r:id="rId45"/>
    <p:sldId id="261" r:id="rId46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notesMaster" Target="notesMasters/notesMaster1.xml"/><Relationship Id="rId41" Type="http://schemas.openxmlformats.org/officeDocument/2006/relationships/slide" Target="slides/slide1.xml"/><Relationship Id="rId42" Type="http://schemas.openxmlformats.org/officeDocument/2006/relationships/slide" Target="slides/slide2.xml"/><Relationship Id="rId43" Type="http://schemas.openxmlformats.org/officeDocument/2006/relationships/slide" Target="slides/slide3.xml"/><Relationship Id="rId44" Type="http://schemas.openxmlformats.org/officeDocument/2006/relationships/slide" Target="slides/slide4.xml"/><Relationship Id="rId45" Type="http://schemas.openxmlformats.org/officeDocument/2006/relationships/slide" Target="slides/slide5.xml"/><Relationship Id="rId46" Type="http://schemas.openxmlformats.org/officeDocument/2006/relationships/slide" Target="slides/slide6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hdr"/>
          </p:nvPr>
        </p:nvSpPr>
        <p:spPr>
          <a:xfrm>
            <a:off x="-5040" y="-180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dt" idx="57"/>
          </p:nvPr>
        </p:nvSpPr>
        <p:spPr>
          <a:xfrm>
            <a:off x="3854160" y="-180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 type="sldImg"/>
          </p:nvPr>
        </p:nvSpPr>
        <p:spPr>
          <a:xfrm>
            <a:off x="-345960" y="288720"/>
            <a:ext cx="7416720" cy="4173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 type="ftr" idx="58"/>
          </p:nvPr>
        </p:nvSpPr>
        <p:spPr>
          <a:xfrm>
            <a:off x="-5040" y="943272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 type="sldNum" idx="59"/>
          </p:nvPr>
        </p:nvSpPr>
        <p:spPr>
          <a:xfrm>
            <a:off x="3854160" y="9432720"/>
            <a:ext cx="2948040" cy="495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E103CCAB-3871-4564-9A9E-F7736AC7413D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54520" y="943308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D550FCDB-BB9B-4D14-BF37-6E5838012400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-369720" y="217440"/>
            <a:ext cx="7545240" cy="424512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54520" y="943308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CA089630-ADD7-4066-A400-0FC445675B03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-369720" y="217440"/>
            <a:ext cx="7545240" cy="424512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54520" y="943308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466792E4-9039-4C85-96CD-AE2E13233BA0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-369720" y="217440"/>
            <a:ext cx="7545240" cy="424512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54520" y="943308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69FF7A6F-262B-471B-A115-96BDA665CA8B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-369720" y="217440"/>
            <a:ext cx="7545240" cy="424512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54520" y="943308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9D02EBB4-9114-4B43-982E-65D7385E50CE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-369720" y="217440"/>
            <a:ext cx="7545240" cy="424512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54520" y="9433080"/>
            <a:ext cx="294804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CFAE2BFC-4902-4EC4-8E57-0B6A979FAED8}" type="slidenum">
              <a:rPr b="0" i="1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-369720" y="217440"/>
            <a:ext cx="7545240" cy="424512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09360" y="4711680"/>
            <a:ext cx="49784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73080"/>
                <a:tab algn="l" pos="1946160"/>
                <a:tab algn="l" pos="2919240"/>
                <a:tab algn="l" pos="3892680"/>
                <a:tab algn="l" pos="4865760"/>
                <a:tab algn="l" pos="5838840"/>
                <a:tab algn="l" pos="6811920"/>
                <a:tab algn="l" pos="7785000"/>
                <a:tab algn="l" pos="8758080"/>
                <a:tab algn="l" pos="9731520"/>
                <a:tab algn="l" pos="107046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51AF0-B0BA-45B9-9A2B-09C3EBA87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D60F-1B75-47C2-8277-E2310E8FE44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6A082F-EC0A-4911-B517-BAE46654592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FDD9B-9FE8-486C-8914-4034BA560A9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C3DF12-B0A4-47C0-9EF5-0803A186478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477B3F-EEFA-4BEA-8023-466A0428422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4E4BFA-7DFD-42FA-AAC0-1A6C88F3944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29CA4-FF90-4A50-A705-BEC261945EC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FDACB0-ED9E-4574-A83A-E041B66FD4B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9F78C0-687A-4032-A09B-C485B875FD7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E23D7A-1470-420B-B662-DAA81F1EA9C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7AB5-2A5A-4282-835D-8DE86411FF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4669E-6058-4715-8F61-8B859D57E91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2876-D3F6-4B67-AC97-59CBF2CD646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742AD-714D-4676-B64C-894760A9F05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E5F4E-FBFD-4448-8198-63E23AFF9FA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E7F19-AA23-4921-940A-ED2CAEEC00C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0A69-A413-4395-AEE3-2F66FCCE658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742F-3452-48D1-8FE7-35EE9674457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D8A8-6BF7-47A5-9E0E-823ABDE0BDF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792E3-6C30-422B-ADE6-212D428540E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B8A35-2096-4F97-AE25-45EDB6B7BDE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4A1BD-1536-44B3-9B15-F7790FF94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EC6A-FD9C-4580-BCA0-DA9DEAC3DA8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E044E-B344-485C-909E-5D7AD99F974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A1E2D6-53B9-4DE2-9629-AAE43B0B855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6856EA-CD2E-4552-8342-8DFE735E50A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33F5ED-83E2-4BCC-964F-0B4BE701AB0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3845A9-4D96-4FF7-AF76-2F991012CAD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EB0C51-72FF-4FC7-81C1-F5C3F143829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5141C7-4459-4B90-9BA8-33F4A9735CD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D0D1BA-9EF2-4755-9A3F-65E91FE2B4E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5EA1C4-BA30-46B4-81AA-F273994C04D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B628E4-0E39-4442-B70B-603B53E0F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511F0-79EF-4D9E-89EC-BD2CCF7C976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B10201-813D-4ED3-B822-36616CFDEE8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4DCE0-4A49-42B1-9EC9-1FB9D00B129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606F13-4328-402A-A420-78F80F88120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BC263-63DF-4316-B789-C77BEED46B7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0294F-DBE4-4A5A-BC44-59522F3A4CA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7E84AD-0888-4694-992D-15269CDE940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8E53DE-3FAF-4938-9525-16B4BDA5C1C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C226A-C50B-4C22-88D1-0EA6CDCCAF7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91B8D3-B1B2-42AD-9E03-427D7E664B7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5526F4-1C1B-43B8-B1AD-38CCD26495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95052-D403-4D9A-9A8C-D443A95FD68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8B7FE-DDDA-4CB3-A4DA-901E8406C02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59111C-2A52-4635-A7F1-1FC66E3ADE3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2A4FF-4FBB-4AFD-AFCE-6FA34805321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6BB48C-4CB4-4C21-BAF4-2E6952F2193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BE17FB-E66E-4126-8548-7532DDC0F73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37D62-6D23-49CC-9DA3-A408B3A6F349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B5041-2C00-4FD9-B681-EF0B733173C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24B8A-3A6B-4829-8F48-ABA03BE8954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0F6BD-10B7-4A99-8B0A-F688062B0A4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D3E71-1232-4F09-9914-4515C0C6E8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B4B30-3EBC-48E1-B759-60C61F70903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53CEF-0552-4A0E-B68F-AE737C5AAE5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75FF6-FC00-4007-83A6-50099396330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DD3E-529B-429E-B0A8-D20D21A392F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AF397-87F9-45B3-A87E-2BAE22351F5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114CB-D389-41D0-9DCB-7EB57F3EF45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CC435-341C-452B-A6AE-1391DA1A038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B1F87-A16B-4944-ADEE-CDF7EBAE361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6B04B3-6B5F-4B6D-9ABF-FC8E18F8083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83ADD0-4F6D-498E-ACED-A3C1E75E4D0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506354-EB2C-4858-AB6A-0D9D7319D6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0BE5-4BA0-4A25-8490-267C9C6FCDF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6F42C2-F7C4-41A3-9057-9A89B39F369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3FCABD-56B7-41BA-A6DC-5E87AA98A34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7FBB60-F3DB-4E13-9782-96F3ABAEF81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02D52A-AFBC-4528-A7FB-13F3CE3CE98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78ADBE-DDD8-4F2C-A0A9-908D0F3554E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7A0CE8-18A8-4856-BF38-310355AF682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5A966C-8F0C-4458-AFFD-7F0EE12FC19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DC2CC9-BDCB-4DBD-9DF8-CB21389E300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883144-0FEC-42A4-8576-1DD85E6EA9C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E2FA5D-25A6-4D87-9688-574D608279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FA709-FEC9-434A-AEC7-7D934038813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2D379E-0244-4F29-AE1B-4B0E984220C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D39BD-F8C1-4EEF-A22A-0E36B76509CB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B01712-68E5-4981-8A17-429E6784906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BC613-A7B9-4C16-93F0-A64A93493CC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442C45-3DDB-44CC-B30A-49E1BE16630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34311-1EA6-4598-9142-8C2774D9A63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034F66-4CD6-4F92-8B22-C927AF57530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76B959-A295-4BCF-A4CC-BDED85C83EC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98BD2B-6629-4951-B8C1-32E990F46BF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FE42E-1B26-4CF9-AF22-68A2691F1D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18913-F9A4-45ED-A6B3-CD6357EC0A6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DC06BC-91A1-4C5A-A11B-B675A63CC7D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1EA6-2C1B-4FDC-8F81-CBEEB205E64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B5C311-6E05-4C67-A888-05394C62C6A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434DD-9F5A-40D1-B138-0423D7C3796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FAF5A-8773-462C-90F4-D0F582D562B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FAE90-C4FC-4F05-A387-33E0C66061D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921FF-F6B1-46A2-8F3A-B96FBE024D8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0A05F-D2F2-4F3D-9A00-1AD0FE9DAB6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1C54F-5EEF-4D96-866C-4157DC844A6A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FCAD8-F522-4963-BFD2-36470E454D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CB7CA-FC58-418D-8DA2-44B40652F80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A68F1-3200-4BA2-AFD1-F6D2E5C8901D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B6D10-7E1C-43B6-92E7-87CAF43E4F1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16A5D-6A85-410F-B86D-24A74CA635C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9AA226-C8C9-46D5-8A15-16C13035B29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DE1337-478C-408B-BC5E-675A49C46DF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48580E-75AD-4BBE-B49E-F204AC274976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2A233A-F789-47D2-B4C2-8CD01D80DDF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5B625A-AB03-4EE8-A777-96535CC5FC1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AC1A3C-5087-4DE6-B977-0F6682E3FCB8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705058-D37B-4467-96D2-A707D97D3CA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5680-1A16-46C9-A082-55150FC37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C1F9-06DA-454F-A428-92C6C9F03E6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199D66-14CC-4DAB-8FD3-3ADC6CB6E2A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B0CA47-3518-45CF-B87D-0DD750188F3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A2F537-14D4-49F0-932D-42740F91046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CE0CB4-D009-40C0-BBFF-F4BAA7B7C6F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2BC0E3-1799-4B0D-8994-59E1F431EBE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8AC1D5-9EC9-45EC-BD7E-85798FB3893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60D6E-6161-415A-B963-D919080C624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976B8-8AC8-4FF3-B84A-1BB43465459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5B798A-F5C1-434F-AB49-8DA19372344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B6DE7C-8639-46EF-9261-14F7F2DD5B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D3D92-F93E-46FA-87B3-07DEAAE2865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CC3B4-B48B-4866-9829-65499590AA5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3C763-EF4E-4A37-91FC-F5B43772A1C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E4C028-8CD1-4435-8FA4-B858E7EACBB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025A37-B2E5-4CDA-93D0-1E0146D24C5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6B1D3A-0577-4A2E-9E33-37B4A90E29BB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A4F068-80C7-4684-8631-0E002194E79A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71C851-DFB2-4B37-A020-C225ED2CAFF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5949A-5283-4A8C-B852-9686C4487D1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A4729-0391-4591-96CD-739C82DE061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411AF-09D4-411E-BC40-438A821BBB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F1C9-8B78-4000-8204-7FF5DD6A07B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77B9A-64AF-4813-AFC6-FFAC80A1050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EE232-AEE4-4ADA-9A46-6F831D83D07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2EA91-54FB-4429-A0DA-E74408A1052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5450A8-FF8E-4EA2-843A-48A13EFDE71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415D8-9872-4096-90C1-0951CE681AC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EB297-5763-417F-A2A2-E3495D92FBE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013C0-AA9E-45A7-8896-B3060D07A98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31497-5A1B-4D74-BB29-E9C5A5F6B46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A5FDE-D7E7-4D19-A48D-13E0B3A09E6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D961AC-A667-4FDF-8688-CA245A9FCA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6F7A3-F2B5-4CF9-BFC5-DEC6C785F36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8DE6EC-2B5F-4EDF-9F9F-E6B044CE44E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8D9048-061E-476E-902D-98B6B7F5D12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87CA07-7512-4DBF-B4C9-76E3926C3C1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31CF6D-9785-4813-BB58-6889744D25F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C1B34E-DDDF-42B3-A5D0-A06CB964ACF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91BF9F-F246-4F3A-ABA0-AE115E8BF1F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7FB5DA-922D-4492-85FF-2090674031C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0532E8-7659-4CE7-AF15-3BBBD209C866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0D0BB7-CF52-4CAF-BBF7-E97BA9E6DDF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C33F48-EF7A-4EC4-A30C-44E7AFC34C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395A6-3249-4E1D-BC63-C85C3C45C86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74B659-2504-407A-8415-76119FE60EF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1429DF-56E1-4331-BD51-1C9F46CF702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75C54-3A4B-4004-8C8A-5365DD90ABF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C73FA5-1506-4379-9467-877D796CE3E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A9ADFF-5784-4486-8FBF-B9239322FF2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431FE2-03E5-4CF9-94CC-9A5E35B869C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B31348-239A-49D8-8C63-746ACBF7E92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9141C1-CC06-4AB3-8B8F-2D88E6D266F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D18D7F-0A76-4588-A411-31699851254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C2857C-7EA0-47D4-A70F-B24F93D4BD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6E18-37C1-4AA7-9BE4-50EA6CD5D1F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C89FF-2850-47ED-AE75-DD2429C6382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25A03-E19A-48C8-B4A7-3C36C97A87B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15A33C-13C4-40D5-AF22-CA1F6226794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5EA34-8373-48A3-8108-6EF5011B19D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4AE03C-F112-4BA0-A469-2D47528FD2C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95999-3446-4155-9FE4-55CC602E8226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1762DC-7F0C-49F2-B5C2-9C5F1F47D38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A12F4-91E1-4F3F-A524-CDE504A74DC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2D59F-F022-4C09-8088-3381A89D06F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7C9CD-95E8-40B9-B8F8-EB15C16379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43CD-8D77-4732-906D-C35A88D0289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BB932-F50D-4FB1-BE13-A54F297F9F8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3FFD4-90B4-4BC5-AD4C-C9EE137DE8C5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1B857-0A0B-4409-988D-9D0D9E3066E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05FE1-5C91-4A1C-A106-5C5288244364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89086-5FD0-4153-9E99-7D6EA4A5C45B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6B1BF1-88B6-4867-A9B5-0B1D5836A71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D685AD-389A-414C-B267-A8929022FE3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91CA13-7F00-484E-A4C0-F538238C729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1CCBB3-4012-4F03-AD71-8D70FF6D9D04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E6EA24-3A4E-4519-8F60-ADFA4164AE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DB7-3FF3-482F-8007-24D1FCD038D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5F9C9E-76D1-4AC0-82B3-D64B8B26740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DA215D-3908-43BE-B774-5C907657ECD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AAE498-B0B6-4F2E-BBB3-2856FA2ECAF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7BC6B1-EB41-4AF2-A75D-E523A355EE3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79E582-CFE1-404F-A6EC-8BEFDE48B50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839617-1D07-4406-B14B-1AEE08D6D29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C55828-5A30-406A-BFA1-A4EE908312C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E469AB-C203-42BD-9E0B-9F97179D619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4086B6-1DAD-4A26-8D68-9031650773C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312CA3-1131-463F-8454-5901A7768A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033-91F6-4DE2-BFA0-8C565CAEA3D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804B6A-8E61-4B8E-9B1B-3C28340A952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E50359-E544-4B85-99FA-04F5418B1E9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B90896-CBA7-460C-9A45-F8811F9AE98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B94CF92-08FB-4882-85EE-828B194D079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595F42-2CB6-40C6-A5C1-01C5E9A8761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EB9C1D-4D79-4144-BE93-90858EFA8DD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93EDAE-DE31-417D-BF99-F9114762930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FF25CB-2ED9-4DEE-A92F-B90330D8B6F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7BB6FA-71A3-46D2-BB9C-B735D718679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FDC4-651D-4AEE-80A9-2EDB05BD9D9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D891-529B-4757-A5D4-1B64FB0F7E5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6F49-0ACE-41C2-9EB7-C17CB0E6697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E79A83-C44B-48D6-8CFA-59E039F8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C37C26-6109-430F-8481-42823D8B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C2B03F-744C-4DDC-9E24-7EA5D4FF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8A6A6A-B597-4E45-ADC0-0645B1A6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5D8DC3-35A3-4010-BDB7-E87C121B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902605-A388-4329-A108-FCEDCF79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F8B821-3DE5-4A23-9BBE-53D44176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474AA3-BF9F-4576-954F-51F8C154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5D313A-3A96-4A7D-8A6C-42822150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44D-12A0-4D6F-B429-6ACFF3B80F9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90825C-A02A-4F58-BE58-984618BC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A03850-0AA0-4C4F-B877-964E2D971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AA43D9-93A8-4A51-B1D5-C176CA49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C13EEE-ADD0-4186-B5FD-F1BABFD2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5F0929-E087-45D3-B6F8-D2B52A39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E3CBC7-8D4D-4B78-9C7E-C99726DF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B63CFE-6716-4310-9919-13F35421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C54924-C5B3-4E6F-82BF-36491281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2DC18D-55DD-435F-936A-90E4E800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D60F2E-089D-406E-BF9A-647B9A7D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CB96-F6E5-43E8-BE3B-8EC9E63CE7C3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5F8B075-6F9A-4500-B568-6805651B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12728D-5F53-4D74-8565-34DEF682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388FF2-78D2-432F-9C38-325076E3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75B086-4094-4D20-B42D-1A208864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2A3FA5-609A-4B3D-B91A-48A339545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BE9DB0-8792-4CAA-A340-254D9507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BEDBC04-25B2-41EF-95ED-13ACD6EB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7336F0-D78F-4420-8E6F-05194F33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D8CD13-C7D1-47BC-B067-DDEAACA8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F3DACB-6853-4B62-A190-9A088B5F5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E274-230C-4F94-8545-9390CA2DC1A7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5B7D4B-9253-46D3-88F8-B3BC5F70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068A8E-400B-4AF8-9A31-C4853B8D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1685D9-7E5D-486B-931E-B7A8F8EC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33A7E0-3663-4DFB-856E-0FF600A5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E4F0E11-4D07-4D04-82CA-9A86AE3F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DB8DA1-AD33-4E84-BAA2-E84D549F4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9418D7-A9AF-4F11-8204-99D039D0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E6124A-5CAE-4589-B2BC-E630D76D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C75ED7-F08B-4EB7-9742-73E76EAE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894117-F3EC-4E94-A925-3AFD41DD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A9F6-BF88-43A8-BC3F-567BB9C27F55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AA562A-2A41-47AC-92C6-7DCD6390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596705-9087-4997-B124-6ADA3104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18D00B-9FDE-4AF7-84CD-CF40F365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72BEA6-087A-478A-B0BB-239C4473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25237C-407A-472F-9233-DCB57F1B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FD2A19-E7E6-4E8C-8F76-ADDBD65C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EF3590E-C7CA-4A8B-B6B6-5CA0B71C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B2A3C2-4C62-4C70-A1E8-2051F056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88224C-828F-463E-AB25-09FBCD020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C18139-0882-465E-87FB-01E24DD2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EAF-AA24-44EB-9A40-B6D1F5D97889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51FBFD-48F2-4605-A188-5C0AFCEF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DFC280-A4ED-407B-B83C-A868ED65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802778-39D9-4290-BB43-70BB8151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92FE36D-4572-43C3-A18D-FF3A5EE9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2E55BF-8754-4407-AA30-EAE7A4B84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B53E86-DA21-400E-8CF3-1719AB37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DECC7F-A55D-4198-906E-DACA0B88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43F707-9103-4943-A011-0154880D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7F167F-DE4A-4550-BFD2-37B19179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0415A6-9E3F-494D-9550-29596EFC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7921-FA1F-4C6D-86E0-3D0322B91EF5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9EDC78-02E0-423B-8027-D8B08890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988058-648A-4FA6-A793-4FB5376AF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DEA36B-8199-426D-A683-0A91AE9E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AC3F57-1E5E-456E-A24A-AF097375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1F4B399-9DBD-4789-B804-5EF1AD68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6B96844-665B-432C-8CE9-B0DF1571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6AD9AF-8D74-4F7E-ACDD-F67603213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EB1A94-A810-44B4-AC59-BF3E7546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6778F9-A264-415C-AA68-E46165D5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1A1F250-BD54-42EA-B3F1-BFD4B35A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B8DA8-8FD9-4E64-90EB-994A2C20FE53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880B47-773F-478B-8DC3-9E9A8D93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518424-B9B6-453B-9C84-A3E54F229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BD1A07-BA06-4593-B1A8-0552FFB3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217C0E1-BC39-4A9A-8156-515DB8F9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47A8EC-CD3A-4BF0-BD09-01396A96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DC1D90-2DBA-4456-B651-54C4A1D8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44F35B-7F96-44F2-A8E0-71310532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449E48-3CF0-4099-8CAB-01ED7A80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A16A6A-BC9A-4535-BE15-BBDB8190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4D0884-A064-486E-B8D4-2518C742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964C8-8DBE-4D1C-A29E-C52B4E0F41AF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2DC089-6C6F-4140-9B31-BBF33521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74F5EC-52C4-4B56-B41E-C8C933BB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ED643F6-404D-469A-8E48-52FF6FC4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5D480AC-7B10-4FF4-8050-678ABFF66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DCA693-326A-4232-A3B7-912CEFB0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A34478-1B97-4798-9E00-BCCA1C9D7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A2B46EF-000C-4FB1-AE2A-E1054881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0B4F6C-4065-4FC7-85CB-B861E6E8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A1D13AF-978F-4709-9BE4-CA8A5D99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A055444-EDAF-4376-AA06-26D16968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BD1B5-C75F-4E5A-81BE-E6007F48CD2B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E975C6-4B63-4D52-8CD4-5DFC4D03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FAE42EA-5B08-4C7F-8FAA-BFFBCEDC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71433D-70D1-43AC-B7F8-642BFB97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C20553-52B1-48C4-8840-EE16AA07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29C419-8E66-448A-9786-3622D285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478948E-3ED5-471D-ACB8-7D8639F5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6403D1-7E6E-4EF1-9965-A32C3ADC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37C79E5-1CB8-46D4-BB87-C35E0C58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AE98EB-312F-48FF-B199-3678D4F6C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4AB5AC1-DF55-4200-AE18-223E3C26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DD7A-79B7-442A-B237-71EE74A80B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AAAD6-7EDC-483A-B7ED-A11F0191D2BF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73AC681-200C-4313-A84B-441CA598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6843311-5624-4898-A3CB-DFBCD08F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320172B-B32C-4E51-8394-FF443F08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3B1972-45F8-45B1-98BC-B97726CF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96DE4A7-FB6A-472C-BA0A-EC5464E0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E9CDDAC-C363-406C-A25E-F609709C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B1FFB07-D337-425B-9247-55C37DCE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4A68D9-F810-4FD6-9688-7954131B7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1677CD-544A-446C-88EF-A4F43BF1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D81E84C-3050-4EAD-A96C-1CA882275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249EE-6571-428C-83EA-3EF893CA1577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5BCE4B-CF87-4E6B-B440-3239AAB1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7246DC9-E483-40E4-BC7C-16089305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D88D124-17E4-4E12-BD8E-626E4501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1B999A6-9218-4703-960A-09DDFD14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AC0E76D-9330-4363-9532-D90EA189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3DB3D99-0975-46C2-942E-B1386F52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E8EBA74-E176-46E0-89B4-0FC3035BC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7970FC4-BD87-449E-8E16-C8DFF627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ED03909-2742-4425-81EE-0CFD0920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4374C2-6AC5-4966-A8F1-4D1AE458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169F1-4480-4196-8B08-6D43550D8090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0DB6C9-E7E4-43F5-B15D-F1976662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69B9DCF-890C-445C-A965-4016E742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8F43CCB-EB4B-42B9-AF04-E8A8F241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9815FD0-7C20-4384-A6FA-C0143309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1D883DE-9056-412C-BBC1-3B9DDE912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9CF1B28-12C5-4015-84BE-AEC90C85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0C7C86A-F055-4D3A-BE32-B76E1521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88F914-C5D1-47AB-8A65-50ECE435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C115863-8287-48F9-ABC5-26156C46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299F02-483E-47FC-9957-23C371B3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3D076-654D-4F07-8EB0-81C19DD4DC38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40141C6-4A71-470D-AFE9-232BC15E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4F3E88A-36F8-4785-B8ED-C0C1BC55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CEBA9E7-8841-4D30-9619-D6931C77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5FFC76-AF74-448A-9884-4AE5030313AA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14AB75-2512-4599-B4BF-8928634E87E9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89FD2-B966-43D4-AE72-FBCC487B738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E4D01-CF2C-4858-A08F-31E8C3598C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683D1-D252-476C-A0C6-03C0C626C1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760595-8121-4B44-8FFD-83DFE6304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6CA42-43CE-4C7F-A6D9-40287C1F85B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E0EEF-FE27-49C4-9EEE-B78CB056FA0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F277D-5B92-4496-A810-02521A7044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3C5848-AFF7-4514-87E2-E476144C2F8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555B1-9D8B-4847-9E99-65739FB3E18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53779-5701-452E-A0E9-F287C6BB376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AAA278-2CD7-4361-BFC8-67BCB185F2E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87293-DB03-476A-90F3-426BAD52EF6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2D595-BFFC-4DDE-88B4-D2C33265487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A1B840-DC4E-433A-9DCB-B909AFA822F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93FB2E-E884-4906-A68F-A78CFE00A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0B5A6-A1C5-4DB3-AD72-5A6578A63FB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9B0A1-C818-4D5D-9EAA-AF1007AF036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F7FF7-1A29-424E-B373-14692D76FD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DCF1-17B2-4837-8F74-1B3DB8240FB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4B88-928F-441F-B8C5-9ABEFF1567B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D0AF-62CE-49AB-855F-3A729D35EF6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FA95-D1E5-44D6-B785-9BAB1361DC6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F7BC-D752-4CAB-AB01-71C9863A4B8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AC43C-CE69-43BA-9F56-4BBC75490C5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1D5F-BA9C-47E3-89FF-9E1952123C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92CE-EC9D-4329-A77B-DA197B4D468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0F54-2962-4977-A67E-5C15FE9A1ED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F4BC-0F8B-4AA1-B597-41C0FF3A152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D48D-460E-4E62-972A-E7BBEC41A7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C398-1A1F-405D-A4E1-5A4360ECBA0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C12B2-51E0-4CB6-906D-6C928F98562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EEBF82-F77C-4EBE-AF39-BE7237B63C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0D3020-C602-4861-9B8B-E8D7F822B39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0FB9D5-547B-4C35-9B4A-588ADA994B7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E8E2E5-A000-4176-AA7B-94250ECD508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63ACD6-297C-4B6B-9657-075EDE0184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2338-B76F-4E4A-9151-E01CA0375E6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5CADEE-C17B-4B3E-BEAD-5C55F33E6E4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5CEDBF-15DC-44EB-8724-FA4503FBB05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D2D9A1-3F24-4EA5-B5B9-00AF7A57244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0446B6-13D9-488C-83EF-593114F08AD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A6FFC-07C7-44E7-B05D-85FBF5D20FC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3B260C-F1D7-4CBB-A509-2A6E260A558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E4A29-7BBE-4FC4-AC15-49022C535CB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210C5-652E-4497-A723-ACBE3B2E3E0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1FFAD-0AAD-41CD-9F79-2FCFAD1279D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696C31-4F8F-44F5-9055-4D7729935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01.xml"/><Relationship Id="rId7" Type="http://schemas.openxmlformats.org/officeDocument/2006/relationships/slideLayout" Target="../slideLayouts/slideLayout302.xml"/><Relationship Id="rId8" Type="http://schemas.openxmlformats.org/officeDocument/2006/relationships/slideLayout" Target="../slideLayouts/slideLayout303.xml"/><Relationship Id="rId9" Type="http://schemas.openxmlformats.org/officeDocument/2006/relationships/slideLayout" Target="../slideLayouts/slideLayout304.xml"/><Relationship Id="rId10" Type="http://schemas.openxmlformats.org/officeDocument/2006/relationships/slideLayout" Target="../slideLayouts/slideLayout305.xml"/><Relationship Id="rId11" Type="http://schemas.openxmlformats.org/officeDocument/2006/relationships/slideLayout" Target="../slideLayouts/slideLayout306.xml"/><Relationship Id="rId12" Type="http://schemas.openxmlformats.org/officeDocument/2006/relationships/slideLayout" Target="../slideLayouts/slideLayout307.xml"/><Relationship Id="rId13" Type="http://schemas.openxmlformats.org/officeDocument/2006/relationships/slideLayout" Target="../slideLayouts/slideLayout308.xml"/><Relationship Id="rId14" Type="http://schemas.openxmlformats.org/officeDocument/2006/relationships/slideLayout" Target="../slideLayouts/slideLayout309.xml"/><Relationship Id="rId15" Type="http://schemas.openxmlformats.org/officeDocument/2006/relationships/slideLayout" Target="../slideLayouts/slideLayout310.xml"/><Relationship Id="rId16" Type="http://schemas.openxmlformats.org/officeDocument/2006/relationships/slideLayout" Target="../slideLayouts/slideLayout311.xml"/><Relationship Id="rId17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555B-48EC-40EA-8D21-D47CD6EB29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4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pic>
        <p:nvPicPr>
          <p:cNvPr id="6" name="圖片 1" descr=""/>
          <p:cNvPicPr/>
          <p:nvPr/>
        </p:nvPicPr>
        <p:blipFill>
          <a:blip r:embed="rId4"/>
          <a:stretch/>
        </p:blipFill>
        <p:spPr>
          <a:xfrm>
            <a:off x="654120" y="6353280"/>
            <a:ext cx="19080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386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pic>
        <p:nvPicPr>
          <p:cNvPr id="388" name="圖片 1" descr=""/>
          <p:cNvPicPr/>
          <p:nvPr/>
        </p:nvPicPr>
        <p:blipFill>
          <a:blip r:embed="rId4"/>
          <a:stretch/>
        </p:blipFill>
        <p:spPr>
          <a:xfrm>
            <a:off x="654120" y="6353280"/>
            <a:ext cx="1908000" cy="4953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9"/>
          </p:nvPr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FC54-09B7-48A1-9865-EB9735634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429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431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Num" idx="10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8E0E-692E-41A2-8A2E-F022C8D33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470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472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Num" idx="11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962B-8A29-43CE-941A-611215633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511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513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Num" idx="12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CA91-A897-46F7-B732-E91EA23F95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552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554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Num" idx="13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AC65-0430-4D21-AD36-FEBE1039C8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593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595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Num" idx="14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1DC0-5D01-4BCD-B13B-DC581E8474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634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636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Num" idx="15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2D4B-D869-4739-8266-13F6EB3607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675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677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Num" idx="16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F595-C143-4A79-BAEB-833AB9703D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716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718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Num" idx="17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DC09-793D-46A4-9FBE-762995E2A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757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759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Num" idx="18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6DB6E-1517-4926-9079-70D2198D1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FDCB-54E6-4A84-8FC0-B2759D7FD3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44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45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47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798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800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Num" idx="19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872A0-12E2-42C7-8BDE-406F86BC8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839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841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Num" idx="20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039D-16D6-4464-896E-F5A7786B2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880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882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Num" idx="21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948C-CF19-4B80-9EB1-E6DD23892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921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923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Num" idx="22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9AB0F-14C6-43EE-9FAD-D8DC3FB4A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Line 8"/>
          <p:cNvSpPr/>
          <p:nvPr/>
        </p:nvSpPr>
        <p:spPr>
          <a:xfrm>
            <a:off x="0" y="6337440"/>
            <a:ext cx="12187080" cy="0"/>
          </a:xfrm>
          <a:prstGeom prst="line">
            <a:avLst/>
          </a:prstGeom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962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964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sldNum" idx="23"/>
          </p:nvPr>
        </p:nvSpPr>
        <p:spPr>
          <a:xfrm>
            <a:off x="9120240" y="6453000"/>
            <a:ext cx="284472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75E4-4F1C-4B97-83C1-2E29E22BE9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Line 8"/>
          <p:cNvSpPr/>
          <p:nvPr/>
        </p:nvSpPr>
        <p:spPr>
          <a:xfrm>
            <a:off x="0" y="6337440"/>
            <a:ext cx="12187080" cy="0"/>
          </a:xfrm>
          <a:prstGeom prst="line">
            <a:avLst/>
          </a:prstGeom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005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1007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047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048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049" name="圖片 10" descr=""/>
          <p:cNvPicPr/>
          <p:nvPr/>
        </p:nvPicPr>
        <p:blipFill>
          <a:blip r:embed="rId4"/>
          <a:srcRect l="12606" t="16555" r="31597" b="44780"/>
          <a:stretch/>
        </p:blipFill>
        <p:spPr>
          <a:xfrm>
            <a:off x="0" y="1122480"/>
            <a:ext cx="10001160" cy="2798640"/>
          </a:xfrm>
          <a:prstGeom prst="rect">
            <a:avLst/>
          </a:prstGeom>
          <a:ln w="0">
            <a:noFill/>
          </a:ln>
        </p:spPr>
      </p:pic>
      <p:pic>
        <p:nvPicPr>
          <p:cNvPr id="1050" name="圖片 11" descr=""/>
          <p:cNvPicPr/>
          <p:nvPr/>
        </p:nvPicPr>
        <p:blipFill>
          <a:blip r:embed="rId5"/>
          <a:stretch/>
        </p:blipFill>
        <p:spPr>
          <a:xfrm>
            <a:off x="4824360" y="3602160"/>
            <a:ext cx="4300560" cy="280800"/>
          </a:xfrm>
          <a:prstGeom prst="rect">
            <a:avLst/>
          </a:prstGeom>
          <a:ln w="0">
            <a:noFill/>
          </a:ln>
        </p:spPr>
      </p:pic>
      <p:sp>
        <p:nvSpPr>
          <p:cNvPr id="1051" name="矩形 9"/>
          <p:cNvSpPr/>
          <p:nvPr/>
        </p:nvSpPr>
        <p:spPr>
          <a:xfrm>
            <a:off x="7440480" y="6356520"/>
            <a:ext cx="3936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 type="dt" idx="24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 type="ftr" idx="25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 type="sldNum" idx="26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9F08-9EF2-484F-B149-18784038630B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6"/>
    <p:sldLayoutId id="2147483975" r:id="rId7"/>
    <p:sldLayoutId id="2147483976" r:id="rId8"/>
    <p:sldLayoutId id="2147483977" r:id="rId9"/>
    <p:sldLayoutId id="2147483978" r:id="rId10"/>
    <p:sldLayoutId id="2147483979" r:id="rId11"/>
    <p:sldLayoutId id="2147483980" r:id="rId12"/>
    <p:sldLayoutId id="2147483981" r:id="rId13"/>
    <p:sldLayoutId id="2147483982" r:id="rId14"/>
    <p:sldLayoutId id="2147483983" r:id="rId15"/>
    <p:sldLayoutId id="2147483984" r:id="rId16"/>
    <p:sldLayoutId id="2147483985" r:id="rId17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094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095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096" name="圖片 10" descr=""/>
          <p:cNvPicPr/>
          <p:nvPr/>
        </p:nvPicPr>
        <p:blipFill>
          <a:blip r:embed="rId4"/>
          <a:srcRect l="15801" t="5866" r="16575" b="70925"/>
          <a:stretch/>
        </p:blipFill>
        <p:spPr>
          <a:xfrm>
            <a:off x="0" y="96840"/>
            <a:ext cx="8591400" cy="1293840"/>
          </a:xfrm>
          <a:prstGeom prst="rect">
            <a:avLst/>
          </a:prstGeom>
          <a:ln w="0">
            <a:noFill/>
          </a:ln>
        </p:spPr>
      </p:pic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dt" idx="27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ftr" idx="28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 type="sldNum" idx="29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B741-B92D-423B-AA8C-7C28A2E22467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139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140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 type="dt" idx="30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 type="ftr" idx="31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 type="sldNum" idx="32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707F-346F-411C-83E4-83F788174B95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183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184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33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34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35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175B-21BA-4D8B-8608-8DCC97F85599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ECDE-3B4D-48CC-A626-94548EF961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>
            <a:off x="0" y="6337440"/>
            <a:ext cx="12187080" cy="0"/>
          </a:xfrm>
          <a:prstGeom prst="line">
            <a:avLst/>
          </a:prstGeom>
          <a:ln w="64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88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90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6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227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228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36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37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38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5BFC-1186-49BC-80D8-15D68B13632F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271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272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273" name="圖片 10" descr=""/>
          <p:cNvPicPr/>
          <p:nvPr/>
        </p:nvPicPr>
        <p:blipFill>
          <a:blip r:embed="rId4"/>
          <a:srcRect l="15801" t="5866" r="16575" b="70925"/>
          <a:stretch/>
        </p:blipFill>
        <p:spPr>
          <a:xfrm>
            <a:off x="0" y="96840"/>
            <a:ext cx="8591400" cy="1293840"/>
          </a:xfrm>
          <a:prstGeom prst="rect">
            <a:avLst/>
          </a:prstGeom>
          <a:ln w="0">
            <a:noFill/>
          </a:ln>
        </p:spPr>
      </p:pic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 type="dt" idx="39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 type="ftr" idx="40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 type="sldNum" idx="41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E8FB-53A3-42A2-B15C-C3413D51B165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316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317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42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43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44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3D11-CC0D-42BD-B70D-2A0A6CE07161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9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360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361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45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46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47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5AB9-951E-4B20-AEA5-0A43E6F4DA31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3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404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405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 type="dt" idx="48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 type="ftr" idx="49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 type="sldNum" idx="50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4364-5118-4D05-86CD-41780D96B51E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7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448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449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51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52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53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3227-75F0-4C4C-BE19-31D3BF330D1D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1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1492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493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 type="dt" idx="54"/>
          </p:nvPr>
        </p:nvSpPr>
        <p:spPr>
          <a:xfrm>
            <a:off x="5700240" y="6356520"/>
            <a:ext cx="127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 type="ftr" idx="55"/>
          </p:nvPr>
        </p:nvSpPr>
        <p:spPr>
          <a:xfrm>
            <a:off x="4038120" y="6356520"/>
            <a:ext cx="159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498" name="PlaceHolder 5"/>
          <p:cNvSpPr>
            <a:spLocks noGrp="1"/>
          </p:cNvSpPr>
          <p:nvPr>
            <p:ph type="sldNum" idx="56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F168-D841-473A-9784-1F6F01F1D38C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536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537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1538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578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579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1580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015560" y="213372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 lvl="1"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 lvl="2" marL="343080" indent="-343080" algn="just">
              <a:spcBef>
                <a:spcPts val="700"/>
              </a:spcBef>
              <a:buClr>
                <a:srgbClr val="0000ff"/>
              </a:buClr>
              <a:buSzPct val="110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 lvl="3" marL="343080" indent="-343080" algn="just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 lvl="4" marL="343080" indent="-343080" algn="just">
              <a:spcBef>
                <a:spcPts val="700"/>
              </a:spcBef>
              <a:buClr>
                <a:srgbClr val="0000ff"/>
              </a:buClr>
              <a:buSzPct val="70000"/>
              <a:buFont typeface="Webdings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 lvl="5" marL="343080" indent="-343080" algn="just">
              <a:spcBef>
                <a:spcPts val="700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  <a:p>
            <a:pPr lvl="6" marL="343080" indent="-343080" algn="just">
              <a:spcBef>
                <a:spcPts val="700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ff0033"/>
              </a:solidFill>
              <a:latin typeface="Times New Roman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0" y="632772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4"/>
          </p:nvPr>
        </p:nvSpPr>
        <p:spPr>
          <a:xfrm>
            <a:off x="9202680" y="6437160"/>
            <a:ext cx="28447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0BBA-689E-4A24-BBD3-2BDAA023C4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31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133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12190320" cy="1540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10363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標楷體"/>
              </a:rPr>
              <a:t>Click to edit the title text format</a:t>
            </a:r>
            <a:endParaRPr b="1" lang="en-US" sz="44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015560" y="2133720"/>
            <a:ext cx="1036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Click to edit the outline text format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  <a:p>
            <a:pPr lvl="1"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Second Outline Level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  <a:p>
            <a:pPr lvl="2" marL="343080" indent="-343080" algn="just">
              <a:spcBef>
                <a:spcPts val="700"/>
              </a:spcBef>
              <a:buClr>
                <a:srgbClr val="0000ff"/>
              </a:buClr>
              <a:buSzPct val="110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Third Outline Level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  <a:p>
            <a:pPr lvl="3" marL="343080" indent="-343080" algn="just">
              <a:spcBef>
                <a:spcPts val="700"/>
              </a:spcBef>
              <a:buClr>
                <a:srgbClr val="0000ff"/>
              </a:buClr>
              <a:buSzPct val="60000"/>
              <a:buFont typeface="Wingdings" charset="2"/>
              <a:buChar char="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Fourth Outline Level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  <a:p>
            <a:pPr lvl="4" marL="343080" indent="-343080" algn="just">
              <a:spcBef>
                <a:spcPts val="700"/>
              </a:spcBef>
              <a:buClr>
                <a:srgbClr val="0000ff"/>
              </a:buClr>
              <a:buSzPct val="70000"/>
              <a:buFont typeface="Webdings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Fifth Outline Level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  <a:p>
            <a:pPr lvl="5" marL="343080" indent="-343080" algn="just">
              <a:spcBef>
                <a:spcPts val="700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Sixth Outline Level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  <a:p>
            <a:pPr lvl="6" marL="343080" indent="-343080" algn="just">
              <a:spcBef>
                <a:spcPts val="700"/>
              </a:spcBef>
              <a:buClr>
                <a:srgbClr val="000000"/>
              </a:buClr>
              <a:buSzPct val="70000"/>
              <a:buFont typeface="Webdings" charset="2"/>
              <a:buChar char="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標楷體"/>
              </a:rPr>
              <a:t>Seventh Outline Level</a:t>
            </a:r>
            <a:endParaRPr b="1" lang="en-US" sz="2800" spc="-1" strike="noStrike">
              <a:solidFill>
                <a:srgbClr val="ff0033"/>
              </a:solidFill>
              <a:latin typeface="標楷體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4680" y="63277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Num" idx="5"/>
          </p:nvPr>
        </p:nvSpPr>
        <p:spPr>
          <a:xfrm>
            <a:off x="9249840" y="6437160"/>
            <a:ext cx="284508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107E-12D0-4C56-B3D5-21675F4A96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75" name="圖片 5" descr=""/>
          <p:cNvPicPr/>
          <p:nvPr/>
        </p:nvPicPr>
        <p:blipFill>
          <a:blip r:embed="rId3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97logo01"/>
          <p:cNvPicPr/>
          <p:nvPr/>
        </p:nvPicPr>
        <p:blipFill>
          <a:blip r:embed="rId4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177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0" y="-27000"/>
            <a:ext cx="12192120" cy="144360"/>
          </a:xfrm>
          <a:prstGeom prst="rect">
            <a:avLst/>
          </a:prstGeom>
          <a:solidFill>
            <a:srgbClr val="ff9966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217" name="Line 7"/>
          <p:cNvSpPr/>
          <p:nvPr/>
        </p:nvSpPr>
        <p:spPr>
          <a:xfrm>
            <a:off x="0" y="632772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218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220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39" descr="台電6"/>
          <p:cNvPicPr/>
          <p:nvPr/>
        </p:nvPicPr>
        <p:blipFill>
          <a:blip r:embed="rId2"/>
          <a:stretch/>
        </p:blipFill>
        <p:spPr>
          <a:xfrm>
            <a:off x="196920" y="6438960"/>
            <a:ext cx="2819160" cy="338040"/>
          </a:xfrm>
          <a:prstGeom prst="rect">
            <a:avLst/>
          </a:prstGeom>
          <a:ln w="0">
            <a:noFill/>
          </a:ln>
        </p:spPr>
      </p:pic>
      <p:sp>
        <p:nvSpPr>
          <p:cNvPr id="260" name="Line 7"/>
          <p:cNvSpPr/>
          <p:nvPr/>
        </p:nvSpPr>
        <p:spPr>
          <a:xfrm>
            <a:off x="4680" y="6329520"/>
            <a:ext cx="1218744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261" name="圖片 5" descr=""/>
          <p:cNvPicPr/>
          <p:nvPr/>
        </p:nvPicPr>
        <p:blipFill>
          <a:blip r:embed="rId3"/>
          <a:stretch/>
        </p:blipFill>
        <p:spPr>
          <a:xfrm>
            <a:off x="4656240" y="6438960"/>
            <a:ext cx="2720880" cy="395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3"/>
          <p:cNvSpPr>
            <a:spLocks noGrp="1"/>
          </p:cNvSpPr>
          <p:nvPr>
            <p:ph type="sldNum" idx="6"/>
          </p:nvPr>
        </p:nvSpPr>
        <p:spPr>
          <a:xfrm>
            <a:off x="11534400" y="6492960"/>
            <a:ext cx="55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93C9-0F1D-4F21-9921-291E1B68600E}" type="slidenum">
              <a:rPr b="0" lang="zh-TW" sz="11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&lt;number&gt;</a:t>
            </a:fld>
            <a:endParaRPr b="0" lang="en-US" sz="11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7"/>
          </p:nvPr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A7A5-E39E-4E76-BECE-AA60EBB46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303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sp>
        <p:nvSpPr>
          <p:cNvPr id="305" name="文字方塊 1"/>
          <p:cNvSpPr/>
          <p:nvPr/>
        </p:nvSpPr>
        <p:spPr>
          <a:xfrm>
            <a:off x="654120" y="638172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</a:rPr>
              <a:t>業務處</a:t>
            </a:r>
            <a:endParaRPr b="0" lang="en-US" sz="2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Line 21"/>
          <p:cNvSpPr/>
          <p:nvPr/>
        </p:nvSpPr>
        <p:spPr>
          <a:xfrm>
            <a:off x="0" y="6334200"/>
            <a:ext cx="12187080" cy="0"/>
          </a:xfrm>
          <a:prstGeom prst="line">
            <a:avLst/>
          </a:prstGeom>
          <a:ln w="64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343" name="圖片 5" descr=""/>
          <p:cNvPicPr/>
          <p:nvPr/>
        </p:nvPicPr>
        <p:blipFill>
          <a:blip r:embed="rId2"/>
          <a:stretch/>
        </p:blipFill>
        <p:spPr>
          <a:xfrm>
            <a:off x="4656240" y="6381720"/>
            <a:ext cx="2720880" cy="39528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7" descr="97logo01"/>
          <p:cNvPicPr/>
          <p:nvPr/>
        </p:nvPicPr>
        <p:blipFill>
          <a:blip r:embed="rId3"/>
          <a:srcRect l="0" t="0" r="73364" b="5999"/>
          <a:stretch/>
        </p:blipFill>
        <p:spPr>
          <a:xfrm>
            <a:off x="192240" y="6369120"/>
            <a:ext cx="461880" cy="431640"/>
          </a:xfrm>
          <a:prstGeom prst="rect">
            <a:avLst/>
          </a:prstGeom>
          <a:ln w="0">
            <a:noFill/>
          </a:ln>
        </p:spPr>
      </p:pic>
      <p:pic>
        <p:nvPicPr>
          <p:cNvPr id="345" name="圖片 1" descr=""/>
          <p:cNvPicPr/>
          <p:nvPr/>
        </p:nvPicPr>
        <p:blipFill>
          <a:blip r:embed="rId4"/>
          <a:stretch/>
        </p:blipFill>
        <p:spPr>
          <a:xfrm>
            <a:off x="654120" y="6353280"/>
            <a:ext cx="1908000" cy="4953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4546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4546a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8"/>
          </p:nvPr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C92E-6F27-4B72-A022-455D59E661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文本占位符 3"/>
          <p:cNvSpPr/>
          <p:nvPr/>
        </p:nvSpPr>
        <p:spPr>
          <a:xfrm>
            <a:off x="0" y="4656240"/>
            <a:ext cx="121921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台灣電力公司 業務處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石恩綸 組長</a:t>
            </a:r>
            <a:endParaRPr b="0" lang="en-US" sz="3200" spc="-1" strike="noStrike">
              <a:solidFill>
                <a:srgbClr val="ff505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7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23</a:t>
            </a:r>
            <a:r>
              <a:rPr b="1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日</a:t>
            </a:r>
            <a:endParaRPr b="0" lang="en-US" sz="2400" spc="-1" strike="noStrike">
              <a:solidFill>
                <a:srgbClr val="ff505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5050"/>
              </a:solidFill>
              <a:latin typeface="Times New Roman"/>
            </a:endParaRPr>
          </a:p>
        </p:txBody>
      </p:sp>
      <p:sp>
        <p:nvSpPr>
          <p:cNvPr id="1627" name="矩形 73"/>
          <p:cNvSpPr/>
          <p:nvPr/>
        </p:nvSpPr>
        <p:spPr>
          <a:xfrm>
            <a:off x="0" y="1555200"/>
            <a:ext cx="1214424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         </a:t>
            </a:r>
            <a:r>
              <a:rPr b="1" lang="en-US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107</a:t>
            </a: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年盤點之不開放資料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54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民間需求回應檢討說明</a:t>
            </a:r>
            <a:endParaRPr b="0" lang="en-US" sz="5400" spc="-1" strike="noStrike">
              <a:solidFill>
                <a:srgbClr val="ff5050"/>
              </a:solidFill>
              <a:latin typeface="Times New Roman"/>
            </a:endParaRPr>
          </a:p>
        </p:txBody>
      </p:sp>
      <p:pic>
        <p:nvPicPr>
          <p:cNvPr id="1628" name="图片 41" descr=""/>
          <p:cNvPicPr/>
          <p:nvPr/>
        </p:nvPicPr>
        <p:blipFill>
          <a:blip r:embed="rId1"/>
          <a:srcRect l="0" t="2258" r="0" b="0"/>
          <a:stretch/>
        </p:blipFill>
        <p:spPr>
          <a:xfrm>
            <a:off x="8613720" y="3933720"/>
            <a:ext cx="3544920" cy="238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投影片編號版面配置區 3"/>
          <p:cNvSpPr/>
          <p:nvPr/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D796-D7BA-4D78-AE40-6279A3052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630" name=""/>
          <p:cNvGraphicFramePr/>
          <p:nvPr/>
        </p:nvGraphicFramePr>
        <p:xfrm>
          <a:off x="515880" y="1052640"/>
          <a:ext cx="11160360" cy="5057640"/>
        </p:xfrm>
        <a:graphic>
          <a:graphicData uri="http://schemas.openxmlformats.org/drawingml/2006/table">
            <a:tbl>
              <a:tblPr/>
              <a:tblGrid>
                <a:gridCol w="612720"/>
                <a:gridCol w="2880000"/>
                <a:gridCol w="7667640"/>
              </a:tblGrid>
              <a:tr h="9450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ID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民間需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經濟部政府資料開放諮詢小組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第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3</a:t>
                      </a: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屆第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次會議紀錄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4112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38217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請問台電可否提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4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起或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的需量競價資料集檔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資料集名稱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Microsoft YaHei"/>
                          <a:ea typeface="Microsoft YaHei"/>
                        </a:rPr>
                        <a:t>：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需量競價執行成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委員建議事項：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有關台電無法開放每日競價資料，是否符合競價目的？所稱有投機套利不見得不符合競價需求，且政府資訊公開法並未有此不公開事由。此外，競價資料本身已於機關網頁呈現每月相關資料，似乎無不開放之法律事由，建議可開放歷史資料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  <p:sp>
        <p:nvSpPr>
          <p:cNvPr id="1631" name="矩形 73"/>
          <p:cNvSpPr/>
          <p:nvPr/>
        </p:nvSpPr>
        <p:spPr>
          <a:xfrm>
            <a:off x="0" y="19116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經濟部開放資料民間需求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投影片編號版面配置區 3"/>
          <p:cNvSpPr/>
          <p:nvPr/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BD46-23D1-4C53-8C39-1218F8BF5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633" name=""/>
          <p:cNvGraphicFramePr/>
          <p:nvPr/>
        </p:nvGraphicFramePr>
        <p:xfrm>
          <a:off x="515880" y="896760"/>
          <a:ext cx="11160360" cy="5268960"/>
        </p:xfrm>
        <a:graphic>
          <a:graphicData uri="http://schemas.openxmlformats.org/drawingml/2006/table">
            <a:tbl>
              <a:tblPr/>
              <a:tblGrid>
                <a:gridCol w="612720"/>
                <a:gridCol w="2951280"/>
                <a:gridCol w="7596360"/>
              </a:tblGrid>
              <a:tr h="638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ID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民間需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台電公司檢討意見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4630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38217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請問台電可否提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4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起或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的需量競價資料集檔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資料集名稱：需量競價執行成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720720" indent="-720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一、需量競價措施說明</a:t>
                      </a:r>
                      <a:endParaRPr b="0" lang="en-US" sz="27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一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於系統高載時期，開放用戶把節省下來的電回賣給台電，並由用戶出價競標，與其他用戶及發電機組共同競價，用戶配合抑低用電每度報價最高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元；若用戶得標後於抑低用電期間確實減少用電，則可獲得電費扣減。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 </a:t>
                      </a:r>
                      <a:endParaRPr b="0" lang="en-US" sz="27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二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藉由用戶自訂回饋價格，激發抑低用電潛能</a:t>
                      </a:r>
                      <a:endParaRPr b="0" lang="en-US" sz="27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      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，改善系統負載型態，進而延緩對新設電源之開發或降低可能面臨之限電風險。</a:t>
                      </a:r>
                      <a:endParaRPr b="0" lang="en-US" sz="27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三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惟需量競價是否執行，須視電力系統需要與用戶投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/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得標情形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投標價格與抑低量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7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而定。</a:t>
                      </a:r>
                      <a:endParaRPr b="0" lang="en-US" sz="27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  <p:sp>
        <p:nvSpPr>
          <p:cNvPr id="1634" name="矩形 73"/>
          <p:cNvSpPr/>
          <p:nvPr/>
        </p:nvSpPr>
        <p:spPr>
          <a:xfrm>
            <a:off x="0" y="19116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台電公司回應檢討說明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投影片編號版面配置區 3"/>
          <p:cNvSpPr/>
          <p:nvPr/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E90A-3AD2-4C0F-A864-574C3237F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636" name=""/>
          <p:cNvGraphicFramePr/>
          <p:nvPr/>
        </p:nvGraphicFramePr>
        <p:xfrm>
          <a:off x="515880" y="896760"/>
          <a:ext cx="11160360" cy="4772160"/>
        </p:xfrm>
        <a:graphic>
          <a:graphicData uri="http://schemas.openxmlformats.org/drawingml/2006/table">
            <a:tbl>
              <a:tblPr/>
              <a:tblGrid>
                <a:gridCol w="612720"/>
                <a:gridCol w="2951280"/>
                <a:gridCol w="7596360"/>
              </a:tblGrid>
              <a:tr h="660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ID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民間需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台電公司檢討意見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4111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38217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請問台電可否提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4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起或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的需量競價資料集檔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資料集名稱：需量競價執行成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720720" indent="-7207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二、針對已參加需量競價措施用戶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台電公司建置「需量競價平台」，於該平台揭露相關訊息，包括用戶自身參加措施月份提示、申請抑低契約容量、投標價格變更、得標訊息通知、實際抑低容量、執行時段等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透過該平台，用戶可隨時掌握訊息，大幅提升用戶參與需量競價措施之便利性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  <p:sp>
        <p:nvSpPr>
          <p:cNvPr id="1637" name="矩形 73"/>
          <p:cNvSpPr/>
          <p:nvPr/>
        </p:nvSpPr>
        <p:spPr>
          <a:xfrm>
            <a:off x="0" y="19116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台電公司回應檢討說明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投影片編號版面配置區 3"/>
          <p:cNvSpPr/>
          <p:nvPr/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0C20-EF14-4C3D-B5D2-BCEE7F107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639" name=""/>
          <p:cNvGraphicFramePr/>
          <p:nvPr/>
        </p:nvGraphicFramePr>
        <p:xfrm>
          <a:off x="515880" y="896760"/>
          <a:ext cx="11160360" cy="4772160"/>
        </p:xfrm>
        <a:graphic>
          <a:graphicData uri="http://schemas.openxmlformats.org/drawingml/2006/table">
            <a:tbl>
              <a:tblPr/>
              <a:tblGrid>
                <a:gridCol w="612720"/>
                <a:gridCol w="2951280"/>
                <a:gridCol w="7596360"/>
              </a:tblGrid>
              <a:tr h="660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ID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民間需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台電公司檢討意見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4111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38217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請問台電可否提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4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起或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的需量競價資料集檔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資料集名稱：需量競價執行成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720720" indent="-7207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三、針對未參加需量競價措施用戶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為讓外界瞭解需量競價措施參與情形與執行成效，已自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起，於台電公司官網「業務公告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/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業務專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/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負載管理專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/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實施成效」，揭露需量競價措施每月申請量與最大抑低量，用戶可自行下載參考，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720720" indent="-72072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二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1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 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經檢討，前述資料可於「政府資料開放平台」揭露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  <p:sp>
        <p:nvSpPr>
          <p:cNvPr id="1640" name="矩形 73"/>
          <p:cNvSpPr/>
          <p:nvPr/>
        </p:nvSpPr>
        <p:spPr>
          <a:xfrm>
            <a:off x="0" y="19116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台電公司回應檢討說明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投影片編號版面配置區 3"/>
          <p:cNvSpPr/>
          <p:nvPr/>
        </p:nvSpPr>
        <p:spPr>
          <a:xfrm>
            <a:off x="10991880" y="6437160"/>
            <a:ext cx="105552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B5ECA-EF6C-45ED-9F04-FCE7EF9E4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400" spc="-1" strike="noStrike">
              <a:solidFill>
                <a:srgbClr val="ff505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515880" y="896760"/>
          <a:ext cx="11160360" cy="4772160"/>
        </p:xfrm>
        <a:graphic>
          <a:graphicData uri="http://schemas.openxmlformats.org/drawingml/2006/table">
            <a:tbl>
              <a:tblPr/>
              <a:tblGrid>
                <a:gridCol w="612720"/>
                <a:gridCol w="2951280"/>
                <a:gridCol w="7596360"/>
              </a:tblGrid>
              <a:tr h="660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ID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民間需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ffffff"/>
                          </a:solidFill>
                          <a:latin typeface="微軟正黑體"/>
                          <a:ea typeface="微軟正黑體"/>
                        </a:rPr>
                        <a:t>台電公司檢討意見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4111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538217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請問台電可否提供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4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起或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的需量競價資料集檔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資料集名稱：需量競價執行成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809640" indent="-80964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四、開放時程與範圍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  <a:p>
                      <a:pPr marL="809640" indent="-809640" algn="just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於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8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，在「政府資料開放平台」開放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2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(106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及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07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)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需量競價措施執行成效資料集，包含每月申請量與最大抑低量，並於每年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1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微軟正黑體"/>
                          <a:ea typeface="微軟正黑體"/>
                        </a:rPr>
                        <a:t>月更新前一年度之資料。</a:t>
                      </a:r>
                      <a:endParaRPr b="0" lang="en-US" sz="2800" spc="-1" strike="noStrike">
                        <a:solidFill>
                          <a:srgbClr val="ff505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</a:tbl>
          </a:graphicData>
        </a:graphic>
      </p:graphicFrame>
      <p:sp>
        <p:nvSpPr>
          <p:cNvPr id="1643" name="矩形 73"/>
          <p:cNvSpPr/>
          <p:nvPr/>
        </p:nvSpPr>
        <p:spPr>
          <a:xfrm>
            <a:off x="0" y="191160"/>
            <a:ext cx="1219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Microsoft YaHei"/>
                <a:ea typeface="Microsoft YaHei"/>
              </a:rPr>
              <a:t>台電公司回應檢討說明</a:t>
            </a:r>
            <a:endParaRPr b="0" lang="en-US" sz="4000" spc="-1" strike="noStrike">
              <a:solidFill>
                <a:srgbClr val="ff505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Tab</dc:creator>
  <dc:description/>
  <dc:language>en-US</dc:language>
  <cp:lastModifiedBy>王靜宜</cp:lastModifiedBy>
  <cp:lastPrinted>2018-10-09T00:50:41Z</cp:lastPrinted>
  <dcterms:modified xsi:type="dcterms:W3CDTF">2018-10-09T00:55:35Z</dcterms:modified>
  <cp:revision>5169</cp:revision>
  <dc:subject/>
  <dc:title>沒有投影片標題</dc:title>
</cp:coreProperties>
</file>