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360-5611-4B5C-A699-D7B64EF8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642-1C27-4A5D-A9DE-0BEC6717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87141-78DE-4ADD-A357-D421B525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849EE-79AD-4986-8A27-36303E8F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28980-D55A-423A-8356-54ADD69C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B4FE7-63D5-4FA1-BCA0-9DDCC97B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DCB76-A8DE-41DE-964A-D6319DFA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38C2E-6BAD-41C5-BC3E-EB0B4F0D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6D54D-ABBE-4CAA-8C15-B5F957D4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92423-2DCE-4C0A-98A0-ABADE16E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99F60-4CAD-4F55-8325-B9F8C336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ED52F-BE4E-4D26-8B38-852BA500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50E-A0F8-4F98-A391-01471CAF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F251D-E3DA-45ED-8388-B7C5D1B2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5CC8D-40E0-4896-9985-00F6D26B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243EE-9723-4CE7-834E-D5E293F1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4A36A-07D1-42BD-8708-A2BFD15F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E84F6-0E72-465D-9FFF-D05DA296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6F438-0971-467F-9C26-CEEA6643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4152D-46A5-4DC3-A845-D3973B66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DD1EE-9882-4280-90CB-0543FE2A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D7675-BC9E-416A-B1FA-6982A445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28F0D-F3A8-4338-B3CA-03F58A53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67C-20E6-4AE1-983C-7FC73E8B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38F74-C52E-458B-BC7A-BD85EDBC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F67D2-2DAA-49EF-933C-6ADEB178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E72A5-35D4-4AA2-8976-AB281C2C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36875-A902-4DD1-A5AD-36F54708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A10A7-A3B9-4645-8E6B-63179429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1B7C0-808A-4A7A-8BC8-C850A0E4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EBA62-95BC-4BD9-9FAE-C3E4122C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13122-91EF-4EDA-AD0A-A87684DF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04B4F-AC7D-49CC-8A81-9494AB5F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22906-A3A9-498B-A47D-041B6448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478D-06B0-47A0-A03C-9C39A6D6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A4F79-7E0D-4C6D-86E9-7218D2E3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0A638-DDE4-436E-ABCE-35CFFED5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165D0-C57A-44F0-BD3B-0EDD7E96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74AB8-CA6F-4708-A909-1EE2289E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8BD04-3A14-4DA8-96ED-2820E5C4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A978F-8165-4602-B38B-C9A5A9EB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6DF9E-8CCC-491D-A213-86FE7105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CE7A1-777E-40A3-8FEE-846A8B06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DF3F3-2744-4507-B8E5-D8059F38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EC42D-C3B8-477D-9332-B889FDD7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3DD5-AEBC-41A5-8456-BC61026B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81522-DCBA-4AF8-B706-0F8E01D3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FA93B-EFFA-4EB4-9615-CB8517A5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99444-976A-4F87-BCD3-CD19EC22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FAAF3-A14C-4986-9918-E7B7E3F6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19A67-2EEC-4B31-B897-D706A8AE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0BE53-8459-4BDD-AB22-E205AC79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D1B87-72D7-41EC-A348-94BB9337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17992-5DC3-4104-880F-DFA6BC85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0EE7F-D25B-444B-8D8B-C76CB181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EFCA2-8C10-4B70-83F7-CC6DD952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51C2-0733-4ECB-A4B4-504AE8AF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C058D-B073-489D-B401-ADAACB37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C426E-D22D-4E58-A4C4-95AE9FA1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E551C-EFE6-4F0A-AA11-D6A387F8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3596A-8E3B-4ED8-B7B7-5D0E8FD0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0E6C2-8F3D-4921-8220-FCE75A51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5393B-B693-411E-8F37-DFF8A7A1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DD09E-9477-48DE-A89B-CCB41E0C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961BA-2537-49A9-A312-B1E7F84B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EC94F-413D-4F26-B649-2689EBD9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DCAE6-0447-48CF-A7BB-772CE33E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582C-EFC9-438E-A9AE-4B6A77D6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27D18-C69D-4A22-9562-59FBA5C4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B03A7-4F5B-4A1F-8A56-581C2E00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D68A8-0110-459D-999E-3B884433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15170-2533-4DDF-88E9-40204A32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B54C5A-8ED5-4C80-9F60-4D78E39E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1B03C-C2CA-49B2-8EEE-01B111BD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A1A2AB-2282-4364-A35F-D9C1670D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3DA6B-C6B3-43E9-9F73-95654DDD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2F149-909C-4262-8CC0-6FE7CAB4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E4CF-6A37-4C9E-8B11-27435AA5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8F74-5C75-4562-A6D0-38CCF4AC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39A1-CC06-412A-A1CE-4F30B203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9A4-14F3-4739-8404-2BAEC385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0459-1CEC-4D23-8003-8EAF23B6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E3C6-3ACE-4339-B999-6DDA3D7F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6877-F434-49E9-B154-9BC151A7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2C82-C8F9-4209-93C4-BC3BAE02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6BB7-EEED-4DE9-B0A5-56CF39D9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C111-D388-477D-9502-9D64C1D4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2DF7-79DE-4DE9-AD9F-6D1EC99D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4BF2-10C7-4EE5-807D-92E09583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A6ED-CCF0-4D2D-885F-BD1DE341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D63A-81B2-48E5-8487-E7F019FB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B7A-63C6-4454-9AF1-02A132B5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8A06-188A-4687-88CA-599C013C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223E9-414C-472E-8ACE-33588E87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5FFE-7897-4DDE-88AF-7EC32F1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474F4-89FB-49C7-B25C-9E636FED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A682-81D9-4D63-B9AE-57058A0C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93EB-A8E1-4467-A5DD-B9249B23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420C-A329-4899-BC0F-32A05940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E89BA-88C4-4489-8760-B16290E6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CDDA-472B-4BEC-B652-326EC76D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C61DF-0F9D-4502-AA78-BAC9F6F2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B51-2D03-4F38-8C12-05FC3F60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F49E1-37D6-492B-9372-074633AD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19CE5-E147-4768-B3B0-88DCAD28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C322-2B8B-4570-8C52-A0FA52E0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0342A-05AE-42D7-83B2-E43A1A69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F1B1E-505D-49E6-82BB-4EBC65C7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62512-86C9-4891-B31E-B042B16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2DEC-29A8-41E0-84C7-5CD259D6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5C1A8-D612-42AC-81B1-D47D2161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ACE72-A678-43D4-AD32-5CFDD84D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6F0A4-F921-4D8F-87B7-FAF86EF4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315-4BF9-415D-BD7C-9838BBCC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1F97E-505B-447D-890A-4496A19E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0C418-4A40-4BFF-B2D3-A33420B3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93215-B63E-42B2-AF2C-239F11A4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29039-895E-4145-9538-59A7640B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7E48F-50BE-48F1-8F5D-1E674DEE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D19A4-D54C-4F55-8010-93D5DA64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79B27-324B-4134-B1C2-35610B7A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164DA-4A38-4394-96BD-9F0843EE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11D6A-D87D-4B8B-9961-FEE4DC20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15885-3C89-4F15-BB68-11C38C26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E40-75D8-4E43-9CA2-19A48E1D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83D1E-336F-46A3-A119-DF18A52C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439DB-A49B-4AC1-8317-64999BE3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7A61C-84DF-4AF5-93AA-68B5F6D0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253CD-5804-4E6E-A7F1-25368098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3282E-832C-4521-BDBD-5DB53F70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7BC8C-0CCF-4FE5-9B7F-AF1D6BB1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B08BA-486C-4291-95FD-2C2FF972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75C19-E171-4BEA-95E1-C0AA624D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95D74-1779-4F81-ADC0-E0B5522A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2418F-41EE-4E15-9547-A93175EE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8A2-E8FF-4F97-A897-BA8E3B87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D30E3-A483-44D3-BEA0-65C67BF7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69B30-9789-4AAA-9083-3D9C2DE5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A9945-4865-4B4C-A678-05D95652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60DE0-28B4-4A2A-AB08-1D220158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3D299-ACC7-497B-87CA-A7C166F3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DF319-3741-4B59-9C74-4363AC86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D421F-4DE8-4752-9049-EAF85FF2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564AC-E771-4643-82A3-3AB1666B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D848B-0662-428F-A576-B3FB0273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2E4F7-EAF6-48E2-82B8-443F494A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3BF-4216-42A2-955E-8A54F83E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64DC8-B04B-4F58-942C-82EF0440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3B125-6306-40E5-939A-F271CC0D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75A25-F943-426F-ABBC-CB72AE98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E38C4-56B9-4B97-A786-A825D6D9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0414E-0EBC-4956-ADEA-AAD6E951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16C23-2D43-4D5F-AB34-44732E19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CA909-D79A-49F3-B2B9-8A16CA6C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BFB4E-9EBA-48B0-A873-712C96B4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B29DA-D7CB-4642-B48D-5146D803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F9A54-68EE-4E59-8751-16BF6D6E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A7D-171D-4D73-A803-FF9386EA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24DB9-8707-4C67-8F94-4AA2A542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C179F-3AC1-41A3-AF05-1624AC28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2DFFD-E968-40B0-B8A4-578463DF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8FA35-09CE-4ED9-A3D6-8FEDEB1A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DFE4-33FC-43C5-AC56-B7D38D7A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5C6D1-4496-46FF-B1E1-F93F5302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128E3-03AC-40BF-A967-B6EDD4CE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EE994-BB0F-4B29-98DA-E9762DD6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24500-C64C-45C7-B55A-01A7A8C2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6EEA1-626F-4E06-88B2-7C766BC4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CA06-3649-400B-834E-72305A484BC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35DF-396C-4858-AA39-755625892B6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515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1"/>
          </p:nvPr>
        </p:nvSpPr>
        <p:spPr>
          <a:xfrm>
            <a:off x="609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2"/>
          </p:nvPr>
        </p:nvSpPr>
        <p:spPr>
          <a:xfrm>
            <a:off x="3581280" y="61722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3"/>
          </p:nvPr>
        </p:nvSpPr>
        <p:spPr>
          <a:xfrm>
            <a:off x="6629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B913-D3D3-4E33-A3D8-0512B4C6272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680" y="1050480"/>
            <a:ext cx="73152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34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ftr" idx="35"/>
          </p:nvPr>
        </p:nvSpPr>
        <p:spPr>
          <a:xfrm>
            <a:off x="320004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sldNum" idx="36"/>
          </p:nvPr>
        </p:nvSpPr>
        <p:spPr>
          <a:xfrm>
            <a:off x="6019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BAF6-8749-4412-9027-854E0B22E6F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66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6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67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67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8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8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F653-2E01-4CA8-9C38-D723FB5488A4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75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75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76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76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77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77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78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57FA-D10B-435F-B332-B60D2FCCA497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1FF2-79BD-44C9-9EA9-4D9118DF345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54E7-7C27-4737-932C-6C03BDAA48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7A6A-97DA-4102-8CA6-896111A94F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559E-550F-4173-AF4C-D42D48F945B4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3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3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3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8D8A-C689-4FD7-A7AF-FBE2D0F75DEC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4D21-EDEA-4036-B5FC-D27999598D10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2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2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2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4311-23C5-49A1-A9BD-BCB4081BFF00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0449-E2B4-42A6-A667-B077B5C0345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2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10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0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" Target="slide11.xml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900" spc="-1" strike="noStrike">
                <a:solidFill>
                  <a:srgbClr val="ffffff"/>
                </a:solidFill>
                <a:latin typeface="Arial Black"/>
                <a:ea typeface="標楷體"/>
              </a:rPr>
              <a:t>全國砂土石產銷存動態資訊揭露推動策略</a:t>
            </a:r>
            <a:endParaRPr b="0" lang="en-US" sz="5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979280" y="4269960"/>
            <a:ext cx="51433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經濟部礦務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30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報告人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陳韻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30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05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9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月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1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320D2-E0E5-4825-BBCF-9D79B8039E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已開放資料集清單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0" name="AutoShape 57"/>
          <p:cNvSpPr/>
          <p:nvPr/>
        </p:nvSpPr>
        <p:spPr>
          <a:xfrm>
            <a:off x="468360" y="1179360"/>
            <a:ext cx="359892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報告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5"/>
          <p:cNvSpPr/>
          <p:nvPr/>
        </p:nvSpPr>
        <p:spPr>
          <a:xfrm>
            <a:off x="468360" y="2027160"/>
            <a:ext cx="3598920" cy="3682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年度砂土石產銷存調查報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684360" y="3090960"/>
            <a:ext cx="2246040" cy="31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3276720" y="3090960"/>
            <a:ext cx="2246040" cy="31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4" name="" descr=""/>
          <p:cNvPicPr/>
          <p:nvPr/>
        </p:nvPicPr>
        <p:blipFill>
          <a:blip r:embed="rId3"/>
          <a:stretch/>
        </p:blipFill>
        <p:spPr>
          <a:xfrm>
            <a:off x="5867280" y="3090960"/>
            <a:ext cx="2246400" cy="31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5" name=""/>
          <p:cNvSpPr/>
          <p:nvPr/>
        </p:nvSpPr>
        <p:spPr>
          <a:xfrm>
            <a:off x="4997520" y="175896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臺灣砂石供需情形，彙整分析特定區域之生產結構、產銷變動及營運情況等資料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115080" y="2674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66ff"/>
                </a:solidFill>
                <a:latin typeface="Arial"/>
                <a:ea typeface="標楷體"/>
              </a:rPr>
              <a:t>逐年開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34C17-A247-4AF3-ACA0-ACFB089A7D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99920" y="18900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已開放資料集清單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235080" y="3276720"/>
          <a:ext cx="40384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276720"/>
                    <a:ext cx="40384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"/>
          <p:cNvGraphicFramePr/>
          <p:nvPr/>
        </p:nvGraphicFramePr>
        <p:xfrm>
          <a:off x="4572000" y="1031760"/>
          <a:ext cx="398304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031760"/>
                    <a:ext cx="398304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AutoShape 57"/>
          <p:cNvSpPr/>
          <p:nvPr/>
        </p:nvSpPr>
        <p:spPr>
          <a:xfrm>
            <a:off x="457200" y="1179360"/>
            <a:ext cx="381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統計資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矩形 5"/>
          <p:cNvSpPr/>
          <p:nvPr/>
        </p:nvSpPr>
        <p:spPr>
          <a:xfrm>
            <a:off x="457200" y="1989000"/>
            <a:ext cx="3816360" cy="1069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全國土石生產量值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全國砂土石產銷存動態統計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進口砂石裝卸量統計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572000" y="3645000"/>
          <a:ext cx="3983040" cy="28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645000"/>
                    <a:ext cx="398304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6" name=""/>
          <p:cNvSpPr/>
          <p:nvPr/>
        </p:nvSpPr>
        <p:spPr>
          <a:xfrm>
            <a:off x="5003640" y="194004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每月各縣市砂石成品生產、銷售、售價、庫存現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4360" y="5810400"/>
            <a:ext cx="35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每月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含累計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全國砂石成品產量、售價及產值資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003640" y="465300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各港口進口砂石數量及航次資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359520" y="3417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66ff"/>
                </a:solidFill>
                <a:latin typeface="Arial"/>
                <a:ea typeface="標楷體"/>
              </a:rPr>
              <a:t>逐月開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rId7" action="ppaction://hlinksldjump"/>
          </p:cNvPr>
          <p:cNvSpPr/>
          <p:nvPr/>
        </p:nvSpPr>
        <p:spPr>
          <a:xfrm>
            <a:off x="3419640" y="617688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>
            <a:hlinkClick r:id="rId8" action="ppaction://hlinksldjump"/>
          </p:cNvPr>
          <p:cNvSpPr/>
          <p:nvPr/>
        </p:nvSpPr>
        <p:spPr>
          <a:xfrm>
            <a:off x="8191440" y="3362400"/>
            <a:ext cx="28908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rId9" action="ppaction://hlinksldjump"/>
          </p:cNvPr>
          <p:cNvSpPr/>
          <p:nvPr/>
        </p:nvSpPr>
        <p:spPr>
          <a:xfrm>
            <a:off x="8191440" y="6168960"/>
            <a:ext cx="28908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9F339-DCC8-4FD4-9328-14AD8D8169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4000" y="852120"/>
            <a:ext cx="734364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需求建議事項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4" name="矩形 5"/>
          <p:cNvSpPr/>
          <p:nvPr/>
        </p:nvSpPr>
        <p:spPr>
          <a:xfrm>
            <a:off x="2484360" y="4140360"/>
            <a:ext cx="2519280" cy="398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東砂西運裝卸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矩形 5"/>
          <p:cNvSpPr/>
          <p:nvPr/>
        </p:nvSpPr>
        <p:spPr>
          <a:xfrm>
            <a:off x="2484360" y="2043000"/>
            <a:ext cx="2519280" cy="398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產銷存相關細部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矩形 5"/>
          <p:cNvSpPr/>
          <p:nvPr/>
        </p:nvSpPr>
        <p:spPr>
          <a:xfrm>
            <a:off x="5580000" y="4140360"/>
            <a:ext cx="28796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國內砂石銷售流向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國內砂石產銷存相關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矩形 5"/>
          <p:cNvSpPr/>
          <p:nvPr/>
        </p:nvSpPr>
        <p:spPr>
          <a:xfrm>
            <a:off x="5580000" y="2043000"/>
            <a:ext cx="287964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河川砂石疏濬標售量價參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砂石料源分析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全國砂石量價與經濟面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87440" y="2043000"/>
            <a:ext cx="1523880" cy="7038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本部水利署等單位及各縣市政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87440" y="4140360"/>
            <a:ext cx="1523880" cy="7038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逢甲及北科等大學及民間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011320" y="22255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011320" y="2225520"/>
            <a:ext cx="473040" cy="214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11320" y="435276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2011320" y="2225160"/>
            <a:ext cx="473040" cy="21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03640" y="22255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003640" y="4365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4988E-77F6-4C36-8F7D-382FB3F4A5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106</a:t>
            </a: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年預計開放資料集清單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5003640" y="1417680"/>
          <a:ext cx="353088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417680"/>
                    <a:ext cx="353088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5003640" y="4183200"/>
          <a:ext cx="3569040" cy="25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4183200"/>
                    <a:ext cx="356904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AutoShape 57"/>
          <p:cNvSpPr/>
          <p:nvPr/>
        </p:nvSpPr>
        <p:spPr>
          <a:xfrm>
            <a:off x="324000" y="1684440"/>
            <a:ext cx="41050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統計資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5"/>
          <p:cNvSpPr/>
          <p:nvPr/>
        </p:nvSpPr>
        <p:spPr>
          <a:xfrm>
            <a:off x="324000" y="2708280"/>
            <a:ext cx="41050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1.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東砂西運裝卸量統計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2.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單月及累計砂石碎解洗選場產銷存調查情形一覽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-4048200" y="-464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-4048200" y="-519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-4048200" y="-464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-3083040" y="-464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1598120" y="-519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48360" y="3454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新增每月及累計各縣市砂石成品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來源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河川砂石、土石採取及營建剩餘土石方等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現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457200" y="4003560"/>
          <a:ext cx="3822840" cy="270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003560"/>
                    <a:ext cx="3822840" cy="27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"/>
          <p:cNvSpPr/>
          <p:nvPr/>
        </p:nvSpPr>
        <p:spPr>
          <a:xfrm>
            <a:off x="826920" y="486900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新增每月東砂西運砂石成品數量統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30720" y="38196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66ff"/>
                </a:solidFill>
                <a:latin typeface="Arial"/>
                <a:ea typeface="標楷體"/>
              </a:rPr>
              <a:t>逐月開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rId7" action="ppaction://hlinksldjump"/>
          </p:cNvPr>
          <p:cNvSpPr/>
          <p:nvPr/>
        </p:nvSpPr>
        <p:spPr>
          <a:xfrm>
            <a:off x="4135320" y="4229280"/>
            <a:ext cx="289080" cy="282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>
            <a:hlinkClick r:id="rId8" action="ppaction://hlinksldjump"/>
          </p:cNvPr>
          <p:cNvSpPr/>
          <p:nvPr/>
        </p:nvSpPr>
        <p:spPr>
          <a:xfrm>
            <a:off x="8047080" y="400356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7D22F-9793-4824-B25C-F589C55DA6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0" y="141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四、品質精進方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C7D3C-44AA-42B2-9AF4-62463D3B49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66"/>
                </a:solidFill>
                <a:latin typeface="Arial"/>
                <a:ea typeface="標楷體"/>
              </a:rPr>
              <a:t>未來規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7" name="AutoShape 57"/>
          <p:cNvSpPr/>
          <p:nvPr/>
        </p:nvSpPr>
        <p:spPr>
          <a:xfrm>
            <a:off x="1254240" y="1827360"/>
            <a:ext cx="27414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持續執行調查計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矩形 5"/>
          <p:cNvSpPr/>
          <p:nvPr/>
        </p:nvSpPr>
        <p:spPr>
          <a:xfrm>
            <a:off x="1254240" y="2781360"/>
            <a:ext cx="2741400" cy="1465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砂土石產銷存動態調查計畫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將於本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105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年底期滿，本局預計將本計畫加以修正後，函報行政院主計總處，期能續以執行，持續了解砂土石供需實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57"/>
          <p:cNvSpPr/>
          <p:nvPr/>
        </p:nvSpPr>
        <p:spPr>
          <a:xfrm>
            <a:off x="4429080" y="1827360"/>
            <a:ext cx="410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品質精進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矩形 5"/>
          <p:cNvSpPr/>
          <p:nvPr/>
        </p:nvSpPr>
        <p:spPr>
          <a:xfrm>
            <a:off x="4429080" y="278136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持續關注機關及民間團體需求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適時開放相關資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矩形 5"/>
          <p:cNvSpPr/>
          <p:nvPr/>
        </p:nvSpPr>
        <p:spPr>
          <a:xfrm>
            <a:off x="4429080" y="538956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精進統計品質，提高統計實用價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矩形 5"/>
          <p:cNvSpPr/>
          <p:nvPr/>
        </p:nvSpPr>
        <p:spPr>
          <a:xfrm>
            <a:off x="4429080" y="589428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擴展統計資料應用與服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矩形 5"/>
          <p:cNvSpPr/>
          <p:nvPr/>
        </p:nvSpPr>
        <p:spPr>
          <a:xfrm>
            <a:off x="4429080" y="364500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搭配政策推行以提升報表回報率，統計數據更具代表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5"/>
          <p:cNvSpPr/>
          <p:nvPr/>
        </p:nvSpPr>
        <p:spPr>
          <a:xfrm>
            <a:off x="4429080" y="444492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設計數據檢核機制，提高調查數據準確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69F4-E3B7-422F-86C2-607C07C454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826920" y="249084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Comic Sans MS"/>
                <a:ea typeface="標楷體"/>
              </a:rPr>
              <a:t>報告完畢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Comic Sans MS"/>
                <a:ea typeface="標楷體"/>
              </a:rPr>
              <a:t>恭請裁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53E31-C739-47FD-A91C-39484AD875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537080" y="6165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全國砂石成品產量、售價及產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662800"/>
          </a:xfrm>
          <a:prstGeom prst="rect">
            <a:avLst/>
          </a:prstGeom>
          <a:ln w="0">
            <a:noFill/>
          </a:ln>
        </p:spPr>
      </p:pic>
      <p:sp>
        <p:nvSpPr>
          <p:cNvPr id="948" name="">
            <a:hlinkClick r:id="rId2" action="ppaction://hlinksldjump"/>
          </p:cNvPr>
          <p:cNvSpPr/>
          <p:nvPr/>
        </p:nvSpPr>
        <p:spPr>
          <a:xfrm>
            <a:off x="6372360" y="624996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D2EAA-25A2-482A-B78E-AB3054BF9F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>
            <a:hlinkClick r:id="rId1" action="ppaction://hlinksldjump"/>
          </p:cNvPr>
          <p:cNvSpPr/>
          <p:nvPr/>
        </p:nvSpPr>
        <p:spPr>
          <a:xfrm>
            <a:off x="7885080" y="6237360"/>
            <a:ext cx="28908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2"/>
          <a:stretch/>
        </p:blipFill>
        <p:spPr>
          <a:xfrm>
            <a:off x="38160" y="404640"/>
            <a:ext cx="9105840" cy="53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05A58-227F-4204-8821-2F8D8D13E0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>
            <a:hlinkClick r:id="rId1" action="ppaction://hlinksldjump"/>
          </p:cNvPr>
          <p:cNvSpPr/>
          <p:nvPr/>
        </p:nvSpPr>
        <p:spPr>
          <a:xfrm>
            <a:off x="7885080" y="6043680"/>
            <a:ext cx="28908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611280" y="404640"/>
          <a:ext cx="797724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04640"/>
                    <a:ext cx="797724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6657D-DD91-4810-B121-F59145E015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6870960" cy="700200"/>
          </a:xfrm>
          <a:prstGeom prst="rect">
            <a:avLst/>
          </a:prstGeom>
          <a:gradFill rotWithShape="0">
            <a:gsLst>
              <a:gs pos="0">
                <a:srgbClr val="b9b900"/>
              </a:gs>
              <a:gs pos="50000">
                <a:srgbClr val="ffff00"/>
              </a:gs>
              <a:gs pos="100000">
                <a:srgbClr val="b9b900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330033"/>
                </a:solidFill>
                <a:latin typeface="Times New Roman"/>
                <a:ea typeface="標楷體"/>
              </a:rPr>
              <a:t>報告大綱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5614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一、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推動策略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說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、應用情境說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、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Open Data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相關資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四、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品質精進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28A-BB6D-40C4-BCC4-0BEA88055B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>
            <a:hlinkClick r:id="rId1" action="ppaction://hlinksldjump"/>
          </p:cNvPr>
          <p:cNvSpPr/>
          <p:nvPr/>
        </p:nvSpPr>
        <p:spPr>
          <a:xfrm>
            <a:off x="7956720" y="621180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130960" cy="62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13B17-D40C-4AF7-8911-7CAF567999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>
            <a:hlinkClick r:id="rId1" action="ppaction://hlinksldjump"/>
          </p:cNvPr>
          <p:cNvSpPr/>
          <p:nvPr/>
        </p:nvSpPr>
        <p:spPr>
          <a:xfrm>
            <a:off x="5508720" y="580536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0" y="79524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6012000" y="795240"/>
            <a:ext cx="2520720" cy="529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FB3BD-24D2-4B7B-A323-98737050CA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755640" y="2816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  <a:ea typeface="標楷體"/>
              </a:rPr>
              <a:t>一、</a:t>
            </a:r>
            <a:r>
              <a:rPr b="1" lang="zh-TW" sz="4000" spc="-1" strike="noStrike">
                <a:solidFill>
                  <a:srgbClr val="006666"/>
                </a:solidFill>
                <a:latin typeface="Arial"/>
                <a:ea typeface="標楷體"/>
              </a:rPr>
              <a:t>推動策略說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D5742-84FE-48F3-9FA4-FABB6CDF1F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Verdana"/>
                <a:ea typeface="標楷體"/>
              </a:rPr>
              <a:t>目的、策略、對象、範圍及調查方法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8" name="AutoShape 57"/>
          <p:cNvSpPr/>
          <p:nvPr/>
        </p:nvSpPr>
        <p:spPr>
          <a:xfrm>
            <a:off x="755640" y="1684440"/>
            <a:ext cx="1224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矩形 5"/>
          <p:cNvSpPr/>
          <p:nvPr/>
        </p:nvSpPr>
        <p:spPr>
          <a:xfrm>
            <a:off x="755640" y="2563920"/>
            <a:ext cx="1224000" cy="6426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及時了解砂土石供需實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57"/>
          <p:cNvSpPr/>
          <p:nvPr/>
        </p:nvSpPr>
        <p:spPr>
          <a:xfrm>
            <a:off x="6732720" y="1684440"/>
            <a:ext cx="1584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調查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5"/>
          <p:cNvSpPr/>
          <p:nvPr/>
        </p:nvSpPr>
        <p:spPr>
          <a:xfrm>
            <a:off x="6732720" y="2563920"/>
            <a:ext cx="15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3300"/>
                </a:solidFill>
                <a:latin typeface="Arial"/>
                <a:ea typeface="標楷體"/>
              </a:rPr>
              <a:t>按月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調查統計國內砂土石生產、銷售、售價及庫存等量值變動實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57"/>
          <p:cNvSpPr/>
          <p:nvPr/>
        </p:nvSpPr>
        <p:spPr>
          <a:xfrm>
            <a:off x="2268360" y="1684440"/>
            <a:ext cx="1224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矩形 5"/>
          <p:cNvSpPr/>
          <p:nvPr/>
        </p:nvSpPr>
        <p:spPr>
          <a:xfrm>
            <a:off x="2268360" y="2563920"/>
            <a:ext cx="1224000" cy="119124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年起執行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砂土石產銷存動態調查計畫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57"/>
          <p:cNvSpPr/>
          <p:nvPr/>
        </p:nvSpPr>
        <p:spPr>
          <a:xfrm>
            <a:off x="3851280" y="1684440"/>
            <a:ext cx="244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調查對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5"/>
          <p:cNvSpPr/>
          <p:nvPr/>
        </p:nvSpPr>
        <p:spPr>
          <a:xfrm>
            <a:off x="3851280" y="2563920"/>
            <a:ext cx="2449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從事砂石碎解洗選加工業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57"/>
          <p:cNvSpPr/>
          <p:nvPr/>
        </p:nvSpPr>
        <p:spPr>
          <a:xfrm>
            <a:off x="3851280" y="4006800"/>
            <a:ext cx="244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區域範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5"/>
          <p:cNvSpPr/>
          <p:nvPr/>
        </p:nvSpPr>
        <p:spPr>
          <a:xfrm>
            <a:off x="3908520" y="4941720"/>
            <a:ext cx="239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臺灣本島各縣市及金門縣及連江縣等縣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C2B79-E10B-41CC-8BFE-D855A88333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8" name=""/>
          <p:cNvGraphicFramePr/>
          <p:nvPr/>
        </p:nvGraphicFramePr>
        <p:xfrm>
          <a:off x="179280" y="208080"/>
          <a:ext cx="8785440" cy="62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8080"/>
                    <a:ext cx="8785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0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744120" y="20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6699"/>
                </a:solidFill>
                <a:latin typeface="Arial"/>
                <a:ea typeface="標楷體"/>
              </a:rPr>
              <a:t>按月逐場調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076800" y="2080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砂土石生產、銷售、售價及庫存等量值變動實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627280" y="6234120"/>
            <a:ext cx="647640" cy="368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郵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148360" y="6232680"/>
            <a:ext cx="647640" cy="368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傳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188120" y="6234120"/>
            <a:ext cx="647640" cy="368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電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E7C08-7C7D-4614-8F70-246346835D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395280" y="1098720"/>
            <a:ext cx="8353440" cy="50068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1116000" y="5921280"/>
            <a:ext cx="1224000" cy="368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網路填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195640" y="3573360"/>
            <a:ext cx="4895640" cy="151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51077-14BE-482A-B967-E128D6BF6A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0" y="3319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二、 應用情境說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3F81E-E2C8-42A8-809A-C91BAA8309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900000" y="836640"/>
            <a:ext cx="7793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Tahoma"/>
                <a:ea typeface="標楷體"/>
              </a:rPr>
              <a:t>資訊運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53440" y="3642480"/>
            <a:ext cx="20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全國總體砂石供需趨勢分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矩形 5"/>
          <p:cNvSpPr/>
          <p:nvPr/>
        </p:nvSpPr>
        <p:spPr>
          <a:xfrm>
            <a:off x="539640" y="2849400"/>
            <a:ext cx="122400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衡量國內砂土石產銷存量消長情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054960" y="443628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北中南東離島地區供需情勢分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750040" y="5131440"/>
            <a:ext cx="14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砂石料源需求評估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696000" y="2849400"/>
            <a:ext cx="1224000" cy="1557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達成穩定砂石供需及平穩砂石物價之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7560" y="5858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評估區域供需與跨區調配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340000" y="2697120"/>
            <a:ext cx="38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作為執行行政院核定砂石長期穩定供應策略相關施政計畫之參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57"/>
          <p:cNvSpPr/>
          <p:nvPr/>
        </p:nvSpPr>
        <p:spPr>
          <a:xfrm>
            <a:off x="539640" y="2039760"/>
            <a:ext cx="1224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57"/>
          <p:cNvSpPr/>
          <p:nvPr/>
        </p:nvSpPr>
        <p:spPr>
          <a:xfrm>
            <a:off x="2987640" y="2039760"/>
            <a:ext cx="2457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資訊運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57"/>
          <p:cNvSpPr/>
          <p:nvPr/>
        </p:nvSpPr>
        <p:spPr>
          <a:xfrm>
            <a:off x="6696000" y="2039760"/>
            <a:ext cx="1224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6143760" y="249120"/>
            <a:ext cx="2184120" cy="163836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103320" y="5191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6699ff"/>
                </a:solidFill>
                <a:latin typeface="Arial"/>
                <a:ea typeface="標楷體"/>
              </a:rPr>
              <a:t>庫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866960" y="5191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99ff"/>
                </a:solidFill>
                <a:latin typeface="Arial"/>
                <a:ea typeface="標楷體"/>
              </a:rPr>
              <a:t>價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52560" y="585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cccc"/>
                </a:solidFill>
                <a:latin typeface="Arial"/>
                <a:ea typeface="標楷體"/>
              </a:rPr>
              <a:t>銷售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952560" y="4479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Arial"/>
                <a:ea typeface="標楷體"/>
              </a:rPr>
              <a:t>生產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872640" y="512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Arial"/>
                <a:ea typeface="標楷體"/>
              </a:rPr>
              <a:t>供 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92280" y="4876920"/>
            <a:ext cx="1123920" cy="982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BA6E2-DF89-4713-A96C-FC6644DFB5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0" y="162864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三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、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Open Data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相關資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E9605-91BE-43C5-A200-4260351A9F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04:08:57Z</dcterms:created>
  <dc:creator>awei</dc:creator>
  <dc:description/>
  <dc:language>en-US</dc:language>
  <cp:lastModifiedBy>ucchen</cp:lastModifiedBy>
  <dcterms:modified xsi:type="dcterms:W3CDTF">2016-09-12T09:14:55Z</dcterms:modified>
  <cp:revision>376</cp:revision>
  <dc:subject/>
  <dc:title>投影片 1</dc:title>
</cp:coreProperties>
</file>