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546a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44546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3200" y="4684320"/>
            <a:ext cx="5387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145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1A42C6A-CB7F-4D60-9281-A0739FEAE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3200" y="4684320"/>
            <a:ext cx="5387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年本處提報數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則，其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則係配合行政院規定，開放網頁之政府資訊公開內容，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則為提報經濟部目標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69E7-1D3C-49E3-B793-66F3B64FFAA2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8"/>
          <p:cNvGrpSpPr/>
          <p:nvPr/>
        </p:nvGrpSpPr>
        <p:grpSpPr>
          <a:xfrm>
            <a:off x="-39600" y="0"/>
            <a:ext cx="2382480" cy="676440"/>
            <a:chOff x="-39600" y="0"/>
            <a:chExt cx="2382480" cy="676440"/>
          </a:xfrm>
        </p:grpSpPr>
        <p:sp>
          <p:nvSpPr>
            <p:cNvPr id="2" name="Freeform 19"/>
            <p:cNvSpPr/>
            <p:nvPr/>
          </p:nvSpPr>
          <p:spPr>
            <a:xfrm>
              <a:off x="-39600" y="0"/>
              <a:ext cx="1958400" cy="676440"/>
            </a:xfrm>
            <a:prstGeom prst="pie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20"/>
            <p:cNvSpPr/>
            <p:nvPr/>
          </p:nvSpPr>
          <p:spPr>
            <a:xfrm>
              <a:off x="169200" y="297000"/>
              <a:ext cx="28764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1"/>
            <p:cNvSpPr/>
            <p:nvPr/>
          </p:nvSpPr>
          <p:spPr>
            <a:xfrm>
              <a:off x="626040" y="298440"/>
              <a:ext cx="294480" cy="21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2"/>
            <p:cNvSpPr/>
            <p:nvPr/>
          </p:nvSpPr>
          <p:spPr>
            <a:xfrm>
              <a:off x="1091880" y="298440"/>
              <a:ext cx="27900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Picture 23" descr="MOEA_logo3"/>
            <p:cNvPicPr/>
            <p:nvPr/>
          </p:nvPicPr>
          <p:blipFill>
            <a:blip r:embed="rId2"/>
            <a:stretch/>
          </p:blipFill>
          <p:spPr>
            <a:xfrm>
              <a:off x="1603440" y="216720"/>
              <a:ext cx="739440" cy="45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投影片編號版面配置區 5"/>
          <p:cNvSpPr/>
          <p:nvPr/>
        </p:nvSpPr>
        <p:spPr>
          <a:xfrm>
            <a:off x="697536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AADA-1AB0-455C-A0DC-F28CCF6DC9DE}" type="slidenum">
              <a:rPr b="1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65920" y="77760"/>
            <a:ext cx="1054080" cy="792360"/>
          </a:xfrm>
          <a:prstGeom prst="rect">
            <a:avLst/>
          </a:prstGeom>
          <a:ln w="0">
            <a:noFill/>
          </a:ln>
        </p:spPr>
      </p:pic>
      <p:sp>
        <p:nvSpPr>
          <p:cNvPr id="9" name="AutoShape 4"/>
          <p:cNvSpPr/>
          <p:nvPr/>
        </p:nvSpPr>
        <p:spPr>
          <a:xfrm>
            <a:off x="684360" y="873000"/>
            <a:ext cx="7958160" cy="716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546a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44546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ed7d31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ed7d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ed7d31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ed7d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ed7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D9EA-BC7A-408D-AE4E-6C3D45196F09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8"/>
          <p:cNvGrpSpPr/>
          <p:nvPr/>
        </p:nvGrpSpPr>
        <p:grpSpPr>
          <a:xfrm>
            <a:off x="0" y="0"/>
            <a:ext cx="2382480" cy="676440"/>
            <a:chOff x="0" y="0"/>
            <a:chExt cx="2382480" cy="676440"/>
          </a:xfrm>
        </p:grpSpPr>
        <p:sp>
          <p:nvSpPr>
            <p:cNvPr id="50" name="Freeform 19"/>
            <p:cNvSpPr/>
            <p:nvPr/>
          </p:nvSpPr>
          <p:spPr>
            <a:xfrm>
              <a:off x="0" y="0"/>
              <a:ext cx="1958400" cy="676440"/>
            </a:xfrm>
            <a:prstGeom prst="pie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208800" y="297000"/>
              <a:ext cx="28764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665640" y="298440"/>
              <a:ext cx="294480" cy="21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1131480" y="298440"/>
              <a:ext cx="27900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4" name="Picture 23" descr="MOEA_logo3"/>
            <p:cNvPicPr/>
            <p:nvPr/>
          </p:nvPicPr>
          <p:blipFill>
            <a:blip r:embed="rId2"/>
            <a:stretch/>
          </p:blipFill>
          <p:spPr>
            <a:xfrm>
              <a:off x="1643040" y="216720"/>
              <a:ext cx="739440" cy="45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812000" y="44280"/>
            <a:ext cx="105408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95640" y="1268280"/>
            <a:ext cx="468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563cf4"/>
                </a:solidFill>
                <a:latin typeface="Verdana"/>
                <a:ea typeface="標楷體"/>
              </a:rPr>
              <a:t>加工出口區管理處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565360"/>
            <a:ext cx="640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563c1"/>
                </a:solidFill>
                <a:latin typeface="Verdana"/>
                <a:ea typeface="標楷體"/>
              </a:rPr>
              <a:t>主題式開放資料推動策略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4221000"/>
            <a:ext cx="617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報告人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陳科長怜夙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報告日期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 105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395280" y="1052640"/>
            <a:ext cx="4176360" cy="626760"/>
            <a:chOff x="395280" y="1052640"/>
            <a:chExt cx="4176360" cy="626760"/>
          </a:xfrm>
        </p:grpSpPr>
        <p:sp>
          <p:nvSpPr>
            <p:cNvPr id="171" name="AutoShape 5"/>
            <p:cNvSpPr/>
            <p:nvPr/>
          </p:nvSpPr>
          <p:spPr>
            <a:xfrm>
              <a:off x="395280" y="1052640"/>
              <a:ext cx="417636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>
              <a:off x="638280" y="1089000"/>
              <a:ext cx="36918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Rectangle 7"/>
          <p:cNvSpPr/>
          <p:nvPr/>
        </p:nvSpPr>
        <p:spPr>
          <a:xfrm>
            <a:off x="800280" y="1051920"/>
            <a:ext cx="34844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主動訪談外部單位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1916280"/>
          <a:ext cx="8351640" cy="3600360"/>
        </p:xfrm>
        <a:graphic>
          <a:graphicData uri="http://schemas.openxmlformats.org/drawingml/2006/table">
            <a:tbl>
              <a:tblPr/>
              <a:tblGrid>
                <a:gridCol w="2303280"/>
                <a:gridCol w="2737080"/>
                <a:gridCol w="33112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徵詢對象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主要需求資料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需求回應說明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ab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0000"/>
                          </a:solidFill>
                          <a:latin typeface="Verdana"/>
                          <a:ea typeface="標楷體"/>
                        </a:rPr>
                        <a:t>日月光半導體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楠梓園區再生水模型廠操作資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相關產水數據已採用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統計</a:t>
                      </a:r>
                      <a:r>
                        <a:rPr b="0" lang="zh-TW" sz="26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、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去識別化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列入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106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年有限度開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0000"/>
                          </a:solidFill>
                          <a:latin typeface="Verdana"/>
                          <a:ea typeface="標楷體"/>
                        </a:rPr>
                        <a:t>逢甲大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加工出口區園區廠商主要產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列入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106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年開放資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0000"/>
                          </a:solidFill>
                          <a:latin typeface="Verdana"/>
                          <a:ea typeface="標楷體"/>
                        </a:rPr>
                        <a:t>電信固網業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園區寬頻管道管理維運要點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列入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106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年開放資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268360" y="0"/>
            <a:ext cx="5472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Verdana"/>
                <a:ea typeface="標楷體"/>
              </a:rPr>
              <a:t>參、公私協力規劃</a:t>
            </a:r>
            <a:r>
              <a:rPr b="0" lang="zh-TW" sz="38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2/3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1"/>
          <p:cNvSpPr/>
          <p:nvPr/>
        </p:nvSpPr>
        <p:spPr>
          <a:xfrm>
            <a:off x="441360" y="4005360"/>
            <a:ext cx="411120" cy="2158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95280" y="48690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eaff"/>
                </a:solidFill>
                <a:latin typeface="Arial Black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892080" y="3990960"/>
            <a:ext cx="7880400" cy="222084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900000" y="4076640"/>
            <a:ext cx="1683000" cy="2089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826920" y="4869000"/>
            <a:ext cx="175608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跨業合作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4200" y="1579680"/>
            <a:ext cx="411120" cy="2077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16160" y="2349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eaff"/>
                </a:solidFill>
                <a:latin typeface="Arial Black"/>
                <a:ea typeface="바탕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971640" y="1628640"/>
            <a:ext cx="7880400" cy="208764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971640" y="1628640"/>
            <a:ext cx="1682640" cy="2087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971640" y="2205000"/>
            <a:ext cx="158436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民間需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2700360" y="1844640"/>
            <a:ext cx="5968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北極星測繪科技有限公司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中港園區土地出租圖資資訊」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開放）、「中軟園區土地出租圖資資訊」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開放）。</a:t>
            </a:r>
            <a:r>
              <a:rPr b="0" lang="zh-TW" sz="2200" spc="-1" strike="noStrike">
                <a:solidFill>
                  <a:srgbClr val="996633"/>
                </a:solidFill>
                <a:latin typeface="標楷體"/>
                <a:ea typeface="標楷體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2627280" y="4005360"/>
            <a:ext cx="6229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揚信科技公司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設立高軟園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鴻海子公司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主動洽詢使用本處開放資料意願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並獲表達有興趣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列後續推動重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正修科技大學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規劃促成該校學生使用本處資料混搭加值，並參加相關競賽活動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列後續推動重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Verdana"/>
                <a:ea typeface="標楷體"/>
              </a:rPr>
              <a:t>參、公私協力規劃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3/3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395280" y="981000"/>
            <a:ext cx="3097080" cy="626760"/>
            <a:chOff x="395280" y="981000"/>
            <a:chExt cx="3097080" cy="626760"/>
          </a:xfrm>
        </p:grpSpPr>
        <p:sp>
          <p:nvSpPr>
            <p:cNvPr id="190" name="AutoShape 5"/>
            <p:cNvSpPr/>
            <p:nvPr/>
          </p:nvSpPr>
          <p:spPr>
            <a:xfrm>
              <a:off x="395280" y="981000"/>
              <a:ext cx="309708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575280" y="1017360"/>
              <a:ext cx="273744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Rectangle 7"/>
          <p:cNvSpPr/>
          <p:nvPr/>
        </p:nvSpPr>
        <p:spPr>
          <a:xfrm>
            <a:off x="800280" y="1051920"/>
            <a:ext cx="26193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推廣運用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矩形 13"/>
          <p:cNvGrpSpPr/>
          <p:nvPr/>
        </p:nvGrpSpPr>
        <p:grpSpPr>
          <a:xfrm>
            <a:off x="539640" y="1413000"/>
            <a:ext cx="8135640" cy="5040000"/>
            <a:chOff x="539640" y="1413000"/>
            <a:chExt cx="8135640" cy="5040000"/>
          </a:xfrm>
        </p:grpSpPr>
        <p:pic>
          <p:nvPicPr>
            <p:cNvPr id="194" name="矩形 13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813564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22"/>
            <p:cNvSpPr/>
            <p:nvPr/>
          </p:nvSpPr>
          <p:spPr>
            <a:xfrm>
              <a:off x="566280" y="1438200"/>
              <a:ext cx="8084160" cy="49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（一）未來主題式開放資料標的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：</a:t>
              </a:r>
              <a:endParaRPr b="1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1.106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年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加工區永續服務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2.107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年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加工區建構優質生產環境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（二）未來品質精進方向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：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1.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持續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開放資料</a:t>
              </a:r>
              <a:r>
                <a:rPr b="1" lang="zh-TW" sz="3000" spc="-1" strike="noStrike">
                  <a:solidFill>
                    <a:srgbClr val="ff0000"/>
                  </a:solidFill>
                  <a:latin typeface="Verdana"/>
                  <a:ea typeface="標楷體"/>
                </a:rPr>
                <a:t>品質檢核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作業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2.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快速反應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民眾意見回饋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3.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配合外部需求</a:t>
              </a:r>
              <a:r>
                <a:rPr b="0" lang="zh-TW" sz="2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，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加速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盤點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本處資料釋出。</a:t>
              </a:r>
              <a:r>
                <a:rPr b="0" lang="zh-TW" sz="2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endParaRPr b="1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c0504d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340000" y="260280"/>
            <a:ext cx="6624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66ff"/>
                </a:solidFill>
                <a:latin typeface="標楷體"/>
                <a:ea typeface="標楷體"/>
              </a:rPr>
              <a:t>肆、未來開放資料標的及品質精進方向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76520" y="1288440"/>
            <a:ext cx="57150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1" lang="en-US" sz="6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敬 請 請 教</a:t>
            </a:r>
            <a:r>
              <a:rPr b="0" lang="zh-TW" sz="6600" spc="-1" strike="noStrike">
                <a:solidFill>
                  <a:srgbClr val="ffffff"/>
                </a:solidFill>
                <a:latin typeface="華康中黑體"/>
                <a:ea typeface="華康中黑體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52038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95640" y="1268280"/>
            <a:ext cx="468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4221000"/>
            <a:ext cx="617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9800" indent="-46980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2565360"/>
            <a:ext cx="64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文字方塊 3"/>
          <p:cNvSpPr/>
          <p:nvPr/>
        </p:nvSpPr>
        <p:spPr>
          <a:xfrm>
            <a:off x="684360" y="1413000"/>
            <a:ext cx="806436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壹、推動策略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貳、應用情境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參、公私協力規劃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肆、未來開放資料標的及品質精進方向</a:t>
            </a: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文字方塊 2"/>
          <p:cNvSpPr/>
          <p:nvPr/>
        </p:nvSpPr>
        <p:spPr>
          <a:xfrm>
            <a:off x="3348000" y="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大 綱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9"/>
          <p:cNvSpPr/>
          <p:nvPr/>
        </p:nvSpPr>
        <p:spPr>
          <a:xfrm>
            <a:off x="755640" y="1557360"/>
            <a:ext cx="7777080" cy="446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文字方塊 3"/>
          <p:cNvSpPr/>
          <p:nvPr/>
        </p:nvSpPr>
        <p:spPr>
          <a:xfrm>
            <a:off x="971640" y="2133720"/>
            <a:ext cx="7345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依據「</a:t>
            </a:r>
            <a:r>
              <a:rPr b="0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103-105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zh-TW" sz="3400" spc="-1" strike="noStrike">
                <a:solidFill>
                  <a:srgbClr val="ff0000"/>
                </a:solidFill>
                <a:latin typeface="標楷體"/>
                <a:ea typeface="標楷體"/>
              </a:rPr>
              <a:t>經濟部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及所屬機關（構）政府資料開放</a:t>
            </a:r>
            <a:r>
              <a:rPr b="0" lang="zh-TW" sz="3400" spc="-1" strike="noStrike">
                <a:solidFill>
                  <a:srgbClr val="f62c0a"/>
                </a:solidFill>
                <a:latin typeface="標楷體"/>
                <a:ea typeface="標楷體"/>
              </a:rPr>
              <a:t>推動計畫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」及「</a:t>
            </a:r>
            <a:r>
              <a:rPr b="0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106-109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zh-TW" sz="3400" spc="-1" strike="noStrike">
                <a:solidFill>
                  <a:srgbClr val="ff0000"/>
                </a:solidFill>
                <a:latin typeface="標楷體"/>
                <a:ea typeface="標楷體"/>
              </a:rPr>
              <a:t>經濟部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及所屬機關（構）政府資料開放</a:t>
            </a:r>
            <a:r>
              <a:rPr b="0" lang="zh-TW" sz="3400" spc="-1" strike="noStrike">
                <a:solidFill>
                  <a:srgbClr val="f62c0a"/>
                </a:solidFill>
                <a:latin typeface="標楷體"/>
                <a:ea typeface="標楷體"/>
              </a:rPr>
              <a:t>推動策略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」辦理</a:t>
            </a:r>
            <a:r>
              <a:rPr b="0" lang="zh-TW" sz="3400" spc="-1" strike="noStrike">
                <a:solidFill>
                  <a:srgbClr val="660033"/>
                </a:solidFill>
                <a:latin typeface="標楷體"/>
                <a:ea typeface="標楷體"/>
              </a:rPr>
              <a:t>。</a:t>
            </a:r>
            <a:r>
              <a:rPr b="0" lang="zh-TW" sz="3400" spc="-1" strike="noStrike">
                <a:solidFill>
                  <a:srgbClr val="800080"/>
                </a:solidFill>
                <a:latin typeface="標楷體"/>
                <a:ea typeface="標楷體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6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1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539640" y="1227240"/>
            <a:ext cx="2592360" cy="626760"/>
            <a:chOff x="539640" y="1227240"/>
            <a:chExt cx="2592360" cy="626760"/>
          </a:xfrm>
        </p:grpSpPr>
        <p:sp>
          <p:nvSpPr>
            <p:cNvPr id="111" name="AutoShape 5"/>
            <p:cNvSpPr/>
            <p:nvPr/>
          </p:nvSpPr>
          <p:spPr>
            <a:xfrm>
              <a:off x="539640" y="1227240"/>
              <a:ext cx="259236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690480" y="1263600"/>
              <a:ext cx="22914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Rectangle 7"/>
          <p:cNvSpPr/>
          <p:nvPr/>
        </p:nvSpPr>
        <p:spPr>
          <a:xfrm>
            <a:off x="826920" y="1195920"/>
            <a:ext cx="2449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訂定目標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字方塊 3"/>
          <p:cNvSpPr/>
          <p:nvPr/>
        </p:nvSpPr>
        <p:spPr>
          <a:xfrm>
            <a:off x="250920" y="1628640"/>
            <a:ext cx="835344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ff"/>
                </a:solidFill>
                <a:latin typeface="標楷體"/>
                <a:ea typeface="標楷體"/>
              </a:rPr>
              <a:t>（一）</a:t>
            </a:r>
            <a:r>
              <a:rPr b="1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每年</a:t>
            </a:r>
            <a:r>
              <a:rPr b="1" lang="en-US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11</a:t>
            </a:r>
            <a:r>
              <a:rPr b="1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月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召開研商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次年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提報資料，依提報原則盤點業管業務及蒐集資料，召開研商會議，研提次年度開放資料。</a:t>
            </a:r>
            <a:r>
              <a:rPr b="0" lang="zh-TW" sz="3000" spc="-1" strike="noStrike">
                <a:solidFill>
                  <a:srgbClr val="3333ff"/>
                </a:solidFill>
                <a:latin typeface="標楷體"/>
                <a:ea typeface="標楷體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160640" indent="-116064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會中邀請</a:t>
            </a:r>
            <a:r>
              <a:rPr b="1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外部委員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蒞處指導，與同仁直接對話，傳達正確觀念及推廣技巧，做為本處推動資料開放持續精進之重要參考。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160640" indent="-116064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  <a:ea typeface="標楷體"/>
              </a:rPr>
              <a:t>（正修科技大學林教授哲宏）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1" descr="465024"/>
          <p:cNvPicPr/>
          <p:nvPr/>
        </p:nvPicPr>
        <p:blipFill>
          <a:blip r:embed="rId1"/>
          <a:stretch/>
        </p:blipFill>
        <p:spPr>
          <a:xfrm>
            <a:off x="6659640" y="5445000"/>
            <a:ext cx="2195280" cy="11732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539640" y="1052640"/>
            <a:ext cx="2952720" cy="626760"/>
            <a:chOff x="539640" y="1052640"/>
            <a:chExt cx="2952720" cy="626760"/>
          </a:xfrm>
        </p:grpSpPr>
        <p:sp>
          <p:nvSpPr>
            <p:cNvPr id="117" name="AutoShape 5"/>
            <p:cNvSpPr/>
            <p:nvPr/>
          </p:nvSpPr>
          <p:spPr>
            <a:xfrm>
              <a:off x="539640" y="1052640"/>
              <a:ext cx="295272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AutoShape 6"/>
            <p:cNvSpPr/>
            <p:nvPr/>
          </p:nvSpPr>
          <p:spPr>
            <a:xfrm>
              <a:off x="711360" y="1089000"/>
              <a:ext cx="26100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Rectangle 7"/>
          <p:cNvSpPr/>
          <p:nvPr/>
        </p:nvSpPr>
        <p:spPr>
          <a:xfrm>
            <a:off x="900000" y="1051560"/>
            <a:ext cx="2880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開會研商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2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539640" y="1052640"/>
            <a:ext cx="2952720" cy="626760"/>
            <a:chOff x="539640" y="1052640"/>
            <a:chExt cx="2952720" cy="626760"/>
          </a:xfrm>
        </p:grpSpPr>
        <p:sp>
          <p:nvSpPr>
            <p:cNvPr id="122" name="AutoShape 5"/>
            <p:cNvSpPr/>
            <p:nvPr/>
          </p:nvSpPr>
          <p:spPr>
            <a:xfrm>
              <a:off x="539640" y="1052640"/>
              <a:ext cx="295272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AutoShape 6"/>
            <p:cNvSpPr/>
            <p:nvPr/>
          </p:nvSpPr>
          <p:spPr>
            <a:xfrm>
              <a:off x="711360" y="1089000"/>
              <a:ext cx="26100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900000" y="1051560"/>
            <a:ext cx="2880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量之提升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3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5640" y="1989000"/>
          <a:ext cx="7704000" cy="4135680"/>
        </p:xfrm>
        <a:graphic>
          <a:graphicData uri="http://schemas.openxmlformats.org/drawingml/2006/table">
            <a:tbl>
              <a:tblPr/>
              <a:tblGrid>
                <a:gridCol w="1928880"/>
                <a:gridCol w="2743200"/>
                <a:gridCol w="303192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度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經濟部分配年目標值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本處提報數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02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7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03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7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43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42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66"/>
          <p:cNvSpPr/>
          <p:nvPr/>
        </p:nvSpPr>
        <p:spPr>
          <a:xfrm>
            <a:off x="3564000" y="981000"/>
            <a:ext cx="45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優先提報各園區一致性之資料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利民眾充分瞭解業務全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"/>
          <p:cNvGrpSpPr/>
          <p:nvPr/>
        </p:nvGrpSpPr>
        <p:grpSpPr>
          <a:xfrm>
            <a:off x="468360" y="1068480"/>
            <a:ext cx="2957400" cy="626760"/>
            <a:chOff x="468360" y="1068480"/>
            <a:chExt cx="2957400" cy="626760"/>
          </a:xfrm>
        </p:grpSpPr>
        <p:sp>
          <p:nvSpPr>
            <p:cNvPr id="129" name="AutoShape 5"/>
            <p:cNvSpPr/>
            <p:nvPr/>
          </p:nvSpPr>
          <p:spPr>
            <a:xfrm>
              <a:off x="468360" y="1068480"/>
              <a:ext cx="295740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640440" y="1104840"/>
              <a:ext cx="261432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" name="Rectangle 7"/>
          <p:cNvSpPr/>
          <p:nvPr/>
        </p:nvSpPr>
        <p:spPr>
          <a:xfrm>
            <a:off x="885960" y="1095840"/>
            <a:ext cx="26654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Verdana"/>
                <a:ea typeface="標楷體"/>
              </a:rPr>
              <a:t>質之精進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48"/>
          <p:cNvSpPr/>
          <p:nvPr/>
        </p:nvSpPr>
        <p:spPr>
          <a:xfrm>
            <a:off x="324000" y="1844640"/>
            <a:ext cx="6840360" cy="4606920"/>
          </a:xfrm>
          <a:prstGeom prst="flowChartAlternateProcess">
            <a:avLst/>
          </a:prstGeom>
          <a:solidFill>
            <a:srgbClr val="f3faff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文字方塊 3"/>
          <p:cNvSpPr/>
          <p:nvPr/>
        </p:nvSpPr>
        <p:spPr>
          <a:xfrm>
            <a:off x="422280" y="1801800"/>
            <a:ext cx="67420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一</a:t>
            </a:r>
            <a:r>
              <a:rPr b="0" lang="en-US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.</a:t>
            </a:r>
            <a:r>
              <a:rPr b="1" lang="en-US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105</a:t>
            </a:r>
            <a:r>
              <a:rPr b="1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年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強化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質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的「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推廣運用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」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結合民間需求及跨業合作等共開放</a:t>
            </a:r>
            <a:r>
              <a:rPr b="0" lang="en-US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20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則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開放資料集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品質檢核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作業：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每季定期進行檢核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截至目前本處登載之開放資料均符合經濟部抽檢項目及範圍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4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3" descr="k6005537"/>
          <p:cNvPicPr/>
          <p:nvPr/>
        </p:nvPicPr>
        <p:blipFill>
          <a:blip r:embed="rId1"/>
          <a:stretch/>
        </p:blipFill>
        <p:spPr>
          <a:xfrm>
            <a:off x="7280280" y="2852640"/>
            <a:ext cx="1863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539640" y="1052640"/>
            <a:ext cx="5687640" cy="626760"/>
            <a:chOff x="539640" y="1052640"/>
            <a:chExt cx="5687640" cy="626760"/>
          </a:xfrm>
        </p:grpSpPr>
        <p:sp>
          <p:nvSpPr>
            <p:cNvPr id="137" name="AutoShape 5"/>
            <p:cNvSpPr/>
            <p:nvPr/>
          </p:nvSpPr>
          <p:spPr>
            <a:xfrm>
              <a:off x="539640" y="1052640"/>
              <a:ext cx="568764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870480" y="1089000"/>
              <a:ext cx="502776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Rectangle 7"/>
          <p:cNvSpPr/>
          <p:nvPr/>
        </p:nvSpPr>
        <p:spPr>
          <a:xfrm>
            <a:off x="900000" y="1051560"/>
            <a:ext cx="5184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主題式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找頭路來加工區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Verdana"/>
                <a:ea typeface="標楷體"/>
              </a:rPr>
              <a:t>貳、應用情境</a:t>
            </a:r>
            <a:r>
              <a:rPr b="0" lang="zh-TW" sz="3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1/2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文字方塊 3"/>
          <p:cNvSpPr/>
          <p:nvPr/>
        </p:nvSpPr>
        <p:spPr>
          <a:xfrm>
            <a:off x="422280" y="1801800"/>
            <a:ext cx="639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59"/>
          <p:cNvSpPr/>
          <p:nvPr/>
        </p:nvSpPr>
        <p:spPr>
          <a:xfrm>
            <a:off x="611280" y="1844640"/>
            <a:ext cx="7777080" cy="187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784080" y="1973160"/>
            <a:ext cx="745992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本處早期推動勞力密集之輕工業政策，以創造大量的</a:t>
            </a:r>
            <a:r>
              <a:rPr b="1" lang="zh-TW" sz="3000" spc="-1" strike="noStrike">
                <a:solidFill>
                  <a:srgbClr val="ff0066"/>
                </a:solidFill>
                <a:latin typeface="標楷體"/>
                <a:ea typeface="標楷體"/>
              </a:rPr>
              <a:t>就業機會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，並逐步轉型資本與技術密集的重化工業發展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3789360"/>
          <a:ext cx="7775280" cy="2444760"/>
        </p:xfrm>
        <a:graphic>
          <a:graphicData uri="http://schemas.openxmlformats.org/drawingml/2006/table">
            <a:tbl>
              <a:tblPr/>
              <a:tblGrid>
                <a:gridCol w="4714560"/>
                <a:gridCol w="3060720"/>
              </a:tblGrid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已開放資料集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（民間感興趣者）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累計至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1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月底瀏覽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就業資訊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3,523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受雇員工工資及人數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,631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"/>
          <p:cNvGrpSpPr/>
          <p:nvPr/>
        </p:nvGrpSpPr>
        <p:grpSpPr>
          <a:xfrm>
            <a:off x="539640" y="907920"/>
            <a:ext cx="6048000" cy="626760"/>
            <a:chOff x="539640" y="907920"/>
            <a:chExt cx="6048000" cy="626760"/>
          </a:xfrm>
        </p:grpSpPr>
        <p:sp>
          <p:nvSpPr>
            <p:cNvPr id="146" name="AutoShape 5"/>
            <p:cNvSpPr/>
            <p:nvPr/>
          </p:nvSpPr>
          <p:spPr>
            <a:xfrm>
              <a:off x="539640" y="907920"/>
              <a:ext cx="604800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891360" y="944280"/>
              <a:ext cx="534636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" name="Rectangle 7"/>
          <p:cNvSpPr/>
          <p:nvPr/>
        </p:nvSpPr>
        <p:spPr>
          <a:xfrm>
            <a:off x="900000" y="907200"/>
            <a:ext cx="5688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主題式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加工區投資好所在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Verdana"/>
                <a:ea typeface="標楷體"/>
              </a:rPr>
              <a:t>貳、應用情境</a:t>
            </a:r>
            <a:r>
              <a:rPr b="0" lang="zh-TW" sz="3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1/2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文字方塊 3"/>
          <p:cNvSpPr/>
          <p:nvPr/>
        </p:nvSpPr>
        <p:spPr>
          <a:xfrm>
            <a:off x="422280" y="1801800"/>
            <a:ext cx="639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59"/>
          <p:cNvSpPr/>
          <p:nvPr/>
        </p:nvSpPr>
        <p:spPr>
          <a:xfrm>
            <a:off x="684360" y="1557360"/>
            <a:ext cx="7777080" cy="180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1628640"/>
            <a:ext cx="7416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本處正朝創新服務及空間布局等面向精進，透過與全球供應鏈的緊密連結，引入源源不絕的發展活力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3500280"/>
          <a:ext cx="7775280" cy="2730600"/>
        </p:xfrm>
        <a:graphic>
          <a:graphicData uri="http://schemas.openxmlformats.org/drawingml/2006/table">
            <a:tbl>
              <a:tblPr/>
              <a:tblGrid>
                <a:gridCol w="4968720"/>
                <a:gridCol w="28065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已開放資料集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（民間感興趣者）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累計至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1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月底瀏覽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土地及標準廠房資訊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,628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進出口貿易值及資金來源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,315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字方塊 3"/>
          <p:cNvSpPr/>
          <p:nvPr/>
        </p:nvSpPr>
        <p:spPr>
          <a:xfrm>
            <a:off x="250920" y="868320"/>
            <a:ext cx="86072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39640" y="1341360"/>
            <a:ext cx="5111640" cy="626760"/>
            <a:chOff x="539640" y="1341360"/>
            <a:chExt cx="5111640" cy="626760"/>
          </a:xfrm>
        </p:grpSpPr>
        <p:sp>
          <p:nvSpPr>
            <p:cNvPr id="156" name="AutoShape 5"/>
            <p:cNvSpPr/>
            <p:nvPr/>
          </p:nvSpPr>
          <p:spPr>
            <a:xfrm>
              <a:off x="539640" y="1341360"/>
              <a:ext cx="511164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AutoShape 6"/>
            <p:cNvSpPr/>
            <p:nvPr/>
          </p:nvSpPr>
          <p:spPr>
            <a:xfrm>
              <a:off x="837000" y="1377720"/>
              <a:ext cx="451872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900000" y="1340640"/>
            <a:ext cx="4248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引進群體智慧與創意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27280" y="2637000"/>
            <a:ext cx="2852640" cy="2233440"/>
            <a:chOff x="2627280" y="2637000"/>
            <a:chExt cx="2852640" cy="2233440"/>
          </a:xfrm>
        </p:grpSpPr>
        <p:pic>
          <p:nvPicPr>
            <p:cNvPr id="160" name="Rectangle 7" descr=""/>
            <p:cNvPicPr/>
            <p:nvPr/>
          </p:nvPicPr>
          <p:blipFill>
            <a:blip r:embed="rId1"/>
            <a:stretch/>
          </p:blipFill>
          <p:spPr>
            <a:xfrm>
              <a:off x="2627280" y="2637000"/>
              <a:ext cx="28526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627280" y="2708280"/>
              <a:ext cx="2819520" cy="20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5760" indent="-18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徵詢</a:t>
              </a:r>
              <a:r>
                <a:rPr b="1" lang="zh-TW" sz="2800" spc="-1" strike="noStrike">
                  <a:solidFill>
                    <a:srgbClr val="ff0000"/>
                  </a:solidFill>
                  <a:latin typeface="Verdana"/>
                  <a:ea typeface="標楷體"/>
                </a:rPr>
                <a:t>目標族群</a:t>
              </a:r>
              <a:r>
                <a:rPr b="1" lang="zh-TW" sz="2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，如園區廠商及學研單位等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2" name="Rectangle 12"/>
          <p:cNvGrpSpPr/>
          <p:nvPr/>
        </p:nvGrpSpPr>
        <p:grpSpPr>
          <a:xfrm>
            <a:off x="324000" y="3284640"/>
            <a:ext cx="2170080" cy="1873080"/>
            <a:chOff x="324000" y="3284640"/>
            <a:chExt cx="2170080" cy="1873080"/>
          </a:xfrm>
        </p:grpSpPr>
        <p:pic>
          <p:nvPicPr>
            <p:cNvPr id="163" name="Rectangle 12" descr=""/>
            <p:cNvPicPr/>
            <p:nvPr/>
          </p:nvPicPr>
          <p:blipFill>
            <a:blip r:embed="rId2"/>
            <a:stretch/>
          </p:blipFill>
          <p:spPr>
            <a:xfrm>
              <a:off x="324000" y="3284640"/>
              <a:ext cx="21700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32640" y="3295800"/>
              <a:ext cx="215208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5760" indent="-185760">
                <a:lnSpc>
                  <a:spcPct val="100000"/>
                </a:lnSpc>
                <a:buClr>
                  <a:srgbClr val="0000c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25480" y="3573360"/>
            <a:ext cx="1247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自行</a:t>
            </a:r>
            <a:r>
              <a:rPr b="1" lang="zh-TW" sz="2800" spc="-1" strike="noStrike">
                <a:solidFill>
                  <a:srgbClr val="f62c0a"/>
                </a:solidFill>
                <a:latin typeface="Verdana"/>
                <a:ea typeface="標楷體"/>
              </a:rPr>
              <a:t>盤點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供開放業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Rectangle 7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3097080" cy="221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51640" y="1773360"/>
            <a:ext cx="3085920" cy="2519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db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  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新增業務或資訊</a:t>
            </a:r>
            <a:br>
              <a:rPr sz="2800"/>
            </a:b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應用系統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，預為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規劃可開放資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Verdana"/>
                <a:ea typeface="標楷體"/>
              </a:rPr>
              <a:t>參、公私協力規劃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1/3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95280" y="5515560"/>
            <a:ext cx="8280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外部委員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北極星測繪公司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正修科技大學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6:45:26Z</dcterms:created>
  <dc:creator>PC01</dc:creator>
  <dc:description/>
  <dc:language>en-US</dc:language>
  <cp:lastModifiedBy>meifun</cp:lastModifiedBy>
  <dcterms:modified xsi:type="dcterms:W3CDTF">2016-12-13T05:44:47Z</dcterms:modified>
  <cp:revision>1099</cp:revision>
  <dc:subject/>
  <dc:title>『創新加值服務平臺』實施計畫 </dc:title>
</cp:coreProperties>
</file>